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18880" y="692280"/>
            <a:ext cx="4621320" cy="34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6789-AE26-4C95-BB24-89D869D15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inge auch einfacher, wenn man nicht die Benutzung eines Hardware-Bausteins beschreiben woll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. Beschreibung der Implementierung von sc_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8536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1388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8536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1388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91440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536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1388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536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1388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91440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160" indent="-270000"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48720" y="6507000"/>
            <a:ext cx="112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</a:t>
            </a:r>
            <a:fld id="{1751FAA5-C876-4E11-AE91-6322A0C2245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95280" y="6437160"/>
            <a:ext cx="2043360" cy="459000"/>
            <a:chOff x="395280" y="6437160"/>
            <a:chExt cx="2043360" cy="459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rcRect l="0" t="0" r="75556" b="0"/>
            <a:stretch/>
          </p:blipFill>
          <p:spPr>
            <a:xfrm>
              <a:off x="395280" y="6491160"/>
              <a:ext cx="4856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787320" y="6437160"/>
              <a:ext cx="1651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sche universitä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rtmu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50920" y="6453360"/>
            <a:ext cx="864216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6480"/>
            <a:ext cx="914400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70200" y="6437160"/>
            <a:ext cx="1819440" cy="459000"/>
            <a:chOff x="2770200" y="6437160"/>
            <a:chExt cx="1819440" cy="459000"/>
          </a:xfrm>
        </p:grpSpPr>
        <p:pic>
          <p:nvPicPr>
            <p:cNvPr id="10" name="" descr=""/>
            <p:cNvPicPr/>
            <p:nvPr/>
          </p:nvPicPr>
          <p:blipFill>
            <a:blip r:embed="rId3"/>
            <a:srcRect l="0" t="461" r="71888" b="44721"/>
            <a:stretch/>
          </p:blipFill>
          <p:spPr>
            <a:xfrm>
              <a:off x="2770200" y="6524640"/>
              <a:ext cx="40500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3129120" y="6437160"/>
              <a:ext cx="146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kultät für informati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4572000" y="6437160"/>
            <a:ext cx="27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Marwedel,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ormatik 12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11840" y="378000"/>
            <a:ext cx="388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akultät für Informat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formatik 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3280" y="330120"/>
            <a:ext cx="3184560" cy="590400"/>
            <a:chOff x="503280" y="330120"/>
            <a:chExt cx="3184560" cy="5904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rcRect l="0" t="0" r="75556" b="0"/>
            <a:stretch/>
          </p:blipFill>
          <p:spPr>
            <a:xfrm>
              <a:off x="503280" y="330120"/>
              <a:ext cx="79056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82600" y="395280"/>
              <a:ext cx="25052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echnische universität dortm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ctr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90520" algn="ctr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98440" algn="ctr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301680" algn="ctr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30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30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ules +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. Marwede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k 12, U. Dortm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562720"/>
            <a:ext cx="8169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Partially using slides prepared by Tatjana Stankovic from the University of Nis (Serbia and  Montenegro), visiting the University of Dortmund under the TEMPUS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slides contain Microsoft cliparts. All usage restrictions app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5627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1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s are simple processes created wit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by using the macro within the constru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e_pro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e_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ead_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ead_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23924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created u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tarted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 until they c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may be called indirectly via blocking read or write c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ly comprise infinite loops inclu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is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local variab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correspond to processes in an operating system using "cooperative multitasking“ or corout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THREAD::wait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3152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, |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;  // any event causes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,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; // all events req. for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   // even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                          // use static sensivit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_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may be called immediately after a wait to check i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terminated by time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153280" y="5562720"/>
            <a:ext cx="8384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36604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create a process within a constructor. Such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ways runs to comple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c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block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more efficient than processes creat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s the values of all variables upon ex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96080" y="2743200"/>
            <a:ext cx="106704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_trigger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66040" cy="43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_trigger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can be used to specify the sensiv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The last call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ceding an exit from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specifies the condition for re-e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, |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;  // any event causes re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,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; // all events req. for re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   // even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                           // back to static sens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sens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ic sens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lternative to u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(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. Static sensivity is established at compil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sensivity applies to the most recent process reg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yntactical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447480">
              <a:spcAft>
                <a:spcPts val="9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eaming sty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&lt;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] 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447480">
              <a:spcAft>
                <a:spcPts val="9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Functional style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't_initial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660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, all processes are started initi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avoided by call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_initial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must follow process reg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ic sensivity list should be us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_initializ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therwise the process would never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657600"/>
            <a:ext cx="510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tendant_metho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llup_reques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_initial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105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,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&amp;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19400" cy="1646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8600" y="36576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544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ign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1447560" cy="4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04920" y="1752480"/>
            <a:ext cx="3297240" cy="4646880"/>
            <a:chOff x="304920" y="1752480"/>
            <a:chExt cx="3297240" cy="4646880"/>
          </a:xfrm>
        </p:grpSpPr>
        <p:sp>
          <p:nvSpPr>
            <p:cNvPr id="156" name=""/>
            <p:cNvSpPr/>
            <p:nvPr/>
          </p:nvSpPr>
          <p:spPr>
            <a:xfrm>
              <a:off x="304920" y="1752480"/>
              <a:ext cx="3297240" cy="4646880"/>
            </a:xfrm>
            <a:custGeom>
              <a:avLst/>
              <a:gdLst>
                <a:gd name="textAreaLeft" fmla="*/ 360 w 3297240"/>
                <a:gd name="textAreaRight" fmla="*/ 3296880 w 3297240"/>
                <a:gd name="textAreaTop" fmla="*/ 360 h 4646880"/>
                <a:gd name="textAreaBottom" fmla="*/ 4646520 h 4646880"/>
              </a:gdLst>
              <a:ahLst/>
              <a:rect l="textAreaLeft" t="textAreaTop" r="textAreaRight" b="textAreaBottom"/>
              <a:pathLst>
                <a:path w="21600" h="30440">
                  <a:moveTo>
                    <a:pt x="10" y="0"/>
                  </a:moveTo>
                  <a:arcTo wR="10" hR="10" stAng="16200000" swAng="-5400000"/>
                  <a:lnTo>
                    <a:pt x="0" y="30430"/>
                  </a:lnTo>
                  <a:arcTo wR="10" hR="10" stAng="10800000" swAng="-5400000"/>
                  <a:lnTo>
                    <a:pt x="21590" y="30440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1752480"/>
              <a:ext cx="32972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c_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62120" y="2133720"/>
            <a:ext cx="2741400" cy="4189320"/>
            <a:chOff x="762120" y="2133720"/>
            <a:chExt cx="2741400" cy="4189320"/>
          </a:xfrm>
        </p:grpSpPr>
        <p:sp>
          <p:nvSpPr>
            <p:cNvPr id="159" name=""/>
            <p:cNvSpPr/>
            <p:nvPr/>
          </p:nvSpPr>
          <p:spPr>
            <a:xfrm>
              <a:off x="762120" y="2133720"/>
              <a:ext cx="2741400" cy="4189320"/>
            </a:xfrm>
            <a:custGeom>
              <a:avLst/>
              <a:gdLst>
                <a:gd name="textAreaLeft" fmla="*/ 360 w 2741400"/>
                <a:gd name="textAreaRight" fmla="*/ 2741040 w 2741400"/>
                <a:gd name="textAreaTop" fmla="*/ 360 h 4189320"/>
                <a:gd name="textAreaBottom" fmla="*/ 4188960 h 4189320"/>
              </a:gdLst>
              <a:ahLst/>
              <a:rect l="textAreaLeft" t="textAreaTop" r="textAreaRight" b="textAreaBottom"/>
              <a:pathLst>
                <a:path w="21600" h="33007">
                  <a:moveTo>
                    <a:pt x="12" y="0"/>
                  </a:moveTo>
                  <a:arcTo wR="12" hR="12" stAng="16200000" swAng="-5400000"/>
                  <a:lnTo>
                    <a:pt x="0" y="32995"/>
                  </a:lnTo>
                  <a:arcTo wR="12" hR="12" stAng="10800000" swAng="-5400000"/>
                  <a:lnTo>
                    <a:pt x="21588" y="33007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20" y="2133720"/>
              <a:ext cx="274140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_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371600" y="2590920"/>
            <a:ext cx="2055960" cy="2208240"/>
            <a:chOff x="1371600" y="2590920"/>
            <a:chExt cx="2055960" cy="2208240"/>
          </a:xfrm>
        </p:grpSpPr>
        <p:sp>
          <p:nvSpPr>
            <p:cNvPr id="162" name=""/>
            <p:cNvSpPr/>
            <p:nvPr/>
          </p:nvSpPr>
          <p:spPr>
            <a:xfrm>
              <a:off x="1371600" y="2590920"/>
              <a:ext cx="2055960" cy="2208240"/>
            </a:xfrm>
            <a:custGeom>
              <a:avLst/>
              <a:gdLst>
                <a:gd name="textAreaLeft" fmla="*/ 360 w 2055960"/>
                <a:gd name="textAreaRight" fmla="*/ 2055600 w 2055960"/>
                <a:gd name="textAreaTop" fmla="*/ 360 h 2208240"/>
                <a:gd name="textAreaBottom" fmla="*/ 2207880 h 2208240"/>
              </a:gdLst>
              <a:ahLst/>
              <a:rect l="textAreaLeft" t="textAreaTop" r="textAreaRight" b="textAreaBottom"/>
              <a:pathLst>
                <a:path w="21600" h="23200">
                  <a:moveTo>
                    <a:pt x="16" y="0"/>
                  </a:moveTo>
                  <a:arcTo wR="16" hR="16" stAng="16200000" swAng="-5400000"/>
                  <a:lnTo>
                    <a:pt x="0" y="23184"/>
                  </a:lnTo>
                  <a:arcTo wR="16" hR="16" stAng="10800000" swAng="-5400000"/>
                  <a:lnTo>
                    <a:pt x="21584" y="23200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2590920"/>
              <a:ext cx="20559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ng_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71600" y="4876920"/>
            <a:ext cx="2055960" cy="1369800"/>
            <a:chOff x="1371600" y="4876920"/>
            <a:chExt cx="2055960" cy="1369800"/>
          </a:xfrm>
        </p:grpSpPr>
        <p:sp>
          <p:nvSpPr>
            <p:cNvPr id="165" name=""/>
            <p:cNvSpPr/>
            <p:nvPr/>
          </p:nvSpPr>
          <p:spPr>
            <a:xfrm>
              <a:off x="1371600" y="4876920"/>
              <a:ext cx="2055960" cy="1369800"/>
            </a:xfrm>
            <a:prstGeom prst="roundRect">
              <a:avLst>
                <a:gd name="adj" fmla="val 1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4876920"/>
              <a:ext cx="20559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ody_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05120" y="2971800"/>
            <a:ext cx="1446120" cy="379080"/>
            <a:chOff x="1905120" y="2971800"/>
            <a:chExt cx="1446120" cy="379080"/>
          </a:xfrm>
        </p:grpSpPr>
        <p:sp>
          <p:nvSpPr>
            <p:cNvPr id="168" name=""/>
            <p:cNvSpPr/>
            <p:nvPr/>
          </p:nvSpPr>
          <p:spPr>
            <a:xfrm>
              <a:off x="1905120" y="2971800"/>
              <a:ext cx="1446120" cy="379080"/>
            </a:xfrm>
            <a:prstGeom prst="roundRect">
              <a:avLst>
                <a:gd name="adj" fmla="val 41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05120" y="2971800"/>
              <a:ext cx="14461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uelmix_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905120" y="3429000"/>
            <a:ext cx="1446120" cy="379080"/>
            <a:chOff x="1905120" y="3429000"/>
            <a:chExt cx="1446120" cy="379080"/>
          </a:xfrm>
        </p:grpSpPr>
        <p:sp>
          <p:nvSpPr>
            <p:cNvPr id="171" name=""/>
            <p:cNvSpPr/>
            <p:nvPr/>
          </p:nvSpPr>
          <p:spPr>
            <a:xfrm>
              <a:off x="1905120" y="3429000"/>
              <a:ext cx="1446120" cy="379080"/>
            </a:xfrm>
            <a:prstGeom prst="roundRect">
              <a:avLst>
                <a:gd name="adj" fmla="val 41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5120" y="3429000"/>
              <a:ext cx="14461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xhaust_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05120" y="3886200"/>
            <a:ext cx="1446120" cy="379080"/>
            <a:chOff x="1905120" y="3886200"/>
            <a:chExt cx="1446120" cy="379080"/>
          </a:xfrm>
        </p:grpSpPr>
        <p:sp>
          <p:nvSpPr>
            <p:cNvPr id="174" name=""/>
            <p:cNvSpPr/>
            <p:nvPr/>
          </p:nvSpPr>
          <p:spPr>
            <a:xfrm>
              <a:off x="1905120" y="3886200"/>
              <a:ext cx="1446120" cy="379080"/>
            </a:xfrm>
            <a:prstGeom prst="roundRect">
              <a:avLst>
                <a:gd name="adj" fmla="val 41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5120" y="3886200"/>
              <a:ext cx="14461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yl_i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81080" y="5791320"/>
            <a:ext cx="1370160" cy="379080"/>
            <a:chOff x="1981080" y="5791320"/>
            <a:chExt cx="1370160" cy="379080"/>
          </a:xfrm>
        </p:grpSpPr>
        <p:sp>
          <p:nvSpPr>
            <p:cNvPr id="177" name=""/>
            <p:cNvSpPr/>
            <p:nvPr/>
          </p:nvSpPr>
          <p:spPr>
            <a:xfrm>
              <a:off x="1981080" y="5791320"/>
              <a:ext cx="1370160" cy="379080"/>
            </a:xfrm>
            <a:prstGeom prst="roundRect">
              <a:avLst>
                <a:gd name="adj" fmla="val 41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81080" y="5791320"/>
              <a:ext cx="13701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eel_F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981080" y="5257800"/>
            <a:ext cx="1370160" cy="379080"/>
            <a:chOff x="1981080" y="5257800"/>
            <a:chExt cx="1370160" cy="379080"/>
          </a:xfrm>
        </p:grpSpPr>
        <p:sp>
          <p:nvSpPr>
            <p:cNvPr id="180" name=""/>
            <p:cNvSpPr/>
            <p:nvPr/>
          </p:nvSpPr>
          <p:spPr>
            <a:xfrm>
              <a:off x="1981080" y="5257800"/>
              <a:ext cx="1370160" cy="379080"/>
            </a:xfrm>
            <a:prstGeom prst="roundRect">
              <a:avLst>
                <a:gd name="adj" fmla="val 41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81080" y="5257800"/>
              <a:ext cx="13701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eel_F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905120" y="4343400"/>
            <a:ext cx="1446120" cy="379080"/>
            <a:chOff x="1905120" y="4343400"/>
            <a:chExt cx="1446120" cy="379080"/>
          </a:xfrm>
        </p:grpSpPr>
        <p:sp>
          <p:nvSpPr>
            <p:cNvPr id="183" name=""/>
            <p:cNvSpPr/>
            <p:nvPr/>
          </p:nvSpPr>
          <p:spPr>
            <a:xfrm>
              <a:off x="1905120" y="4343400"/>
              <a:ext cx="1446120" cy="379080"/>
            </a:xfrm>
            <a:prstGeom prst="roundRect">
              <a:avLst>
                <a:gd name="adj" fmla="val 41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5120" y="4343400"/>
              <a:ext cx="14461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yl_i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28800" y="5334120"/>
            <a:ext cx="111240" cy="685440"/>
            <a:chOff x="1828800" y="5334120"/>
            <a:chExt cx="111240" cy="685440"/>
          </a:xfrm>
        </p:grpSpPr>
        <p:sp>
          <p:nvSpPr>
            <p:cNvPr id="186" name=""/>
            <p:cNvSpPr/>
            <p:nvPr/>
          </p:nvSpPr>
          <p:spPr>
            <a:xfrm>
              <a:off x="1828800" y="5486040"/>
              <a:ext cx="111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28800" y="6018480"/>
              <a:ext cx="111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8800" y="5334120"/>
              <a:ext cx="10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752480" y="3048120"/>
            <a:ext cx="111240" cy="1523520"/>
            <a:chOff x="1752480" y="3048120"/>
            <a:chExt cx="111240" cy="1523520"/>
          </a:xfrm>
        </p:grpSpPr>
        <p:sp>
          <p:nvSpPr>
            <p:cNvPr id="190" name=""/>
            <p:cNvSpPr/>
            <p:nvPr/>
          </p:nvSpPr>
          <p:spPr>
            <a:xfrm>
              <a:off x="1752480" y="3200040"/>
              <a:ext cx="111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52480" y="4113720"/>
              <a:ext cx="111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2480" y="3656880"/>
              <a:ext cx="111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2480" y="4570560"/>
              <a:ext cx="111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480" y="3048120"/>
              <a:ext cx="1440" cy="15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219320" y="2590920"/>
            <a:ext cx="110880" cy="228240"/>
            <a:chOff x="1219320" y="2590920"/>
            <a:chExt cx="110880" cy="228240"/>
          </a:xfrm>
        </p:grpSpPr>
        <p:sp>
          <p:nvSpPr>
            <p:cNvPr id="196" name=""/>
            <p:cNvSpPr/>
            <p:nvPr/>
          </p:nvSpPr>
          <p:spPr>
            <a:xfrm>
              <a:off x="1219320" y="2818080"/>
              <a:ext cx="110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9320" y="2590920"/>
              <a:ext cx="108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33520" y="2133720"/>
            <a:ext cx="147600" cy="151920"/>
            <a:chOff x="533520" y="2133720"/>
            <a:chExt cx="147600" cy="151920"/>
          </a:xfrm>
        </p:grpSpPr>
        <p:sp>
          <p:nvSpPr>
            <p:cNvPr id="199" name=""/>
            <p:cNvSpPr/>
            <p:nvPr/>
          </p:nvSpPr>
          <p:spPr>
            <a:xfrm>
              <a:off x="533520" y="2284560"/>
              <a:ext cx="147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520" y="2133720"/>
              <a:ext cx="10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219320" y="50292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2819520"/>
            <a:ext cx="144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1752480"/>
            <a:ext cx="510552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module instantiation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6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he header or the implementation fi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6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rect instantiation in declaration or dynamic creation with point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6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t top level of the hierarchy or at some other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ations there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1149480" cy="874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86000" y="1143000"/>
            <a:ext cx="1368360" cy="6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rect Top-Level Instant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5792760" cy="297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file: main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"Wheel.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m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gc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 argv[]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 wheel_FL("wheel_F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 wheel_FR("wheel_FR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st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876920" y="4876920"/>
            <a:ext cx="3396960" cy="466560"/>
            <a:chOff x="4876920" y="4876920"/>
            <a:chExt cx="3396960" cy="466560"/>
          </a:xfrm>
        </p:grpSpPr>
        <p:sp>
          <p:nvSpPr>
            <p:cNvPr id="209" name=""/>
            <p:cNvSpPr/>
            <p:nvPr/>
          </p:nvSpPr>
          <p:spPr>
            <a:xfrm>
              <a:off x="4876920" y="4876920"/>
              <a:ext cx="3396960" cy="466560"/>
            </a:xfrm>
            <a:prstGeom prst="roundRect">
              <a:avLst>
                <a:gd name="adj" fmla="val 338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79080" y="4876920"/>
              <a:ext cx="3383280" cy="434520"/>
            </a:xfrm>
            <a:prstGeom prst="roundRect">
              <a:avLst>
                <a:gd name="adj" fmla="val 33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imple and to the poin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105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,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&amp;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19400" cy="164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29718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rect Top-Level Instant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315200" cy="443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file: main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"Wheel.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m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gc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 argv[]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* wheel_FL; // pointer to FL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* wheel_FR; // pointer to FR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_FL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eel("wheel_FL"); //create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_FR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eel("wheel_FR"); //create 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st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eel_F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eel_F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191120" y="5181480"/>
            <a:ext cx="4724280" cy="1197000"/>
            <a:chOff x="4191120" y="5181480"/>
            <a:chExt cx="4724280" cy="1197000"/>
          </a:xfrm>
        </p:grpSpPr>
        <p:sp>
          <p:nvSpPr>
            <p:cNvPr id="214" name=""/>
            <p:cNvSpPr/>
            <p:nvPr/>
          </p:nvSpPr>
          <p:spPr>
            <a:xfrm>
              <a:off x="4191120" y="5181480"/>
              <a:ext cx="4724280" cy="1197000"/>
            </a:xfrm>
            <a:prstGeom prst="roundRect">
              <a:avLst>
                <a:gd name="adj" fmla="val 130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91120" y="5181480"/>
              <a:ext cx="472428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ore code, but more flexible: looping, arrays, if then etc. possi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rect Sub-Module Header-Only Instant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47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file: Body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"Wheel.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ody) 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 wheel_F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 wheel_F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ody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: wheel_FL("wheel_FL")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//initializ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wheel_FR("wheel_FR")  //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 other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952880" y="5257800"/>
            <a:ext cx="3808440" cy="830160"/>
            <a:chOff x="4952880" y="5257800"/>
            <a:chExt cx="3808440" cy="830160"/>
          </a:xfrm>
        </p:grpSpPr>
        <p:sp>
          <p:nvSpPr>
            <p:cNvPr id="219" name=""/>
            <p:cNvSpPr/>
            <p:nvPr/>
          </p:nvSpPr>
          <p:spPr>
            <a:xfrm>
              <a:off x="4952880" y="5257800"/>
              <a:ext cx="3808440" cy="830160"/>
            </a:xfrm>
            <a:prstGeom prst="roundRect">
              <a:avLst>
                <a:gd name="adj" fmla="val 190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2880" y="5257800"/>
              <a:ext cx="380844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nitializer list to be used due to C++ 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rect Sub-Module Header-Only Instant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443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file: Body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"Wheel.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ody) 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* wheel_F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* wheel_F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ody) {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wheel_FL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eel("wheel_FL");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wheel_FR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eel("wheel_FR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 other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81480" y="5257800"/>
            <a:ext cx="2818080" cy="830160"/>
            <a:chOff x="5181480" y="5257800"/>
            <a:chExt cx="2818080" cy="830160"/>
          </a:xfrm>
        </p:grpSpPr>
        <p:sp>
          <p:nvSpPr>
            <p:cNvPr id="224" name=""/>
            <p:cNvSpPr/>
            <p:nvPr/>
          </p:nvSpPr>
          <p:spPr>
            <a:xfrm>
              <a:off x="5181480" y="5257800"/>
              <a:ext cx="2818080" cy="830160"/>
            </a:xfrm>
            <a:prstGeom prst="roundRect">
              <a:avLst>
                <a:gd name="adj" fmla="val 190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1480" y="5257800"/>
              <a:ext cx="281808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Easier to read than direct metho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rect Sub-Module Instant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876920" cy="299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file: Body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"Wheel.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od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 wheel_F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 wheel_F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HAS_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od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module_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3733920"/>
            <a:ext cx="5256360" cy="2655720"/>
            <a:chOff x="3657600" y="3733920"/>
            <a:chExt cx="5256360" cy="2655720"/>
          </a:xfrm>
        </p:grpSpPr>
        <p:sp>
          <p:nvSpPr>
            <p:cNvPr id="229" name=""/>
            <p:cNvSpPr/>
            <p:nvPr/>
          </p:nvSpPr>
          <p:spPr>
            <a:xfrm>
              <a:off x="3657600" y="3733920"/>
              <a:ext cx="5256360" cy="2655720"/>
            </a:xfrm>
            <a:prstGeom prst="roundRect">
              <a:avLst>
                <a:gd name="adj" fmla="val 5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7600" y="3733920"/>
              <a:ext cx="5256360" cy="26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3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//file: Body.cp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#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clud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"Body.h"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// Constructo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ody::Body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module_name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: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wheel_FL("wheel_FL"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wheel_FR("wheel_FR"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modu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n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{ .. other initialization ..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52280" y="4191120"/>
            <a:ext cx="3427560" cy="1925640"/>
            <a:chOff x="152280" y="4191120"/>
            <a:chExt cx="3427560" cy="1925640"/>
          </a:xfrm>
        </p:grpSpPr>
        <p:sp>
          <p:nvSpPr>
            <p:cNvPr id="232" name=""/>
            <p:cNvSpPr/>
            <p:nvPr/>
          </p:nvSpPr>
          <p:spPr>
            <a:xfrm>
              <a:off x="152280" y="4191120"/>
              <a:ext cx="3427560" cy="1925640"/>
            </a:xfrm>
            <a:prstGeom prst="roundRect">
              <a:avLst>
                <a:gd name="adj" fmla="val 79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2280" y="4191120"/>
              <a:ext cx="34275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oves the complexity of initialization to the implementation, hides it from the users of the header fi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rect Sub-Module Instant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876920" cy="299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file: Body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e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od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* wheel_F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* wheel_F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HAS_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od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module_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3733920"/>
            <a:ext cx="5484960" cy="2655720"/>
            <a:chOff x="3657600" y="3733920"/>
            <a:chExt cx="5484960" cy="2655720"/>
          </a:xfrm>
        </p:grpSpPr>
        <p:sp>
          <p:nvSpPr>
            <p:cNvPr id="237" name=""/>
            <p:cNvSpPr/>
            <p:nvPr/>
          </p:nvSpPr>
          <p:spPr>
            <a:xfrm>
              <a:off x="3657600" y="3733920"/>
              <a:ext cx="5484960" cy="2655720"/>
            </a:xfrm>
            <a:prstGeom prst="roundRect">
              <a:avLst>
                <a:gd name="adj" fmla="val 5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3733920"/>
              <a:ext cx="5484960" cy="26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3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//file: Body.cp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#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clud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"Wheel.h"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// Constructo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ody::Body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module_name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: sc_module(n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{wheel_FL=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ew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Wheel("wheel_FL"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wheel_FR=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ew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Wheel("wheel_FR"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. other initialization .. 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52280" y="4191120"/>
            <a:ext cx="3427560" cy="1925640"/>
            <a:chOff x="152280" y="4191120"/>
            <a:chExt cx="3427560" cy="1925640"/>
          </a:xfrm>
        </p:grpSpPr>
        <p:sp>
          <p:nvSpPr>
            <p:cNvPr id="240" name=""/>
            <p:cNvSpPr/>
            <p:nvPr/>
          </p:nvSpPr>
          <p:spPr>
            <a:xfrm>
              <a:off x="152280" y="4191120"/>
              <a:ext cx="3427560" cy="1925640"/>
            </a:xfrm>
            <a:prstGeom prst="roundRect">
              <a:avLst>
                <a:gd name="adj" fmla="val 79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2280" y="4191120"/>
              <a:ext cx="34275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oves the complexity of initialization to the implementation, hides it from the users of the header fi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 Implementation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20200" y="5336640"/>
            <a:ext cx="2170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04920" y="1295280"/>
            <a:ext cx="8688240" cy="5038560"/>
            <a:chOff x="304920" y="1295280"/>
            <a:chExt cx="8688240" cy="5038560"/>
          </a:xfrm>
        </p:grpSpPr>
        <p:grpSp>
          <p:nvGrpSpPr>
            <p:cNvPr id="245" name=""/>
            <p:cNvGrpSpPr/>
            <p:nvPr/>
          </p:nvGrpSpPr>
          <p:grpSpPr>
            <a:xfrm>
              <a:off x="6820200" y="5337000"/>
              <a:ext cx="2170080" cy="993960"/>
              <a:chOff x="6820200" y="5337000"/>
              <a:chExt cx="2170080" cy="993960"/>
            </a:xfrm>
          </p:grpSpPr>
          <p:sp>
            <p:nvSpPr>
              <p:cNvPr id="246" name=""/>
              <p:cNvSpPr/>
              <p:nvPr/>
            </p:nvSpPr>
            <p:spPr>
              <a:xfrm>
                <a:off x="6820200" y="5337000"/>
                <a:ext cx="2170080" cy="993960"/>
              </a:xfrm>
              <a:prstGeom prst="roundRect">
                <a:avLst>
                  <a:gd name="adj" fmla="val 15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276720" y="5337000"/>
              <a:ext cx="3543480" cy="995400"/>
              <a:chOff x="3276720" y="5337000"/>
              <a:chExt cx="3543480" cy="995400"/>
            </a:xfrm>
          </p:grpSpPr>
          <p:sp>
            <p:nvSpPr>
              <p:cNvPr id="248" name=""/>
              <p:cNvSpPr/>
              <p:nvPr/>
            </p:nvSpPr>
            <p:spPr>
              <a:xfrm>
                <a:off x="3276720" y="5337000"/>
                <a:ext cx="3543480" cy="995400"/>
              </a:xfrm>
              <a:prstGeom prst="roundRect">
                <a:avLst>
                  <a:gd name="adj" fmla="val 15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76720" y="5337000"/>
                <a:ext cx="3543480" cy="9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Hides sub-module headers and implementation, dynamically configurab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47920" y="5337000"/>
              <a:ext cx="1828800" cy="995400"/>
              <a:chOff x="1447920" y="5337000"/>
              <a:chExt cx="1828800" cy="995400"/>
            </a:xfrm>
          </p:grpSpPr>
          <p:sp>
            <p:nvSpPr>
              <p:cNvPr id="251" name=""/>
              <p:cNvSpPr/>
              <p:nvPr/>
            </p:nvSpPr>
            <p:spPr>
              <a:xfrm>
                <a:off x="1447920" y="5337000"/>
                <a:ext cx="1828800" cy="995400"/>
              </a:xfrm>
              <a:prstGeom prst="roundRect">
                <a:avLst>
                  <a:gd name="adj" fmla="val 15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47920" y="5337000"/>
                <a:ext cx="1828800" cy="9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Indir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with separate compil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04920" y="5337000"/>
              <a:ext cx="1143000" cy="995400"/>
              <a:chOff x="304920" y="5337000"/>
              <a:chExt cx="1143000" cy="995400"/>
            </a:xfrm>
          </p:grpSpPr>
          <p:sp>
            <p:nvSpPr>
              <p:cNvPr id="254" name=""/>
              <p:cNvSpPr/>
              <p:nvPr/>
            </p:nvSpPr>
            <p:spPr>
              <a:xfrm>
                <a:off x="304920" y="5337000"/>
                <a:ext cx="1143000" cy="995400"/>
              </a:xfrm>
              <a:prstGeom prst="roundRect">
                <a:avLst>
                  <a:gd name="adj" fmla="val 15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4920" y="5337000"/>
                <a:ext cx="11430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Modu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20200" y="4340160"/>
              <a:ext cx="2171520" cy="995400"/>
              <a:chOff x="6820200" y="4340160"/>
              <a:chExt cx="2171520" cy="995400"/>
            </a:xfrm>
          </p:grpSpPr>
          <p:sp>
            <p:nvSpPr>
              <p:cNvPr id="257" name=""/>
              <p:cNvSpPr/>
              <p:nvPr/>
            </p:nvSpPr>
            <p:spPr>
              <a:xfrm>
                <a:off x="6820200" y="4340160"/>
                <a:ext cx="2171520" cy="995400"/>
              </a:xfrm>
              <a:prstGeom prst="roundRect">
                <a:avLst>
                  <a:gd name="adj" fmla="val 15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20200" y="4340160"/>
                <a:ext cx="217152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equires sub-module head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276720" y="4340160"/>
              <a:ext cx="3543480" cy="995400"/>
              <a:chOff x="3276720" y="4340160"/>
              <a:chExt cx="3543480" cy="995400"/>
            </a:xfrm>
          </p:grpSpPr>
          <p:sp>
            <p:nvSpPr>
              <p:cNvPr id="260" name=""/>
              <p:cNvSpPr/>
              <p:nvPr/>
            </p:nvSpPr>
            <p:spPr>
              <a:xfrm>
                <a:off x="3276720" y="4340160"/>
                <a:ext cx="3543480" cy="995400"/>
              </a:xfrm>
              <a:prstGeom prst="roundRect">
                <a:avLst>
                  <a:gd name="adj" fmla="val 15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76720" y="4340160"/>
                <a:ext cx="3543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Hides implement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447920" y="4340160"/>
              <a:ext cx="1828800" cy="995400"/>
              <a:chOff x="1447920" y="4340160"/>
              <a:chExt cx="1828800" cy="995400"/>
            </a:xfrm>
          </p:grpSpPr>
          <p:sp>
            <p:nvSpPr>
              <p:cNvPr id="263" name=""/>
              <p:cNvSpPr/>
              <p:nvPr/>
            </p:nvSpPr>
            <p:spPr>
              <a:xfrm>
                <a:off x="1447920" y="4340160"/>
                <a:ext cx="1828800" cy="995400"/>
              </a:xfrm>
              <a:prstGeom prst="roundRect">
                <a:avLst>
                  <a:gd name="adj" fmla="val 15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47920" y="4340160"/>
                <a:ext cx="1828800" cy="9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Direct with separate compil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04920" y="4340160"/>
              <a:ext cx="1143000" cy="995400"/>
              <a:chOff x="304920" y="4340160"/>
              <a:chExt cx="1143000" cy="995400"/>
            </a:xfrm>
          </p:grpSpPr>
          <p:sp>
            <p:nvSpPr>
              <p:cNvPr id="266" name=""/>
              <p:cNvSpPr/>
              <p:nvPr/>
            </p:nvSpPr>
            <p:spPr>
              <a:xfrm>
                <a:off x="304920" y="4340160"/>
                <a:ext cx="1143000" cy="995400"/>
              </a:xfrm>
              <a:prstGeom prst="roundRect">
                <a:avLst>
                  <a:gd name="adj" fmla="val 15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04920" y="4340160"/>
                <a:ext cx="11430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Modu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820200" y="3646440"/>
              <a:ext cx="2171520" cy="693720"/>
              <a:chOff x="6820200" y="3646440"/>
              <a:chExt cx="2171520" cy="693720"/>
            </a:xfrm>
          </p:grpSpPr>
          <p:sp>
            <p:nvSpPr>
              <p:cNvPr id="269" name=""/>
              <p:cNvSpPr/>
              <p:nvPr/>
            </p:nvSpPr>
            <p:spPr>
              <a:xfrm>
                <a:off x="6820200" y="3646440"/>
                <a:ext cx="217152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20200" y="3646440"/>
                <a:ext cx="217152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Involves point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276720" y="3646440"/>
              <a:ext cx="3543480" cy="693720"/>
              <a:chOff x="3276720" y="3646440"/>
              <a:chExt cx="3543480" cy="693720"/>
            </a:xfrm>
          </p:grpSpPr>
          <p:sp>
            <p:nvSpPr>
              <p:cNvPr id="272" name=""/>
              <p:cNvSpPr/>
              <p:nvPr/>
            </p:nvSpPr>
            <p:spPr>
              <a:xfrm>
                <a:off x="3276720" y="3646440"/>
                <a:ext cx="354348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76720" y="3646440"/>
                <a:ext cx="354348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ll in one file, dynamically configurab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447920" y="3646440"/>
              <a:ext cx="1828800" cy="693720"/>
              <a:chOff x="1447920" y="3646440"/>
              <a:chExt cx="1828800" cy="693720"/>
            </a:xfrm>
          </p:grpSpPr>
          <p:sp>
            <p:nvSpPr>
              <p:cNvPr id="275" name=""/>
              <p:cNvSpPr/>
              <p:nvPr/>
            </p:nvSpPr>
            <p:spPr>
              <a:xfrm>
                <a:off x="1447920" y="3646440"/>
                <a:ext cx="182880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47920" y="3646440"/>
                <a:ext cx="182880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Indir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Header on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04920" y="3646440"/>
              <a:ext cx="1143000" cy="693720"/>
              <a:chOff x="304920" y="3646440"/>
              <a:chExt cx="1143000" cy="693720"/>
            </a:xfrm>
          </p:grpSpPr>
          <p:sp>
            <p:nvSpPr>
              <p:cNvPr id="278" name=""/>
              <p:cNvSpPr/>
              <p:nvPr/>
            </p:nvSpPr>
            <p:spPr>
              <a:xfrm>
                <a:off x="304920" y="3646440"/>
                <a:ext cx="114300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3646440"/>
                <a:ext cx="11430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Modu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820200" y="2954160"/>
              <a:ext cx="2171520" cy="693720"/>
              <a:chOff x="6820200" y="2954160"/>
              <a:chExt cx="2171520" cy="693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820200" y="2954160"/>
                <a:ext cx="217152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20200" y="2954160"/>
                <a:ext cx="217152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equires sub-module head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76720" y="2954160"/>
              <a:ext cx="3543480" cy="693720"/>
              <a:chOff x="3276720" y="2954160"/>
              <a:chExt cx="3543480" cy="693720"/>
            </a:xfrm>
          </p:grpSpPr>
          <p:sp>
            <p:nvSpPr>
              <p:cNvPr id="284" name=""/>
              <p:cNvSpPr/>
              <p:nvPr/>
            </p:nvSpPr>
            <p:spPr>
              <a:xfrm>
                <a:off x="3276720" y="2954160"/>
                <a:ext cx="354348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76720" y="2954160"/>
                <a:ext cx="354348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ll in one file, easier to underst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447920" y="2954160"/>
              <a:ext cx="1828800" cy="693720"/>
              <a:chOff x="1447920" y="2954160"/>
              <a:chExt cx="1828800" cy="693720"/>
            </a:xfrm>
          </p:grpSpPr>
          <p:sp>
            <p:nvSpPr>
              <p:cNvPr id="287" name=""/>
              <p:cNvSpPr/>
              <p:nvPr/>
            </p:nvSpPr>
            <p:spPr>
              <a:xfrm>
                <a:off x="1447920" y="2954160"/>
                <a:ext cx="182880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47920" y="2954160"/>
                <a:ext cx="182880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Dir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Header on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4920" y="2954160"/>
              <a:ext cx="1143000" cy="693720"/>
              <a:chOff x="304920" y="2954160"/>
              <a:chExt cx="1143000" cy="693720"/>
            </a:xfrm>
          </p:grpSpPr>
          <p:sp>
            <p:nvSpPr>
              <p:cNvPr id="290" name=""/>
              <p:cNvSpPr/>
              <p:nvPr/>
            </p:nvSpPr>
            <p:spPr>
              <a:xfrm>
                <a:off x="304920" y="2954160"/>
                <a:ext cx="114300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04920" y="2954160"/>
                <a:ext cx="11430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Modu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6820200" y="2427120"/>
              <a:ext cx="2171520" cy="527040"/>
              <a:chOff x="6820200" y="2427120"/>
              <a:chExt cx="2171520" cy="52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820200" y="2427120"/>
                <a:ext cx="2171520" cy="527040"/>
              </a:xfrm>
              <a:prstGeom prst="roundRect">
                <a:avLst>
                  <a:gd name="adj" fmla="val 301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820200" y="2427120"/>
                <a:ext cx="21715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Involves point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76720" y="2427120"/>
              <a:ext cx="3543480" cy="527040"/>
              <a:chOff x="3276720" y="2427120"/>
              <a:chExt cx="3543480" cy="527040"/>
            </a:xfrm>
          </p:grpSpPr>
          <p:sp>
            <p:nvSpPr>
              <p:cNvPr id="296" name=""/>
              <p:cNvSpPr/>
              <p:nvPr/>
            </p:nvSpPr>
            <p:spPr>
              <a:xfrm>
                <a:off x="3276720" y="2427120"/>
                <a:ext cx="3543480" cy="527040"/>
              </a:xfrm>
              <a:prstGeom prst="roundRect">
                <a:avLst>
                  <a:gd name="adj" fmla="val 301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76720" y="2427120"/>
                <a:ext cx="3543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Dynamically configurab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447920" y="2427120"/>
              <a:ext cx="1828800" cy="527040"/>
              <a:chOff x="1447920" y="2427120"/>
              <a:chExt cx="1828800" cy="527040"/>
            </a:xfrm>
          </p:grpSpPr>
          <p:sp>
            <p:nvSpPr>
              <p:cNvPr id="299" name=""/>
              <p:cNvSpPr/>
              <p:nvPr/>
            </p:nvSpPr>
            <p:spPr>
              <a:xfrm>
                <a:off x="1447920" y="2427120"/>
                <a:ext cx="1828800" cy="527040"/>
              </a:xfrm>
              <a:prstGeom prst="roundRect">
                <a:avLst>
                  <a:gd name="adj" fmla="val 301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47920" y="2427120"/>
                <a:ext cx="18288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Indir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04920" y="2427120"/>
              <a:ext cx="1143000" cy="527040"/>
              <a:chOff x="304920" y="2427120"/>
              <a:chExt cx="1143000" cy="527040"/>
            </a:xfrm>
          </p:grpSpPr>
          <p:sp>
            <p:nvSpPr>
              <p:cNvPr id="302" name=""/>
              <p:cNvSpPr/>
              <p:nvPr/>
            </p:nvSpPr>
            <p:spPr>
              <a:xfrm>
                <a:off x="304920" y="2427120"/>
                <a:ext cx="1143000" cy="527040"/>
              </a:xfrm>
              <a:prstGeom prst="roundRect">
                <a:avLst>
                  <a:gd name="adj" fmla="val 301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20" y="2427120"/>
                <a:ext cx="11430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Ma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820200" y="1733400"/>
              <a:ext cx="2171520" cy="693720"/>
              <a:chOff x="6820200" y="1733400"/>
              <a:chExt cx="2171520" cy="693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820200" y="1733400"/>
                <a:ext cx="217152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20200" y="1733400"/>
                <a:ext cx="217152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Inconsistent with other leve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276720" y="1733400"/>
              <a:ext cx="3543480" cy="693720"/>
              <a:chOff x="3276720" y="1733400"/>
              <a:chExt cx="3543480" cy="693720"/>
            </a:xfrm>
          </p:grpSpPr>
          <p:sp>
            <p:nvSpPr>
              <p:cNvPr id="308" name=""/>
              <p:cNvSpPr/>
              <p:nvPr/>
            </p:nvSpPr>
            <p:spPr>
              <a:xfrm>
                <a:off x="3276720" y="1733400"/>
                <a:ext cx="354348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76720" y="1733400"/>
                <a:ext cx="3543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Least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1447920" y="1733400"/>
              <a:ext cx="1828800" cy="693720"/>
              <a:chOff x="1447920" y="1733400"/>
              <a:chExt cx="1828800" cy="693720"/>
            </a:xfrm>
          </p:grpSpPr>
          <p:sp>
            <p:nvSpPr>
              <p:cNvPr id="311" name=""/>
              <p:cNvSpPr/>
              <p:nvPr/>
            </p:nvSpPr>
            <p:spPr>
              <a:xfrm>
                <a:off x="1447920" y="1733400"/>
                <a:ext cx="182880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47920" y="1733400"/>
                <a:ext cx="18288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Dir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04920" y="1733400"/>
              <a:ext cx="1143000" cy="693720"/>
              <a:chOff x="304920" y="1733400"/>
              <a:chExt cx="1143000" cy="693720"/>
            </a:xfrm>
          </p:grpSpPr>
          <p:sp>
            <p:nvSpPr>
              <p:cNvPr id="314" name=""/>
              <p:cNvSpPr/>
              <p:nvPr/>
            </p:nvSpPr>
            <p:spPr>
              <a:xfrm>
                <a:off x="304920" y="1733400"/>
                <a:ext cx="1143000" cy="693720"/>
              </a:xfrm>
              <a:prstGeom prst="roundRect">
                <a:avLst>
                  <a:gd name="adj" fmla="val 227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920" y="1733400"/>
                <a:ext cx="11430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Ma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820200" y="1295280"/>
              <a:ext cx="2171520" cy="438120"/>
              <a:chOff x="6820200" y="1295280"/>
              <a:chExt cx="2171520" cy="438120"/>
            </a:xfrm>
          </p:grpSpPr>
          <p:sp>
            <p:nvSpPr>
              <p:cNvPr id="317" name=""/>
              <p:cNvSpPr/>
              <p:nvPr/>
            </p:nvSpPr>
            <p:spPr>
              <a:xfrm>
                <a:off x="6820200" y="1295280"/>
                <a:ext cx="2171520" cy="438120"/>
              </a:xfrm>
              <a:prstGeom prst="roundRect">
                <a:avLst>
                  <a:gd name="adj" fmla="val 361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20200" y="1295280"/>
                <a:ext cx="21715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C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276720" y="1295280"/>
              <a:ext cx="3543480" cy="438120"/>
              <a:chOff x="3276720" y="1295280"/>
              <a:chExt cx="3543480" cy="438120"/>
            </a:xfrm>
          </p:grpSpPr>
          <p:sp>
            <p:nvSpPr>
              <p:cNvPr id="320" name=""/>
              <p:cNvSpPr/>
              <p:nvPr/>
            </p:nvSpPr>
            <p:spPr>
              <a:xfrm>
                <a:off x="3276720" y="1295280"/>
                <a:ext cx="3543480" cy="438120"/>
              </a:xfrm>
              <a:prstGeom prst="roundRect">
                <a:avLst>
                  <a:gd name="adj" fmla="val 361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276720" y="1295280"/>
                <a:ext cx="354348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Pr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447920" y="1295280"/>
              <a:ext cx="1828800" cy="438120"/>
              <a:chOff x="1447920" y="1295280"/>
              <a:chExt cx="1828800" cy="438120"/>
            </a:xfrm>
          </p:grpSpPr>
          <p:sp>
            <p:nvSpPr>
              <p:cNvPr id="323" name=""/>
              <p:cNvSpPr/>
              <p:nvPr/>
            </p:nvSpPr>
            <p:spPr>
              <a:xfrm>
                <a:off x="1447920" y="1295280"/>
                <a:ext cx="1828800" cy="438120"/>
              </a:xfrm>
              <a:prstGeom prst="roundRect">
                <a:avLst>
                  <a:gd name="adj" fmla="val 361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447920" y="1295280"/>
                <a:ext cx="18288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llo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04920" y="1295280"/>
              <a:ext cx="1143000" cy="438120"/>
              <a:chOff x="304920" y="1295280"/>
              <a:chExt cx="1143000" cy="438120"/>
            </a:xfrm>
          </p:grpSpPr>
          <p:sp>
            <p:nvSpPr>
              <p:cNvPr id="326" name=""/>
              <p:cNvSpPr/>
              <p:nvPr/>
            </p:nvSpPr>
            <p:spPr>
              <a:xfrm>
                <a:off x="304920" y="1295280"/>
                <a:ext cx="1143000" cy="438120"/>
              </a:xfrm>
              <a:prstGeom prst="roundRect">
                <a:avLst>
                  <a:gd name="adj" fmla="val 361"/>
                </a:avLst>
              </a:prstGeom>
              <a:solidFill>
                <a:srgbClr val="e2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4920" y="1295280"/>
                <a:ext cx="11430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Lev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04920" y="1295280"/>
              <a:ext cx="8686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4920" y="1733400"/>
              <a:ext cx="8686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427120"/>
              <a:ext cx="8686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920" y="2954160"/>
              <a:ext cx="8686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4920" y="3646440"/>
              <a:ext cx="8686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4920" y="4340160"/>
              <a:ext cx="8686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920" y="5337000"/>
              <a:ext cx="8686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4920" y="6332400"/>
              <a:ext cx="8686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4920" y="1295280"/>
              <a:ext cx="1440" cy="503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7920" y="1295280"/>
              <a:ext cx="1440" cy="503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720" y="1295280"/>
              <a:ext cx="1440" cy="503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20200" y="1295280"/>
              <a:ext cx="1440" cy="503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991720" y="1295280"/>
              <a:ext cx="1440" cy="503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o World in System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13400" y="1219320"/>
            <a:ext cx="4495680" cy="4276440"/>
          </a:xfrm>
          <a:prstGeom prst="foldedCorner">
            <a:avLst>
              <a:gd name="adj" fmla="val 12500"/>
            </a:avLst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nd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LLO_SYSTEMC_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LLO_SYSTEMC_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FILE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lo_SystemC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systemc.h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ello_SystemC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in_cl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k_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llo_SystemC::main_method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ello_SystemC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in_metho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&lt; clk_p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t_initial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60" y="1219320"/>
            <a:ext cx="4419720" cy="3352680"/>
          </a:xfrm>
          <a:prstGeom prst="foldedCorner">
            <a:avLst>
              <a:gd name="adj" fmla="val 12500"/>
            </a:avLst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FILE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in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Hello_SystemC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sc_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gc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rgv[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 sc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_PERIOD(8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c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k("clk",t_PERIO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Hello_SystemC iHello_SystemC</a:t>
            </a:r>
            <a:br>
              <a:rPr sz="1800"/>
            </a:b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  ("iHello_SystemC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iHello_SystemC.clk_pi(cl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0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760" y="4648320"/>
            <a:ext cx="4494240" cy="1752480"/>
          </a:xfrm>
          <a:prstGeom prst="foldedCorner">
            <a:avLst>
              <a:gd name="adj" fmla="val 12500"/>
            </a:avLst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//FILE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Hello_SystemC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#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cl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&lt;Hello_SystemC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Hello_SystemC::main_method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d::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&lt;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c_time_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) &lt;&l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" Hello world!" &lt;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d::en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571500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 &amp; ©: D. Black, J. Donovan, http://eklectically.com/Book/; All usage restrictions imposed by the authors a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C language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80880" y="1219320"/>
            <a:ext cx="8305920" cy="5105160"/>
            <a:chOff x="380880" y="1219320"/>
            <a:chExt cx="8305920" cy="5105160"/>
          </a:xfrm>
        </p:grpSpPr>
        <p:sp>
          <p:nvSpPr>
            <p:cNvPr id="348" name=""/>
            <p:cNvSpPr/>
            <p:nvPr/>
          </p:nvSpPr>
          <p:spPr>
            <a:xfrm>
              <a:off x="380880" y="1219320"/>
              <a:ext cx="8305920" cy="5105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7240" y="5344920"/>
              <a:ext cx="7944840" cy="839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 Language Stand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7240" y="3107160"/>
              <a:ext cx="3899880" cy="209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re Langu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Ev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n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vent-driven simulation 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42200" y="3107160"/>
              <a:ext cx="3899880" cy="209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s and bit-vec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bitrary precision integ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xed-point nu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-valued logic types, logic-vec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++ user defined typ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7240" y="2198160"/>
              <a:ext cx="7944840" cy="839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ary Cha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gnal, Timer, Mutex, Semaphore, FIFO, e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7240" y="1289160"/>
              <a:ext cx="3538800" cy="8391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nnels for Mo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ahn process networks, SDF, e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53120" y="1289160"/>
              <a:ext cx="4188960" cy="8391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hodology-specific Cha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ster/Slave libr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105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19400" cy="1646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28600" y="40384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66040" cy="42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vent is an object represent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that determines whether and when a process‘s execution should be triggered or resu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vent is used to represent a condition that may occur during the course of simulation and to control the triggering of processes according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provides basic synchronization for proces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C language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1219320"/>
            <a:ext cx="8305920" cy="5105160"/>
            <a:chOff x="380880" y="1219320"/>
            <a:chExt cx="8305920" cy="5105160"/>
          </a:xfrm>
        </p:grpSpPr>
        <p:sp>
          <p:nvSpPr>
            <p:cNvPr id="108" name=""/>
            <p:cNvSpPr/>
            <p:nvPr/>
          </p:nvSpPr>
          <p:spPr>
            <a:xfrm>
              <a:off x="380880" y="1219320"/>
              <a:ext cx="8305920" cy="5105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7240" y="5344920"/>
              <a:ext cx="7944840" cy="839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 Language Stand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7240" y="3107160"/>
              <a:ext cx="3899880" cy="209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re Langu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odu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n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vent-driven simulation 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42200" y="3107160"/>
              <a:ext cx="3899880" cy="209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s and bit-vec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bitrary precision integ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xed-point nu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-valued logic types, logic-vec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++ user defined typ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7240" y="2198160"/>
              <a:ext cx="7944840" cy="839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ary Cha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gnal, Timer, Mutex, Semaphore, FIFO, e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7240" y="1289160"/>
              <a:ext cx="3538800" cy="8391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nnels for Mo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ahn process networks, SDF, e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53120" y="1289160"/>
              <a:ext cx="4188960" cy="8391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hodology-specific Cha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ster/Slave libr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66040" cy="43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io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(“subjunctive mood‘‘)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occurrence of an event (‘‘indicative mood‘‘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vent is usually associated with some change of state in a process or of a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of the event is responsible for reporting the change to the even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 of reporting the change to the event i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notification and process trigg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619760" cy="461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66" name=""/>
          <p:cNvSpPr/>
          <p:nvPr/>
        </p:nvSpPr>
        <p:spPr>
          <a:xfrm>
            <a:off x="4792680" y="1989000"/>
            <a:ext cx="998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gering events: .notif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6640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re created with 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y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 notify'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e waiting processes immediately from the waiting pool to the ready poo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ayed notification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waiting will execute at the nex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d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 processes exec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indicated time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_name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620120" y="4952880"/>
            <a:ext cx="12906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engine (simplifi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1752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440" y="1676520"/>
            <a:ext cx="1501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1219320"/>
            <a:ext cx="6934320" cy="403848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42360" y="1219320"/>
            <a:ext cx="3871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C simulation ker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266688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09680" y="266688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_star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2666880"/>
            <a:ext cx="17528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3276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193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1160" y="48769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8520" y="2209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52120" y="51055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91160" y="5486400"/>
            <a:ext cx="6990120" cy="82548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tion: simulation parameter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: threads started (placed in ready p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38080" y="5791320"/>
            <a:ext cx="865440" cy="4600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 flipH="1">
            <a:off x="4419720" y="3581280"/>
            <a:ext cx="7617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4038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reads  exit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mulation time is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between thread stat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dicate/transition net mode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vity ch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uing model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24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-137520" y="4330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=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5400000">
            <a:off x="2171160" y="186696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"/>
          <p:cNvCxnSpPr>
            <a:stCxn id="398" idx="6"/>
            <a:endCxn id="396" idx="2"/>
          </p:cNvCxnSpPr>
          <p:nvPr/>
        </p:nvCxnSpPr>
        <p:spPr>
          <a:xfrm>
            <a:off x="1219320" y="1980720"/>
            <a:ext cx="12196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6" idx="0"/>
            <a:endCxn id="392" idx="2"/>
          </p:cNvCxnSpPr>
          <p:nvPr/>
        </p:nvCxnSpPr>
        <p:spPr>
          <a:xfrm>
            <a:off x="2666520" y="1980720"/>
            <a:ext cx="20577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304920" y="35812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8564000">
            <a:off x="1485360" y="2933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"/>
          <p:cNvCxnSpPr>
            <a:stCxn id="394" idx="0"/>
            <a:endCxn id="400" idx="2"/>
          </p:cNvCxnSpPr>
          <p:nvPr/>
        </p:nvCxnSpPr>
        <p:spPr>
          <a:xfrm flipV="1">
            <a:off x="685440" y="3809520"/>
            <a:ext cx="108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0" idx="0"/>
            <a:endCxn id="398" idx="4"/>
          </p:cNvCxnSpPr>
          <p:nvPr/>
        </p:nvCxnSpPr>
        <p:spPr>
          <a:xfrm flipV="1">
            <a:off x="685440" y="251388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3507480" y="14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344120" y="32004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876920" y="365760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392" idx="4"/>
            <a:endCxn id="406" idx="0"/>
          </p:cNvCxnSpPr>
          <p:nvPr/>
        </p:nvCxnSpPr>
        <p:spPr>
          <a:xfrm flipV="1" rot="10800000">
            <a:off x="5257080" y="2514240"/>
            <a:ext cx="10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6" idx="2"/>
            <a:endCxn id="393" idx="0"/>
          </p:cNvCxnSpPr>
          <p:nvPr/>
        </p:nvCxnSpPr>
        <p:spPr>
          <a:xfrm flipV="1" rot="10800000">
            <a:off x="5257080" y="388584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152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1752480"/>
            <a:ext cx="2590920" cy="1310760"/>
          </a:xfrm>
          <a:prstGeom prst="rect">
            <a:avLst/>
          </a:prstGeom>
          <a:solidFill>
            <a:srgbClr val="d9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 simulation 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t_in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placed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iting for static sensivity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 placed i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305200">
            <a:off x="3125520" y="4647960"/>
            <a:ext cx="16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2019240" y="560052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393" idx="2"/>
            <a:endCxn id="411" idx="2"/>
          </p:cNvCxnSpPr>
          <p:nvPr/>
        </p:nvCxnSpPr>
        <p:spPr>
          <a:xfrm rot="10800000">
            <a:off x="2513880" y="5714280"/>
            <a:ext cx="2210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13" name=""/>
          <p:cNvCxnSpPr>
            <a:stCxn id="411" idx="0"/>
            <a:endCxn id="394" idx="6"/>
          </p:cNvCxnSpPr>
          <p:nvPr/>
        </p:nvCxnSpPr>
        <p:spPr>
          <a:xfrm rot="10800000">
            <a:off x="1218600" y="5714280"/>
            <a:ext cx="1067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2591640" y="5715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25924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"/>
          <p:cNvCxnSpPr>
            <a:stCxn id="393" idx="1"/>
            <a:endCxn id="401" idx="2"/>
          </p:cNvCxnSpPr>
          <p:nvPr/>
        </p:nvCxnSpPr>
        <p:spPr>
          <a:xfrm flipH="1" flipV="1">
            <a:off x="1953360" y="3119040"/>
            <a:ext cx="2926440" cy="22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17" name=""/>
          <p:cNvCxnSpPr>
            <a:stCxn id="401" idx="0"/>
            <a:endCxn id="398" idx="5"/>
          </p:cNvCxnSpPr>
          <p:nvPr/>
        </p:nvCxnSpPr>
        <p:spPr>
          <a:xfrm flipH="1" flipV="1">
            <a:off x="1063440" y="2358360"/>
            <a:ext cx="7149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18" name=""/>
          <p:cNvSpPr/>
          <p:nvPr/>
        </p:nvSpPr>
        <p:spPr>
          <a:xfrm rot="2115600">
            <a:off x="3355920" y="4114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out°/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5257800"/>
            <a:ext cx="259092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for (ready={}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{}): for  threads waiting for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00800" y="4419720"/>
            <a:ext cx="2590920" cy="824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timeout=(ready={}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{}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waiting time = min. of all waiting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3221400">
            <a:off x="1638000" y="44578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392" idx="3"/>
            <a:endCxn id="421" idx="0"/>
          </p:cNvCxnSpPr>
          <p:nvPr/>
        </p:nvCxnSpPr>
        <p:spPr>
          <a:xfrm flipH="1">
            <a:off x="2111040" y="2358720"/>
            <a:ext cx="2769120" cy="21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23" name=""/>
          <p:cNvCxnSpPr>
            <a:stCxn id="421" idx="2"/>
            <a:endCxn id="394" idx="7"/>
          </p:cNvCxnSpPr>
          <p:nvPr/>
        </p:nvCxnSpPr>
        <p:spPr>
          <a:xfrm flipH="1">
            <a:off x="1063440" y="4638600"/>
            <a:ext cx="86256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24" name=""/>
          <p:cNvSpPr/>
          <p:nvPr/>
        </p:nvSpPr>
        <p:spPr>
          <a:xfrm flipH="1" rot="19281600">
            <a:off x="2516040" y="2742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00800" y="3048120"/>
            <a:ext cx="2590920" cy="824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except that methods are called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400800" y="3886200"/>
            <a:ext cx="259092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 sensivit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fixed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09" idx="0"/>
            <a:endCxn id="398" idx="0"/>
          </p:cNvCxnSpPr>
          <p:nvPr/>
        </p:nvCxnSpPr>
        <p:spPr>
          <a:xfrm flipV="1" rot="16200000">
            <a:off x="4038120" y="-1905480"/>
            <a:ext cx="305280" cy="7011000"/>
          </a:xfrm>
          <a:prstGeom prst="bentConnector3">
            <a:avLst>
              <a:gd name="adj1" fmla="val 174970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cxnSp>
        <p:nvCxnSpPr>
          <p:cNvPr id="428" name=""/>
          <p:cNvCxnSpPr/>
          <p:nvPr/>
        </p:nvCxnSpPr>
        <p:spPr>
          <a:xfrm flipV="1" rot="10800000">
            <a:off x="5790600" y="2132640"/>
            <a:ext cx="610200" cy="3610440"/>
          </a:xfrm>
          <a:prstGeom prst="bentConnector3">
            <a:avLst>
              <a:gd name="adj1" fmla="val 31227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429" name=""/>
          <p:cNvSpPr/>
          <p:nvPr/>
        </p:nvSpPr>
        <p:spPr>
          <a:xfrm>
            <a:off x="228600" y="1981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76920" y="56386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685800" cy="365400"/>
          </a:xfrm>
          <a:prstGeom prst="rect">
            <a:avLst/>
          </a:prstGeom>
          <a:ln w="0">
            <a:noFill/>
          </a:ln>
        </p:spPr>
      </p:pic>
      <p:cxnSp>
        <p:nvCxnSpPr>
          <p:cNvPr id="433" name=""/>
          <p:cNvCxnSpPr>
            <a:stCxn id="392" idx="6"/>
            <a:endCxn id="432" idx="1"/>
          </p:cNvCxnSpPr>
          <p:nvPr/>
        </p:nvCxnSpPr>
        <p:spPr>
          <a:xfrm flipV="1">
            <a:off x="5790960" y="1477440"/>
            <a:ext cx="61020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434" name=""/>
          <p:cNvSpPr/>
          <p:nvPr/>
        </p:nvSpPr>
        <p:spPr>
          <a:xfrm rot="19255800">
            <a:off x="5635080" y="142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324480" y="6605280"/>
            <a:ext cx="28195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ram not foun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400800" y="5791320"/>
            <a:ext cx="2590920" cy="824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signals each time ready becomes {} (end o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ycle), se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87600" y="1371600"/>
            <a:ext cx="5306760" cy="4299840"/>
            <a:chOff x="687600" y="1371600"/>
            <a:chExt cx="5306760" cy="4299840"/>
          </a:xfrm>
        </p:grpSpPr>
        <p:sp>
          <p:nvSpPr>
            <p:cNvPr id="438" name=""/>
            <p:cNvSpPr/>
            <p:nvPr/>
          </p:nvSpPr>
          <p:spPr>
            <a:xfrm>
              <a:off x="5243760" y="257508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prio=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92560" y="27432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prio=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02000" y="137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prio=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7600" y="304812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prio=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73400" y="533412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prio=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179200">
              <a:off x="3201480" y="4800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prio=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between thread stat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dicate/transition net mode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vity ch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uing model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24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2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-137520" y="4330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=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2171160" y="186696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"/>
          <p:cNvCxnSpPr>
            <a:stCxn id="451" idx="6"/>
            <a:endCxn id="449" idx="2"/>
          </p:cNvCxnSpPr>
          <p:nvPr/>
        </p:nvCxnSpPr>
        <p:spPr>
          <a:xfrm>
            <a:off x="1219320" y="1980720"/>
            <a:ext cx="12196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9" idx="0"/>
            <a:endCxn id="445" idx="2"/>
          </p:cNvCxnSpPr>
          <p:nvPr/>
        </p:nvCxnSpPr>
        <p:spPr>
          <a:xfrm>
            <a:off x="2666520" y="1980720"/>
            <a:ext cx="20577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>
            <a:off x="304920" y="35812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8564000">
            <a:off x="1485360" y="2933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47" idx="0"/>
            <a:endCxn id="453" idx="2"/>
          </p:cNvCxnSpPr>
          <p:nvPr/>
        </p:nvCxnSpPr>
        <p:spPr>
          <a:xfrm flipV="1">
            <a:off x="685440" y="3809520"/>
            <a:ext cx="108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3" idx="0"/>
            <a:endCxn id="451" idx="4"/>
          </p:cNvCxnSpPr>
          <p:nvPr/>
        </p:nvCxnSpPr>
        <p:spPr>
          <a:xfrm flipV="1">
            <a:off x="685440" y="251388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3507480" y="14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258520" y="2590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4876920" y="365760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45" idx="4"/>
            <a:endCxn id="459" idx="0"/>
          </p:cNvCxnSpPr>
          <p:nvPr/>
        </p:nvCxnSpPr>
        <p:spPr>
          <a:xfrm flipV="1" rot="10800000">
            <a:off x="5257080" y="2514240"/>
            <a:ext cx="10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59" idx="2"/>
            <a:endCxn id="446" idx="0"/>
          </p:cNvCxnSpPr>
          <p:nvPr/>
        </p:nvCxnSpPr>
        <p:spPr>
          <a:xfrm flipV="1" rot="10800000">
            <a:off x="5257080" y="388584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"/>
          <p:cNvSpPr/>
          <p:nvPr/>
        </p:nvSpPr>
        <p:spPr>
          <a:xfrm>
            <a:off x="152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00800" y="1447920"/>
            <a:ext cx="2590920" cy="1310760"/>
          </a:xfrm>
          <a:prstGeom prst="rect">
            <a:avLst/>
          </a:prstGeom>
          <a:solidFill>
            <a:srgbClr val="d9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 simulation 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t_in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placed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iting for static sensivity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 placed i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2305200">
            <a:off x="3125520" y="4647960"/>
            <a:ext cx="16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2019240" y="560052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46" idx="2"/>
            <a:endCxn id="464" idx="2"/>
          </p:cNvCxnSpPr>
          <p:nvPr/>
        </p:nvCxnSpPr>
        <p:spPr>
          <a:xfrm rot="10800000">
            <a:off x="2513880" y="5714280"/>
            <a:ext cx="2210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66" name=""/>
          <p:cNvCxnSpPr>
            <a:stCxn id="464" idx="0"/>
            <a:endCxn id="447" idx="6"/>
          </p:cNvCxnSpPr>
          <p:nvPr/>
        </p:nvCxnSpPr>
        <p:spPr>
          <a:xfrm rot="10800000">
            <a:off x="1218600" y="5714280"/>
            <a:ext cx="1067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2591640" y="5715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25924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46" idx="1"/>
            <a:endCxn id="454" idx="2"/>
          </p:cNvCxnSpPr>
          <p:nvPr/>
        </p:nvCxnSpPr>
        <p:spPr>
          <a:xfrm flipH="1" flipV="1">
            <a:off x="1953360" y="3119040"/>
            <a:ext cx="2926440" cy="22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70" name=""/>
          <p:cNvCxnSpPr>
            <a:stCxn id="454" idx="0"/>
            <a:endCxn id="451" idx="5"/>
          </p:cNvCxnSpPr>
          <p:nvPr/>
        </p:nvCxnSpPr>
        <p:spPr>
          <a:xfrm flipH="1" flipV="1">
            <a:off x="1063440" y="2358360"/>
            <a:ext cx="7149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71" name=""/>
          <p:cNvSpPr/>
          <p:nvPr/>
        </p:nvSpPr>
        <p:spPr>
          <a:xfrm rot="2115600">
            <a:off x="3355920" y="4114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out°/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221400">
            <a:off x="1638000" y="44578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"/>
          <p:cNvCxnSpPr>
            <a:stCxn id="445" idx="3"/>
            <a:endCxn id="472" idx="0"/>
          </p:cNvCxnSpPr>
          <p:nvPr/>
        </p:nvCxnSpPr>
        <p:spPr>
          <a:xfrm flipH="1">
            <a:off x="2111040" y="2358720"/>
            <a:ext cx="2769120" cy="21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74" name=""/>
          <p:cNvCxnSpPr>
            <a:stCxn id="472" idx="2"/>
            <a:endCxn id="447" idx="7"/>
          </p:cNvCxnSpPr>
          <p:nvPr/>
        </p:nvCxnSpPr>
        <p:spPr>
          <a:xfrm flipH="1">
            <a:off x="1063440" y="4638600"/>
            <a:ext cx="86256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75" name=""/>
          <p:cNvSpPr/>
          <p:nvPr/>
        </p:nvSpPr>
        <p:spPr>
          <a:xfrm flipH="1" rot="19281600">
            <a:off x="2516040" y="2742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3200400"/>
            <a:ext cx="2590920" cy="100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n-deterministic choice between ready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62" idx="0"/>
            <a:endCxn id="451" idx="0"/>
          </p:cNvCxnSpPr>
          <p:nvPr/>
        </p:nvCxnSpPr>
        <p:spPr>
          <a:xfrm rot="5400000">
            <a:off x="4189320" y="-2056680"/>
            <a:ext cx="2160" cy="7011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cxnSp>
        <p:nvCxnSpPr>
          <p:cNvPr id="478" name=""/>
          <p:cNvCxnSpPr/>
          <p:nvPr/>
        </p:nvCxnSpPr>
        <p:spPr>
          <a:xfrm flipV="1" rot="10800000">
            <a:off x="5790600" y="2132640"/>
            <a:ext cx="610200" cy="3610440"/>
          </a:xfrm>
          <a:prstGeom prst="bentConnector3">
            <a:avLst>
              <a:gd name="adj1" fmla="val 31227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479" name=""/>
          <p:cNvSpPr/>
          <p:nvPr/>
        </p:nvSpPr>
        <p:spPr>
          <a:xfrm>
            <a:off x="228600" y="1981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76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76920" y="56386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between thread stat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dicate/transition net mode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vity ch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uing model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24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24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2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-137520" y="4330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=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5400000">
            <a:off x="2171160" y="186696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"/>
          <p:cNvCxnSpPr>
            <a:stCxn id="489" idx="6"/>
            <a:endCxn id="487" idx="2"/>
          </p:cNvCxnSpPr>
          <p:nvPr/>
        </p:nvCxnSpPr>
        <p:spPr>
          <a:xfrm>
            <a:off x="1219320" y="1980720"/>
            <a:ext cx="12196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7" idx="0"/>
            <a:endCxn id="483" idx="2"/>
          </p:cNvCxnSpPr>
          <p:nvPr/>
        </p:nvCxnSpPr>
        <p:spPr>
          <a:xfrm>
            <a:off x="2666520" y="1980720"/>
            <a:ext cx="20577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304920" y="35812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8564000">
            <a:off x="1485360" y="2933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85" idx="0"/>
            <a:endCxn id="491" idx="2"/>
          </p:cNvCxnSpPr>
          <p:nvPr/>
        </p:nvCxnSpPr>
        <p:spPr>
          <a:xfrm flipV="1">
            <a:off x="685440" y="3809520"/>
            <a:ext cx="108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91" idx="0"/>
            <a:endCxn id="489" idx="4"/>
          </p:cNvCxnSpPr>
          <p:nvPr/>
        </p:nvCxnSpPr>
        <p:spPr>
          <a:xfrm flipV="1">
            <a:off x="685440" y="251388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3507480" y="14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5258520" y="2590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876920" y="365760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83" idx="4"/>
            <a:endCxn id="497" idx="0"/>
          </p:cNvCxnSpPr>
          <p:nvPr/>
        </p:nvCxnSpPr>
        <p:spPr>
          <a:xfrm flipV="1" rot="10800000">
            <a:off x="5257080" y="2514240"/>
            <a:ext cx="10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"/>
          <p:cNvCxnSpPr>
            <a:stCxn id="497" idx="2"/>
            <a:endCxn id="484" idx="0"/>
          </p:cNvCxnSpPr>
          <p:nvPr/>
        </p:nvCxnSpPr>
        <p:spPr>
          <a:xfrm flipV="1" rot="10800000">
            <a:off x="5257080" y="388584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152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00800" y="1447920"/>
            <a:ext cx="2590920" cy="1310760"/>
          </a:xfrm>
          <a:prstGeom prst="rect">
            <a:avLst/>
          </a:prstGeom>
          <a:solidFill>
            <a:srgbClr val="d9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 simulation 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t_in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placed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iting for static sensivity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 placed i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2305200">
            <a:off x="3125520" y="4647960"/>
            <a:ext cx="16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2019240" y="560052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484" idx="2"/>
            <a:endCxn id="502" idx="2"/>
          </p:cNvCxnSpPr>
          <p:nvPr/>
        </p:nvCxnSpPr>
        <p:spPr>
          <a:xfrm rot="10800000">
            <a:off x="2513880" y="5714280"/>
            <a:ext cx="2210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04" name=""/>
          <p:cNvCxnSpPr>
            <a:stCxn id="502" idx="0"/>
            <a:endCxn id="485" idx="6"/>
          </p:cNvCxnSpPr>
          <p:nvPr/>
        </p:nvCxnSpPr>
        <p:spPr>
          <a:xfrm rot="10800000">
            <a:off x="1218600" y="5714280"/>
            <a:ext cx="1067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2591640" y="5715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25924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>
            <a:stCxn id="484" idx="1"/>
            <a:endCxn id="492" idx="2"/>
          </p:cNvCxnSpPr>
          <p:nvPr/>
        </p:nvCxnSpPr>
        <p:spPr>
          <a:xfrm flipH="1" flipV="1">
            <a:off x="1953360" y="3119040"/>
            <a:ext cx="2926440" cy="22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08" name=""/>
          <p:cNvCxnSpPr>
            <a:stCxn id="492" idx="0"/>
            <a:endCxn id="489" idx="5"/>
          </p:cNvCxnSpPr>
          <p:nvPr/>
        </p:nvCxnSpPr>
        <p:spPr>
          <a:xfrm flipH="1" flipV="1">
            <a:off x="1063440" y="2358360"/>
            <a:ext cx="7149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09" name=""/>
          <p:cNvSpPr/>
          <p:nvPr/>
        </p:nvSpPr>
        <p:spPr>
          <a:xfrm rot="2115600">
            <a:off x="3355920" y="4114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out°/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221400">
            <a:off x="1638000" y="44578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"/>
          <p:cNvCxnSpPr>
            <a:stCxn id="483" idx="3"/>
            <a:endCxn id="510" idx="0"/>
          </p:cNvCxnSpPr>
          <p:nvPr/>
        </p:nvCxnSpPr>
        <p:spPr>
          <a:xfrm flipH="1">
            <a:off x="2111040" y="2358720"/>
            <a:ext cx="2769120" cy="21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12" name=""/>
          <p:cNvCxnSpPr>
            <a:stCxn id="510" idx="2"/>
            <a:endCxn id="485" idx="7"/>
          </p:cNvCxnSpPr>
          <p:nvPr/>
        </p:nvCxnSpPr>
        <p:spPr>
          <a:xfrm flipH="1">
            <a:off x="1063440" y="4638600"/>
            <a:ext cx="86256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13" name=""/>
          <p:cNvSpPr/>
          <p:nvPr/>
        </p:nvSpPr>
        <p:spPr>
          <a:xfrm flipH="1" rot="19281600">
            <a:off x="2516040" y="2742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400800" y="3200400"/>
            <a:ext cx="2590920" cy="100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ady pool emptied, before nex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ycle st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"/>
          <p:cNvCxnSpPr>
            <a:stCxn id="500" idx="0"/>
            <a:endCxn id="489" idx="0"/>
          </p:cNvCxnSpPr>
          <p:nvPr/>
        </p:nvCxnSpPr>
        <p:spPr>
          <a:xfrm rot="5400000">
            <a:off x="4189320" y="-2056680"/>
            <a:ext cx="2160" cy="7011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cxnSp>
        <p:nvCxnSpPr>
          <p:cNvPr id="516" name=""/>
          <p:cNvCxnSpPr/>
          <p:nvPr/>
        </p:nvCxnSpPr>
        <p:spPr>
          <a:xfrm flipV="1" rot="10800000">
            <a:off x="5790600" y="2132640"/>
            <a:ext cx="610200" cy="3610440"/>
          </a:xfrm>
          <a:prstGeom prst="bentConnector3">
            <a:avLst>
              <a:gd name="adj1" fmla="val 31227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517" name=""/>
          <p:cNvSpPr/>
          <p:nvPr/>
        </p:nvSpPr>
        <p:spPr>
          <a:xfrm>
            <a:off x="4876920" y="19051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5562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76920" y="56386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between thread stat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dicate/transition net mode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vity ch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uing model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24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24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2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6200000">
            <a:off x="-137520" y="4330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=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5400000">
            <a:off x="2171160" y="186696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27" idx="6"/>
            <a:endCxn id="525" idx="2"/>
          </p:cNvCxnSpPr>
          <p:nvPr/>
        </p:nvCxnSpPr>
        <p:spPr>
          <a:xfrm>
            <a:off x="1219320" y="1980720"/>
            <a:ext cx="12196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5" idx="0"/>
            <a:endCxn id="521" idx="2"/>
          </p:cNvCxnSpPr>
          <p:nvPr/>
        </p:nvCxnSpPr>
        <p:spPr>
          <a:xfrm>
            <a:off x="2666520" y="1980720"/>
            <a:ext cx="20577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304920" y="35812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8564000">
            <a:off x="1485360" y="2933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23" idx="0"/>
            <a:endCxn id="529" idx="2"/>
          </p:cNvCxnSpPr>
          <p:nvPr/>
        </p:nvCxnSpPr>
        <p:spPr>
          <a:xfrm flipV="1">
            <a:off x="685440" y="3809520"/>
            <a:ext cx="108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29" idx="0"/>
            <a:endCxn id="527" idx="4"/>
          </p:cNvCxnSpPr>
          <p:nvPr/>
        </p:nvCxnSpPr>
        <p:spPr>
          <a:xfrm flipV="1">
            <a:off x="685440" y="251388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3507480" y="14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258520" y="2590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4876920" y="365760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"/>
          <p:cNvCxnSpPr>
            <a:stCxn id="521" idx="4"/>
            <a:endCxn id="535" idx="0"/>
          </p:cNvCxnSpPr>
          <p:nvPr/>
        </p:nvCxnSpPr>
        <p:spPr>
          <a:xfrm flipV="1" rot="10800000">
            <a:off x="5257080" y="2514240"/>
            <a:ext cx="10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35" idx="2"/>
            <a:endCxn id="522" idx="0"/>
          </p:cNvCxnSpPr>
          <p:nvPr/>
        </p:nvCxnSpPr>
        <p:spPr>
          <a:xfrm flipV="1" rot="10800000">
            <a:off x="5257080" y="388584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152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00800" y="1447920"/>
            <a:ext cx="2590920" cy="1310760"/>
          </a:xfrm>
          <a:prstGeom prst="rect">
            <a:avLst/>
          </a:prstGeom>
          <a:solidFill>
            <a:srgbClr val="d9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 simulation 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t_in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placed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iting for static sensivity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 placed i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2305200">
            <a:off x="3125520" y="4647960"/>
            <a:ext cx="16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2019240" y="560052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22" idx="2"/>
            <a:endCxn id="540" idx="2"/>
          </p:cNvCxnSpPr>
          <p:nvPr/>
        </p:nvCxnSpPr>
        <p:spPr>
          <a:xfrm rot="10800000">
            <a:off x="2513880" y="5714280"/>
            <a:ext cx="2210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42" name=""/>
          <p:cNvCxnSpPr>
            <a:stCxn id="540" idx="0"/>
            <a:endCxn id="523" idx="6"/>
          </p:cNvCxnSpPr>
          <p:nvPr/>
        </p:nvCxnSpPr>
        <p:spPr>
          <a:xfrm rot="10800000">
            <a:off x="1218600" y="5714280"/>
            <a:ext cx="1067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591640" y="5715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25924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22" idx="1"/>
            <a:endCxn id="530" idx="2"/>
          </p:cNvCxnSpPr>
          <p:nvPr/>
        </p:nvCxnSpPr>
        <p:spPr>
          <a:xfrm flipH="1" flipV="1">
            <a:off x="1953360" y="3119040"/>
            <a:ext cx="2926440" cy="22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46" name=""/>
          <p:cNvCxnSpPr>
            <a:stCxn id="530" idx="0"/>
            <a:endCxn id="527" idx="5"/>
          </p:cNvCxnSpPr>
          <p:nvPr/>
        </p:nvCxnSpPr>
        <p:spPr>
          <a:xfrm flipH="1" flipV="1">
            <a:off x="1063440" y="2358360"/>
            <a:ext cx="7149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47" name=""/>
          <p:cNvSpPr/>
          <p:nvPr/>
        </p:nvSpPr>
        <p:spPr>
          <a:xfrm rot="2115600">
            <a:off x="3355920" y="4114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out°/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3221400">
            <a:off x="1638000" y="44578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21" idx="3"/>
            <a:endCxn id="548" idx="0"/>
          </p:cNvCxnSpPr>
          <p:nvPr/>
        </p:nvCxnSpPr>
        <p:spPr>
          <a:xfrm flipH="1">
            <a:off x="2111040" y="2358720"/>
            <a:ext cx="2769120" cy="21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50" name=""/>
          <p:cNvCxnSpPr>
            <a:stCxn id="548" idx="2"/>
            <a:endCxn id="523" idx="7"/>
          </p:cNvCxnSpPr>
          <p:nvPr/>
        </p:nvCxnSpPr>
        <p:spPr>
          <a:xfrm flipH="1">
            <a:off x="1063440" y="4638600"/>
            <a:ext cx="86256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51" name=""/>
          <p:cNvSpPr/>
          <p:nvPr/>
        </p:nvSpPr>
        <p:spPr>
          <a:xfrm flipH="1" rot="19281600">
            <a:off x="2516040" y="2742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00800" y="3200400"/>
            <a:ext cx="2590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x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38" idx="0"/>
            <a:endCxn id="527" idx="0"/>
          </p:cNvCxnSpPr>
          <p:nvPr/>
        </p:nvCxnSpPr>
        <p:spPr>
          <a:xfrm rot="5400000">
            <a:off x="4189320" y="-2056680"/>
            <a:ext cx="2160" cy="7011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cxnSp>
        <p:nvCxnSpPr>
          <p:cNvPr id="554" name=""/>
          <p:cNvCxnSpPr/>
          <p:nvPr/>
        </p:nvCxnSpPr>
        <p:spPr>
          <a:xfrm flipV="1" rot="10800000">
            <a:off x="5790600" y="2132640"/>
            <a:ext cx="610200" cy="3610440"/>
          </a:xfrm>
          <a:prstGeom prst="bentConnector3">
            <a:avLst>
              <a:gd name="adj1" fmla="val 31227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555" name=""/>
          <p:cNvSpPr/>
          <p:nvPr/>
        </p:nvSpPr>
        <p:spPr>
          <a:xfrm>
            <a:off x="533412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876920" y="56386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between thread stat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dicate/transition net mode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vity ch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uing model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724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4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2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-137520" y="4330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=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2171160" y="186696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"/>
          <p:cNvCxnSpPr>
            <a:stCxn id="565" idx="6"/>
            <a:endCxn id="563" idx="2"/>
          </p:cNvCxnSpPr>
          <p:nvPr/>
        </p:nvCxnSpPr>
        <p:spPr>
          <a:xfrm>
            <a:off x="1219320" y="1980720"/>
            <a:ext cx="12196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3" idx="0"/>
            <a:endCxn id="559" idx="2"/>
          </p:cNvCxnSpPr>
          <p:nvPr/>
        </p:nvCxnSpPr>
        <p:spPr>
          <a:xfrm>
            <a:off x="2666520" y="1980720"/>
            <a:ext cx="20577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304920" y="35812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8564000">
            <a:off x="1485360" y="2933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1" idx="0"/>
            <a:endCxn id="567" idx="2"/>
          </p:cNvCxnSpPr>
          <p:nvPr/>
        </p:nvCxnSpPr>
        <p:spPr>
          <a:xfrm flipV="1">
            <a:off x="685440" y="3809520"/>
            <a:ext cx="108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7" idx="0"/>
            <a:endCxn id="565" idx="4"/>
          </p:cNvCxnSpPr>
          <p:nvPr/>
        </p:nvCxnSpPr>
        <p:spPr>
          <a:xfrm flipV="1">
            <a:off x="685440" y="251388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507480" y="14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5258520" y="2590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876920" y="365760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"/>
          <p:cNvCxnSpPr>
            <a:stCxn id="559" idx="4"/>
            <a:endCxn id="573" idx="0"/>
          </p:cNvCxnSpPr>
          <p:nvPr/>
        </p:nvCxnSpPr>
        <p:spPr>
          <a:xfrm flipV="1" rot="10800000">
            <a:off x="5257080" y="2514240"/>
            <a:ext cx="10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73" idx="2"/>
            <a:endCxn id="560" idx="0"/>
          </p:cNvCxnSpPr>
          <p:nvPr/>
        </p:nvCxnSpPr>
        <p:spPr>
          <a:xfrm flipV="1" rot="10800000">
            <a:off x="5257080" y="388584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152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400800" y="1447920"/>
            <a:ext cx="2590920" cy="1310760"/>
          </a:xfrm>
          <a:prstGeom prst="rect">
            <a:avLst/>
          </a:prstGeom>
          <a:solidFill>
            <a:srgbClr val="d9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 simulation 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t_in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placed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iting for static sensivity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 placed i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2305200">
            <a:off x="3125520" y="4647960"/>
            <a:ext cx="16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6200000">
            <a:off x="2019240" y="560052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"/>
          <p:cNvCxnSpPr>
            <a:stCxn id="560" idx="2"/>
            <a:endCxn id="578" idx="2"/>
          </p:cNvCxnSpPr>
          <p:nvPr/>
        </p:nvCxnSpPr>
        <p:spPr>
          <a:xfrm rot="10800000">
            <a:off x="2513880" y="5714280"/>
            <a:ext cx="2210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80" name=""/>
          <p:cNvCxnSpPr>
            <a:stCxn id="578" idx="0"/>
            <a:endCxn id="561" idx="6"/>
          </p:cNvCxnSpPr>
          <p:nvPr/>
        </p:nvCxnSpPr>
        <p:spPr>
          <a:xfrm rot="10800000">
            <a:off x="1218600" y="5714280"/>
            <a:ext cx="1067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"/>
          <p:cNvSpPr/>
          <p:nvPr/>
        </p:nvSpPr>
        <p:spPr>
          <a:xfrm>
            <a:off x="2591640" y="5715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25924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3" name=""/>
          <p:cNvCxnSpPr>
            <a:stCxn id="560" idx="1"/>
            <a:endCxn id="568" idx="2"/>
          </p:cNvCxnSpPr>
          <p:nvPr/>
        </p:nvCxnSpPr>
        <p:spPr>
          <a:xfrm flipH="1" flipV="1">
            <a:off x="1953360" y="3119040"/>
            <a:ext cx="2926440" cy="22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84" name=""/>
          <p:cNvCxnSpPr>
            <a:stCxn id="568" idx="0"/>
            <a:endCxn id="565" idx="5"/>
          </p:cNvCxnSpPr>
          <p:nvPr/>
        </p:nvCxnSpPr>
        <p:spPr>
          <a:xfrm flipH="1" flipV="1">
            <a:off x="1063440" y="2358360"/>
            <a:ext cx="7149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85" name=""/>
          <p:cNvSpPr/>
          <p:nvPr/>
        </p:nvSpPr>
        <p:spPr>
          <a:xfrm rot="2115600">
            <a:off x="3355920" y="4114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out°/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3221400">
            <a:off x="1638000" y="44578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"/>
          <p:cNvCxnSpPr>
            <a:stCxn id="559" idx="3"/>
            <a:endCxn id="586" idx="0"/>
          </p:cNvCxnSpPr>
          <p:nvPr/>
        </p:nvCxnSpPr>
        <p:spPr>
          <a:xfrm flipH="1">
            <a:off x="2111040" y="2358720"/>
            <a:ext cx="2769120" cy="21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88" name=""/>
          <p:cNvCxnSpPr>
            <a:stCxn id="586" idx="2"/>
            <a:endCxn id="561" idx="7"/>
          </p:cNvCxnSpPr>
          <p:nvPr/>
        </p:nvCxnSpPr>
        <p:spPr>
          <a:xfrm flipH="1">
            <a:off x="1063440" y="4638600"/>
            <a:ext cx="86256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89" name=""/>
          <p:cNvSpPr/>
          <p:nvPr/>
        </p:nvSpPr>
        <p:spPr>
          <a:xfrm flipH="1" rot="19281600">
            <a:off x="2516040" y="2742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00800" y="3200400"/>
            <a:ext cx="2590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x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yc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"/>
          <p:cNvCxnSpPr>
            <a:stCxn id="576" idx="0"/>
            <a:endCxn id="565" idx="0"/>
          </p:cNvCxnSpPr>
          <p:nvPr/>
        </p:nvCxnSpPr>
        <p:spPr>
          <a:xfrm rot="5400000">
            <a:off x="4189320" y="-2056680"/>
            <a:ext cx="2160" cy="7011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cxnSp>
        <p:nvCxnSpPr>
          <p:cNvPr id="592" name=""/>
          <p:cNvCxnSpPr/>
          <p:nvPr/>
        </p:nvCxnSpPr>
        <p:spPr>
          <a:xfrm flipV="1" rot="10800000">
            <a:off x="5790600" y="2132640"/>
            <a:ext cx="610200" cy="3610440"/>
          </a:xfrm>
          <a:prstGeom prst="bentConnector3">
            <a:avLst>
              <a:gd name="adj1" fmla="val 31227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593" name=""/>
          <p:cNvSpPr/>
          <p:nvPr/>
        </p:nvSpPr>
        <p:spPr>
          <a:xfrm>
            <a:off x="533412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292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56386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between thread stat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dicate/transition net mode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vity ch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uing model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724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24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2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-137520" y="4330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=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400000">
            <a:off x="2171160" y="186696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"/>
          <p:cNvCxnSpPr>
            <a:stCxn id="603" idx="6"/>
            <a:endCxn id="601" idx="2"/>
          </p:cNvCxnSpPr>
          <p:nvPr/>
        </p:nvCxnSpPr>
        <p:spPr>
          <a:xfrm>
            <a:off x="1219320" y="1980720"/>
            <a:ext cx="12196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601" idx="0"/>
            <a:endCxn id="597" idx="2"/>
          </p:cNvCxnSpPr>
          <p:nvPr/>
        </p:nvCxnSpPr>
        <p:spPr>
          <a:xfrm>
            <a:off x="2666520" y="1980720"/>
            <a:ext cx="20577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304920" y="35812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8564000">
            <a:off x="1485360" y="2933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"/>
          <p:cNvCxnSpPr>
            <a:stCxn id="599" idx="0"/>
            <a:endCxn id="605" idx="2"/>
          </p:cNvCxnSpPr>
          <p:nvPr/>
        </p:nvCxnSpPr>
        <p:spPr>
          <a:xfrm flipV="1">
            <a:off x="685440" y="3809520"/>
            <a:ext cx="108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605" idx="0"/>
            <a:endCxn id="603" idx="4"/>
          </p:cNvCxnSpPr>
          <p:nvPr/>
        </p:nvCxnSpPr>
        <p:spPr>
          <a:xfrm flipV="1">
            <a:off x="685440" y="251388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3507480" y="14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258520" y="2590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876920" y="365760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597" idx="4"/>
            <a:endCxn id="611" idx="0"/>
          </p:cNvCxnSpPr>
          <p:nvPr/>
        </p:nvCxnSpPr>
        <p:spPr>
          <a:xfrm flipV="1" rot="10800000">
            <a:off x="5257080" y="2514240"/>
            <a:ext cx="10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611" idx="2"/>
            <a:endCxn id="598" idx="0"/>
          </p:cNvCxnSpPr>
          <p:nvPr/>
        </p:nvCxnSpPr>
        <p:spPr>
          <a:xfrm flipV="1" rot="10800000">
            <a:off x="5257080" y="388584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"/>
          <p:cNvSpPr/>
          <p:nvPr/>
        </p:nvSpPr>
        <p:spPr>
          <a:xfrm>
            <a:off x="152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00800" y="1447920"/>
            <a:ext cx="2590920" cy="1310760"/>
          </a:xfrm>
          <a:prstGeom prst="rect">
            <a:avLst/>
          </a:prstGeom>
          <a:solidFill>
            <a:srgbClr val="d9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 simulation 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t_in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placed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iting for static sensivity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 placed i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rot="2305200">
            <a:off x="3125520" y="4647960"/>
            <a:ext cx="16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2019240" y="560052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598" idx="2"/>
            <a:endCxn id="616" idx="2"/>
          </p:cNvCxnSpPr>
          <p:nvPr/>
        </p:nvCxnSpPr>
        <p:spPr>
          <a:xfrm rot="10800000">
            <a:off x="2513880" y="5714280"/>
            <a:ext cx="2210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18" name=""/>
          <p:cNvCxnSpPr>
            <a:stCxn id="616" idx="0"/>
            <a:endCxn id="599" idx="6"/>
          </p:cNvCxnSpPr>
          <p:nvPr/>
        </p:nvCxnSpPr>
        <p:spPr>
          <a:xfrm rot="10800000">
            <a:off x="1218600" y="5714280"/>
            <a:ext cx="1067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"/>
          <p:cNvSpPr/>
          <p:nvPr/>
        </p:nvSpPr>
        <p:spPr>
          <a:xfrm>
            <a:off x="2591640" y="5715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25924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"/>
          <p:cNvCxnSpPr>
            <a:stCxn id="598" idx="1"/>
            <a:endCxn id="606" idx="2"/>
          </p:cNvCxnSpPr>
          <p:nvPr/>
        </p:nvCxnSpPr>
        <p:spPr>
          <a:xfrm flipH="1" flipV="1">
            <a:off x="1953360" y="3119040"/>
            <a:ext cx="2926440" cy="22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2" name=""/>
          <p:cNvCxnSpPr>
            <a:stCxn id="606" idx="0"/>
            <a:endCxn id="603" idx="5"/>
          </p:cNvCxnSpPr>
          <p:nvPr/>
        </p:nvCxnSpPr>
        <p:spPr>
          <a:xfrm flipH="1" flipV="1">
            <a:off x="1063440" y="2358360"/>
            <a:ext cx="7149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23" name=""/>
          <p:cNvSpPr/>
          <p:nvPr/>
        </p:nvSpPr>
        <p:spPr>
          <a:xfrm rot="2115600">
            <a:off x="3355920" y="4114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out°/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3221400">
            <a:off x="1638000" y="44578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"/>
          <p:cNvCxnSpPr>
            <a:stCxn id="597" idx="3"/>
            <a:endCxn id="624" idx="0"/>
          </p:cNvCxnSpPr>
          <p:nvPr/>
        </p:nvCxnSpPr>
        <p:spPr>
          <a:xfrm flipH="1">
            <a:off x="2111040" y="2358720"/>
            <a:ext cx="2769120" cy="21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6" name=""/>
          <p:cNvCxnSpPr>
            <a:stCxn id="624" idx="2"/>
            <a:endCxn id="599" idx="7"/>
          </p:cNvCxnSpPr>
          <p:nvPr/>
        </p:nvCxnSpPr>
        <p:spPr>
          <a:xfrm flipH="1">
            <a:off x="1063440" y="4638600"/>
            <a:ext cx="86256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27" name=""/>
          <p:cNvSpPr/>
          <p:nvPr/>
        </p:nvSpPr>
        <p:spPr>
          <a:xfrm flipH="1" rot="19281600">
            <a:off x="2516040" y="2742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400800" y="3200400"/>
            <a:ext cx="259092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re can be several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"/>
          <p:cNvCxnSpPr>
            <a:stCxn id="614" idx="0"/>
            <a:endCxn id="603" idx="0"/>
          </p:cNvCxnSpPr>
          <p:nvPr/>
        </p:nvCxnSpPr>
        <p:spPr>
          <a:xfrm rot="5400000">
            <a:off x="4189320" y="-2056680"/>
            <a:ext cx="2160" cy="7011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cxnSp>
        <p:nvCxnSpPr>
          <p:cNvPr id="630" name=""/>
          <p:cNvCxnSpPr/>
          <p:nvPr/>
        </p:nvCxnSpPr>
        <p:spPr>
          <a:xfrm flipV="1" rot="10800000">
            <a:off x="5790600" y="2132640"/>
            <a:ext cx="610200" cy="3610440"/>
          </a:xfrm>
          <a:prstGeom prst="bentConnector3">
            <a:avLst>
              <a:gd name="adj1" fmla="val 31227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631" name=""/>
          <p:cNvSpPr/>
          <p:nvPr/>
        </p:nvSpPr>
        <p:spPr>
          <a:xfrm>
            <a:off x="533412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56386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0840"/>
            <a:ext cx="8366040" cy="37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3680" indent="-196920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 are basic building blocks of a System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96920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ule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2764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function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2764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/or sub-modules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erarchical 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96920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2764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wit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2764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erived explicitly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between thread stat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dicate/transition net mode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vity ch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uing model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724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24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2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-137520" y="4330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=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5400000">
            <a:off x="2171160" y="186696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"/>
          <p:cNvCxnSpPr>
            <a:stCxn id="641" idx="6"/>
            <a:endCxn id="639" idx="2"/>
          </p:cNvCxnSpPr>
          <p:nvPr/>
        </p:nvCxnSpPr>
        <p:spPr>
          <a:xfrm>
            <a:off x="1219320" y="1980720"/>
            <a:ext cx="12196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"/>
          <p:cNvCxnSpPr>
            <a:stCxn id="639" idx="0"/>
            <a:endCxn id="635" idx="2"/>
          </p:cNvCxnSpPr>
          <p:nvPr/>
        </p:nvCxnSpPr>
        <p:spPr>
          <a:xfrm>
            <a:off x="2666520" y="1980720"/>
            <a:ext cx="20577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3" name=""/>
          <p:cNvSpPr/>
          <p:nvPr/>
        </p:nvSpPr>
        <p:spPr>
          <a:xfrm>
            <a:off x="304920" y="35812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8564000">
            <a:off x="1485360" y="2933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"/>
          <p:cNvCxnSpPr>
            <a:stCxn id="637" idx="0"/>
            <a:endCxn id="643" idx="2"/>
          </p:cNvCxnSpPr>
          <p:nvPr/>
        </p:nvCxnSpPr>
        <p:spPr>
          <a:xfrm flipV="1">
            <a:off x="685440" y="3809520"/>
            <a:ext cx="108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43" idx="0"/>
            <a:endCxn id="641" idx="4"/>
          </p:cNvCxnSpPr>
          <p:nvPr/>
        </p:nvCxnSpPr>
        <p:spPr>
          <a:xfrm flipV="1">
            <a:off x="685440" y="251388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7" name=""/>
          <p:cNvSpPr/>
          <p:nvPr/>
        </p:nvSpPr>
        <p:spPr>
          <a:xfrm>
            <a:off x="3507480" y="14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5258520" y="2590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876920" y="365760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35" idx="4"/>
            <a:endCxn id="649" idx="0"/>
          </p:cNvCxnSpPr>
          <p:nvPr/>
        </p:nvCxnSpPr>
        <p:spPr>
          <a:xfrm flipV="1" rot="10800000">
            <a:off x="5257080" y="2514240"/>
            <a:ext cx="10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9" idx="2"/>
            <a:endCxn id="636" idx="0"/>
          </p:cNvCxnSpPr>
          <p:nvPr/>
        </p:nvCxnSpPr>
        <p:spPr>
          <a:xfrm flipV="1" rot="10800000">
            <a:off x="5257080" y="388584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152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00800" y="1447920"/>
            <a:ext cx="2590920" cy="1310760"/>
          </a:xfrm>
          <a:prstGeom prst="rect">
            <a:avLst/>
          </a:prstGeom>
          <a:solidFill>
            <a:srgbClr val="d9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 simulation 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t_in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placed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iting for static sensivity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 placed i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rot="2305200">
            <a:off x="3125520" y="4647960"/>
            <a:ext cx="16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16200000">
            <a:off x="2019240" y="560052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"/>
          <p:cNvCxnSpPr>
            <a:stCxn id="636" idx="2"/>
            <a:endCxn id="654" idx="2"/>
          </p:cNvCxnSpPr>
          <p:nvPr/>
        </p:nvCxnSpPr>
        <p:spPr>
          <a:xfrm rot="10800000">
            <a:off x="2513880" y="5714280"/>
            <a:ext cx="2210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56" name=""/>
          <p:cNvCxnSpPr>
            <a:stCxn id="654" idx="0"/>
            <a:endCxn id="637" idx="6"/>
          </p:cNvCxnSpPr>
          <p:nvPr/>
        </p:nvCxnSpPr>
        <p:spPr>
          <a:xfrm rot="10800000">
            <a:off x="1218600" y="5714280"/>
            <a:ext cx="1067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"/>
          <p:cNvSpPr/>
          <p:nvPr/>
        </p:nvSpPr>
        <p:spPr>
          <a:xfrm>
            <a:off x="2591640" y="5715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25924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9" name=""/>
          <p:cNvCxnSpPr>
            <a:stCxn id="636" idx="1"/>
            <a:endCxn id="644" idx="2"/>
          </p:cNvCxnSpPr>
          <p:nvPr/>
        </p:nvCxnSpPr>
        <p:spPr>
          <a:xfrm flipH="1" flipV="1">
            <a:off x="1953360" y="3119040"/>
            <a:ext cx="2926440" cy="22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60" name=""/>
          <p:cNvCxnSpPr>
            <a:stCxn id="644" idx="0"/>
            <a:endCxn id="641" idx="5"/>
          </p:cNvCxnSpPr>
          <p:nvPr/>
        </p:nvCxnSpPr>
        <p:spPr>
          <a:xfrm flipH="1" flipV="1">
            <a:off x="1063440" y="2358360"/>
            <a:ext cx="7149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61" name=""/>
          <p:cNvSpPr/>
          <p:nvPr/>
        </p:nvSpPr>
        <p:spPr>
          <a:xfrm rot="2115600">
            <a:off x="3355920" y="4114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out°/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3221400">
            <a:off x="1638000" y="44578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"/>
          <p:cNvCxnSpPr>
            <a:stCxn id="635" idx="3"/>
            <a:endCxn id="662" idx="0"/>
          </p:cNvCxnSpPr>
          <p:nvPr/>
        </p:nvCxnSpPr>
        <p:spPr>
          <a:xfrm flipH="1">
            <a:off x="2111040" y="2358720"/>
            <a:ext cx="2769120" cy="21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64" name=""/>
          <p:cNvCxnSpPr>
            <a:stCxn id="662" idx="2"/>
            <a:endCxn id="637" idx="7"/>
          </p:cNvCxnSpPr>
          <p:nvPr/>
        </p:nvCxnSpPr>
        <p:spPr>
          <a:xfrm flipH="1">
            <a:off x="1063440" y="4638600"/>
            <a:ext cx="86256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65" name=""/>
          <p:cNvSpPr/>
          <p:nvPr/>
        </p:nvSpPr>
        <p:spPr>
          <a:xfrm flipH="1" rot="19281600">
            <a:off x="2516040" y="2742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400800" y="3200400"/>
            <a:ext cx="259092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re can be several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ycl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652" idx="0"/>
            <a:endCxn id="641" idx="0"/>
          </p:cNvCxnSpPr>
          <p:nvPr/>
        </p:nvCxnSpPr>
        <p:spPr>
          <a:xfrm rot="5400000">
            <a:off x="4189320" y="-2056680"/>
            <a:ext cx="2160" cy="7011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cxnSp>
        <p:nvCxnSpPr>
          <p:cNvPr id="668" name=""/>
          <p:cNvCxnSpPr/>
          <p:nvPr/>
        </p:nvCxnSpPr>
        <p:spPr>
          <a:xfrm flipV="1" rot="10800000">
            <a:off x="5790600" y="2132640"/>
            <a:ext cx="610200" cy="3610440"/>
          </a:xfrm>
          <a:prstGeom prst="bentConnector3">
            <a:avLst>
              <a:gd name="adj1" fmla="val 31227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669" name=""/>
          <p:cNvSpPr/>
          <p:nvPr/>
        </p:nvSpPr>
        <p:spPr>
          <a:xfrm>
            <a:off x="533412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05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56386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between thread stat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dicate/transition net mode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vity ch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uing model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24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724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-137520" y="4330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=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5400000">
            <a:off x="2171160" y="186696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9" idx="6"/>
            <a:endCxn id="677" idx="2"/>
          </p:cNvCxnSpPr>
          <p:nvPr/>
        </p:nvCxnSpPr>
        <p:spPr>
          <a:xfrm>
            <a:off x="1219320" y="1980720"/>
            <a:ext cx="12196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7" idx="0"/>
            <a:endCxn id="673" idx="2"/>
          </p:cNvCxnSpPr>
          <p:nvPr/>
        </p:nvCxnSpPr>
        <p:spPr>
          <a:xfrm>
            <a:off x="2666520" y="1980720"/>
            <a:ext cx="20577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304920" y="35812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8564000">
            <a:off x="1485360" y="2933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"/>
          <p:cNvCxnSpPr>
            <a:stCxn id="675" idx="0"/>
            <a:endCxn id="681" idx="2"/>
          </p:cNvCxnSpPr>
          <p:nvPr/>
        </p:nvCxnSpPr>
        <p:spPr>
          <a:xfrm flipV="1">
            <a:off x="685440" y="3809520"/>
            <a:ext cx="108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81" idx="0"/>
            <a:endCxn id="679" idx="4"/>
          </p:cNvCxnSpPr>
          <p:nvPr/>
        </p:nvCxnSpPr>
        <p:spPr>
          <a:xfrm flipV="1">
            <a:off x="685440" y="251388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5" name=""/>
          <p:cNvSpPr/>
          <p:nvPr/>
        </p:nvSpPr>
        <p:spPr>
          <a:xfrm>
            <a:off x="3507480" y="14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258520" y="2590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876920" y="365760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"/>
          <p:cNvCxnSpPr>
            <a:stCxn id="673" idx="4"/>
            <a:endCxn id="687" idx="0"/>
          </p:cNvCxnSpPr>
          <p:nvPr/>
        </p:nvCxnSpPr>
        <p:spPr>
          <a:xfrm flipV="1" rot="10800000">
            <a:off x="5257080" y="2514240"/>
            <a:ext cx="10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7" idx="2"/>
            <a:endCxn id="674" idx="0"/>
          </p:cNvCxnSpPr>
          <p:nvPr/>
        </p:nvCxnSpPr>
        <p:spPr>
          <a:xfrm flipV="1" rot="10800000">
            <a:off x="5257080" y="388584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9" name=""/>
          <p:cNvSpPr/>
          <p:nvPr/>
        </p:nvSpPr>
        <p:spPr>
          <a:xfrm>
            <a:off x="152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400800" y="1447920"/>
            <a:ext cx="2590920" cy="1310760"/>
          </a:xfrm>
          <a:prstGeom prst="rect">
            <a:avLst/>
          </a:prstGeom>
          <a:solidFill>
            <a:srgbClr val="d9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 simulation 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t_in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placed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iting for static sensivity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 placed i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2305200">
            <a:off x="3125520" y="4647960"/>
            <a:ext cx="16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16200000">
            <a:off x="2019240" y="560052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3" name=""/>
          <p:cNvCxnSpPr>
            <a:stCxn id="674" idx="2"/>
            <a:endCxn id="692" idx="2"/>
          </p:cNvCxnSpPr>
          <p:nvPr/>
        </p:nvCxnSpPr>
        <p:spPr>
          <a:xfrm rot="10800000">
            <a:off x="2513880" y="5714280"/>
            <a:ext cx="2210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4" name=""/>
          <p:cNvCxnSpPr>
            <a:stCxn id="692" idx="0"/>
            <a:endCxn id="675" idx="6"/>
          </p:cNvCxnSpPr>
          <p:nvPr/>
        </p:nvCxnSpPr>
        <p:spPr>
          <a:xfrm rot="10800000">
            <a:off x="1218600" y="5714280"/>
            <a:ext cx="1067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2591640" y="5715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25924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7" name=""/>
          <p:cNvCxnSpPr>
            <a:stCxn id="674" idx="1"/>
            <a:endCxn id="682" idx="2"/>
          </p:cNvCxnSpPr>
          <p:nvPr/>
        </p:nvCxnSpPr>
        <p:spPr>
          <a:xfrm flipH="1" flipV="1">
            <a:off x="1953360" y="3119040"/>
            <a:ext cx="2926440" cy="22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8" name=""/>
          <p:cNvCxnSpPr>
            <a:stCxn id="682" idx="0"/>
            <a:endCxn id="679" idx="5"/>
          </p:cNvCxnSpPr>
          <p:nvPr/>
        </p:nvCxnSpPr>
        <p:spPr>
          <a:xfrm flipH="1" flipV="1">
            <a:off x="1063440" y="2358360"/>
            <a:ext cx="7149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99" name=""/>
          <p:cNvSpPr/>
          <p:nvPr/>
        </p:nvSpPr>
        <p:spPr>
          <a:xfrm rot="2115600">
            <a:off x="3355920" y="4114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out°/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3221400">
            <a:off x="1638000" y="44578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"/>
          <p:cNvCxnSpPr>
            <a:stCxn id="673" idx="3"/>
            <a:endCxn id="700" idx="0"/>
          </p:cNvCxnSpPr>
          <p:nvPr/>
        </p:nvCxnSpPr>
        <p:spPr>
          <a:xfrm flipH="1">
            <a:off x="2111040" y="2358720"/>
            <a:ext cx="2769120" cy="21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02" name=""/>
          <p:cNvCxnSpPr>
            <a:stCxn id="700" idx="2"/>
            <a:endCxn id="675" idx="7"/>
          </p:cNvCxnSpPr>
          <p:nvPr/>
        </p:nvCxnSpPr>
        <p:spPr>
          <a:xfrm flipH="1">
            <a:off x="1063440" y="4638600"/>
            <a:ext cx="86256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03" name=""/>
          <p:cNvSpPr/>
          <p:nvPr/>
        </p:nvSpPr>
        <p:spPr>
          <a:xfrm flipH="1" rot="19281600">
            <a:off x="2516040" y="2742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400800" y="3200400"/>
            <a:ext cx="2590920" cy="1618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w the blue thread is the 1st thread to become ready; simulation time is adv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690" idx="0"/>
            <a:endCxn id="679" idx="0"/>
          </p:cNvCxnSpPr>
          <p:nvPr/>
        </p:nvCxnSpPr>
        <p:spPr>
          <a:xfrm rot="5400000">
            <a:off x="4189320" y="-2056680"/>
            <a:ext cx="2160" cy="7011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cxnSp>
        <p:nvCxnSpPr>
          <p:cNvPr id="706" name=""/>
          <p:cNvCxnSpPr/>
          <p:nvPr/>
        </p:nvCxnSpPr>
        <p:spPr>
          <a:xfrm flipV="1" rot="10800000">
            <a:off x="5790600" y="2132640"/>
            <a:ext cx="610200" cy="3610440"/>
          </a:xfrm>
          <a:prstGeom prst="bentConnector3">
            <a:avLst>
              <a:gd name="adj1" fmla="val 31227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707" name=""/>
          <p:cNvSpPr/>
          <p:nvPr/>
        </p:nvSpPr>
        <p:spPr>
          <a:xfrm>
            <a:off x="533412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1981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between thread state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dicate/transition net mode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vity ch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uing model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24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724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52280" y="5181480"/>
            <a:ext cx="106704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16200000">
            <a:off x="-137520" y="4330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=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rot="5400000">
            <a:off x="2171160" y="186696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"/>
          <p:cNvCxnSpPr>
            <a:stCxn id="717" idx="6"/>
            <a:endCxn id="715" idx="2"/>
          </p:cNvCxnSpPr>
          <p:nvPr/>
        </p:nvCxnSpPr>
        <p:spPr>
          <a:xfrm>
            <a:off x="1219320" y="1980720"/>
            <a:ext cx="12196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15" idx="0"/>
            <a:endCxn id="711" idx="2"/>
          </p:cNvCxnSpPr>
          <p:nvPr/>
        </p:nvCxnSpPr>
        <p:spPr>
          <a:xfrm>
            <a:off x="2666520" y="1980720"/>
            <a:ext cx="20577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304920" y="35812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8564000">
            <a:off x="1485360" y="2933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"/>
          <p:cNvCxnSpPr>
            <a:stCxn id="713" idx="0"/>
            <a:endCxn id="719" idx="2"/>
          </p:cNvCxnSpPr>
          <p:nvPr/>
        </p:nvCxnSpPr>
        <p:spPr>
          <a:xfrm flipV="1">
            <a:off x="685440" y="3809520"/>
            <a:ext cx="108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19" idx="0"/>
            <a:endCxn id="717" idx="4"/>
          </p:cNvCxnSpPr>
          <p:nvPr/>
        </p:nvCxnSpPr>
        <p:spPr>
          <a:xfrm flipV="1">
            <a:off x="685440" y="251388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507480" y="14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258520" y="2590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876920" y="365760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"/>
          <p:cNvCxnSpPr>
            <a:stCxn id="711" idx="4"/>
            <a:endCxn id="725" idx="0"/>
          </p:cNvCxnSpPr>
          <p:nvPr/>
        </p:nvCxnSpPr>
        <p:spPr>
          <a:xfrm flipV="1" rot="10800000">
            <a:off x="5257080" y="2514240"/>
            <a:ext cx="10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7" name=""/>
          <p:cNvCxnSpPr>
            <a:stCxn id="725" idx="2"/>
            <a:endCxn id="712" idx="0"/>
          </p:cNvCxnSpPr>
          <p:nvPr/>
        </p:nvCxnSpPr>
        <p:spPr>
          <a:xfrm flipV="1" rot="10800000">
            <a:off x="5257080" y="388584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7" name=""/>
          <p:cNvSpPr/>
          <p:nvPr/>
        </p:nvSpPr>
        <p:spPr>
          <a:xfrm>
            <a:off x="152280" y="144792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00800" y="1447920"/>
            <a:ext cx="2590920" cy="1310760"/>
          </a:xfrm>
          <a:prstGeom prst="rect">
            <a:avLst/>
          </a:prstGeom>
          <a:solidFill>
            <a:srgbClr val="d9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 simulation 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t_in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placed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iting for static sensivity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 placed i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2305200">
            <a:off x="3125520" y="4647960"/>
            <a:ext cx="16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rot="16200000">
            <a:off x="2019240" y="560052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"/>
          <p:cNvCxnSpPr>
            <a:stCxn id="712" idx="2"/>
            <a:endCxn id="730" idx="2"/>
          </p:cNvCxnSpPr>
          <p:nvPr/>
        </p:nvCxnSpPr>
        <p:spPr>
          <a:xfrm rot="10800000">
            <a:off x="2513880" y="5714280"/>
            <a:ext cx="2210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32" name=""/>
          <p:cNvCxnSpPr>
            <a:stCxn id="730" idx="0"/>
            <a:endCxn id="713" idx="6"/>
          </p:cNvCxnSpPr>
          <p:nvPr/>
        </p:nvCxnSpPr>
        <p:spPr>
          <a:xfrm rot="10800000">
            <a:off x="1218600" y="5714280"/>
            <a:ext cx="1067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"/>
          <p:cNvSpPr/>
          <p:nvPr/>
        </p:nvSpPr>
        <p:spPr>
          <a:xfrm>
            <a:off x="2591640" y="5715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525924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5" name=""/>
          <p:cNvCxnSpPr>
            <a:stCxn id="712" idx="1"/>
            <a:endCxn id="720" idx="2"/>
          </p:cNvCxnSpPr>
          <p:nvPr/>
        </p:nvCxnSpPr>
        <p:spPr>
          <a:xfrm flipH="1" flipV="1">
            <a:off x="1953360" y="3119040"/>
            <a:ext cx="2926440" cy="22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36" name=""/>
          <p:cNvCxnSpPr>
            <a:stCxn id="720" idx="0"/>
            <a:endCxn id="717" idx="5"/>
          </p:cNvCxnSpPr>
          <p:nvPr/>
        </p:nvCxnSpPr>
        <p:spPr>
          <a:xfrm flipH="1" flipV="1">
            <a:off x="1063440" y="2358360"/>
            <a:ext cx="7149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37" name=""/>
          <p:cNvSpPr/>
          <p:nvPr/>
        </p:nvSpPr>
        <p:spPr>
          <a:xfrm rot="2115600">
            <a:off x="3355920" y="411480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out°/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3221400">
            <a:off x="1638000" y="4457880"/>
            <a:ext cx="7617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stCxn id="711" idx="3"/>
            <a:endCxn id="738" idx="0"/>
          </p:cNvCxnSpPr>
          <p:nvPr/>
        </p:nvCxnSpPr>
        <p:spPr>
          <a:xfrm flipH="1">
            <a:off x="2111040" y="2358720"/>
            <a:ext cx="2769120" cy="21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40" name=""/>
          <p:cNvCxnSpPr>
            <a:stCxn id="738" idx="2"/>
            <a:endCxn id="713" idx="7"/>
          </p:cNvCxnSpPr>
          <p:nvPr/>
        </p:nvCxnSpPr>
        <p:spPr>
          <a:xfrm flipH="1">
            <a:off x="1063440" y="4638600"/>
            <a:ext cx="86256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41" name=""/>
          <p:cNvSpPr/>
          <p:nvPr/>
        </p:nvSpPr>
        <p:spPr>
          <a:xfrm flipH="1" rot="19281600">
            <a:off x="2516040" y="274284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400800" y="3200400"/>
            <a:ext cx="259092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the blue thread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"/>
          <p:cNvCxnSpPr>
            <a:stCxn id="728" idx="0"/>
            <a:endCxn id="717" idx="0"/>
          </p:cNvCxnSpPr>
          <p:nvPr/>
        </p:nvCxnSpPr>
        <p:spPr>
          <a:xfrm rot="5400000">
            <a:off x="4189320" y="-2056680"/>
            <a:ext cx="2160" cy="7011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cxnSp>
        <p:nvCxnSpPr>
          <p:cNvPr id="744" name=""/>
          <p:cNvCxnSpPr/>
          <p:nvPr/>
        </p:nvCxnSpPr>
        <p:spPr>
          <a:xfrm flipV="1" rot="10800000">
            <a:off x="5790600" y="2132640"/>
            <a:ext cx="610200" cy="3610440"/>
          </a:xfrm>
          <a:prstGeom prst="bentConnector3">
            <a:avLst>
              <a:gd name="adj1" fmla="val 31227"/>
            </a:avLst>
          </a:prstGeom>
          <a:ln w="9360">
            <a:solidFill>
              <a:srgbClr val="000000"/>
            </a:solidFill>
            <a:prstDash val="lgDash"/>
            <a:miter/>
            <a:tailEnd len="sm" type="triangle" w="sm"/>
          </a:ln>
        </p:spPr>
      </p:cxnSp>
      <p:sp>
        <p:nvSpPr>
          <p:cNvPr id="745" name=""/>
          <p:cNvSpPr/>
          <p:nvPr/>
        </p:nvSpPr>
        <p:spPr>
          <a:xfrm>
            <a:off x="533412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181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981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flow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6096240" cy="47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re is a process in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re is a process in the “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re is a process in the ready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take any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: evaluate signal chang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send event no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880" indent="-26388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t into ready pool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880" indent="-26388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e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ol, with 0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880" indent="-26388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iting pool, with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process completes (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suspends (via calls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); process to poo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Update pending signal changes; (see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c_signal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 waiting in “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po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dy po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ol: advanc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016680" y="12193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macroscopic tim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095880" y="15238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tim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// sam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477120" y="403848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477120" y="472428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388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64767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305920" y="3581280"/>
            <a:ext cx="636480" cy="1308240"/>
          </a:xfrm>
          <a:custGeom>
            <a:avLst/>
            <a:gdLst/>
            <a:ahLst/>
            <a:rect l="l" t="t" r="r" b="b"/>
            <a:pathLst>
              <a:path w="401" h="824">
                <a:moveTo>
                  <a:pt x="6" y="824"/>
                </a:moveTo>
                <a:cubicBezTo>
                  <a:pt x="62" y="808"/>
                  <a:pt x="283" y="803"/>
                  <a:pt x="342" y="728"/>
                </a:cubicBezTo>
                <a:cubicBezTo>
                  <a:pt x="401" y="653"/>
                  <a:pt x="364" y="485"/>
                  <a:pt x="360" y="374"/>
                </a:cubicBezTo>
                <a:cubicBezTo>
                  <a:pt x="356" y="263"/>
                  <a:pt x="378" y="124"/>
                  <a:pt x="318" y="62"/>
                </a:cubicBezTo>
                <a:cubicBezTo>
                  <a:pt x="258" y="0"/>
                  <a:pt x="66" y="14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915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001000" y="4191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696080" y="4191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rcRect l="4429" t="36916" r="5905" b="48452"/>
          <a:stretch/>
        </p:blipFill>
        <p:spPr>
          <a:xfrm>
            <a:off x="4572000" y="5715000"/>
            <a:ext cx="4572000" cy="7351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838080" y="2286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77120" y="335268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477120" y="266688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2388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305920" y="2895480"/>
            <a:ext cx="788760" cy="2133720"/>
          </a:xfrm>
          <a:custGeom>
            <a:avLst/>
            <a:gdLst/>
            <a:ahLst/>
            <a:rect l="l" t="t" r="r" b="b"/>
            <a:pathLst>
              <a:path w="401" h="824">
                <a:moveTo>
                  <a:pt x="6" y="824"/>
                </a:moveTo>
                <a:cubicBezTo>
                  <a:pt x="62" y="808"/>
                  <a:pt x="283" y="803"/>
                  <a:pt x="342" y="728"/>
                </a:cubicBezTo>
                <a:cubicBezTo>
                  <a:pt x="401" y="653"/>
                  <a:pt x="364" y="485"/>
                  <a:pt x="360" y="374"/>
                </a:cubicBezTo>
                <a:cubicBezTo>
                  <a:pt x="356" y="263"/>
                  <a:pt x="378" y="124"/>
                  <a:pt x="318" y="62"/>
                </a:cubicBezTo>
                <a:cubicBezTo>
                  <a:pt x="258" y="0"/>
                  <a:pt x="66" y="14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6248520" y="2971080"/>
            <a:ext cx="255600" cy="609480"/>
          </a:xfrm>
          <a:custGeom>
            <a:avLst/>
            <a:gdLst/>
            <a:ahLst/>
            <a:rect l="l" t="t" r="r" b="b"/>
            <a:pathLst>
              <a:path w="401" h="824">
                <a:moveTo>
                  <a:pt x="6" y="824"/>
                </a:moveTo>
                <a:cubicBezTo>
                  <a:pt x="62" y="808"/>
                  <a:pt x="283" y="803"/>
                  <a:pt x="342" y="728"/>
                </a:cubicBezTo>
                <a:cubicBezTo>
                  <a:pt x="401" y="653"/>
                  <a:pt x="364" y="485"/>
                  <a:pt x="360" y="374"/>
                </a:cubicBezTo>
                <a:cubicBezTo>
                  <a:pt x="356" y="263"/>
                  <a:pt x="378" y="124"/>
                  <a:pt x="318" y="62"/>
                </a:cubicBezTo>
                <a:cubicBezTo>
                  <a:pt x="258" y="0"/>
                  <a:pt x="66" y="14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6095160" y="2895480"/>
            <a:ext cx="381240" cy="1371600"/>
          </a:xfrm>
          <a:custGeom>
            <a:avLst/>
            <a:gdLst/>
            <a:ahLst/>
            <a:rect l="l" t="t" r="r" b="b"/>
            <a:pathLst>
              <a:path w="401" h="824">
                <a:moveTo>
                  <a:pt x="6" y="824"/>
                </a:moveTo>
                <a:cubicBezTo>
                  <a:pt x="62" y="808"/>
                  <a:pt x="283" y="803"/>
                  <a:pt x="342" y="728"/>
                </a:cubicBezTo>
                <a:cubicBezTo>
                  <a:pt x="401" y="653"/>
                  <a:pt x="364" y="485"/>
                  <a:pt x="360" y="374"/>
                </a:cubicBezTo>
                <a:cubicBezTo>
                  <a:pt x="356" y="263"/>
                  <a:pt x="378" y="124"/>
                  <a:pt x="318" y="62"/>
                </a:cubicBezTo>
                <a:cubicBezTo>
                  <a:pt x="258" y="0"/>
                  <a:pt x="66" y="14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66040" cy="37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can have only one pending notification, and retain no „memory“ of past not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notifications to the same event, without an intermediate trigger are resolved according to the following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rlier notification will always override one scheduled to occur later, and an immediate notification is always earlier than an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ycle delayed or timed no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event_que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6604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queues allow single events to be scheduled multiple times. If events are scheduled for the same time, they will be separated by a  cycle. All scheduled events can be cancelled with the 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_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57200" y="3429000"/>
            <a:ext cx="8366040" cy="228852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event_que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// schedule for 20 ms from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.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// schedule for 1.5 ns from now a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// for nex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_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18320" cy="49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 are key design entities and can be creat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HAS_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types of processes within mod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HREA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once, may cont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ETHO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o completion, cannot c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y c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different ways of describing structura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can be used for 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ulation cycle uses an evaluation/update cycle for signal updates, corresponding to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ycle of VHD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66040" cy="42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_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acro shorthand for deriving module classes from the library cla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ule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ule_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 of  SC_MODUL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define SC_MODU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ule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\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ru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ule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ublic sc_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 of the module bo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7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_MOD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dule_n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Declaration of modu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Member channel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Member data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Member module instances (sub-desig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De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ocess member functions (proce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Help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C_MODU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onstructor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C_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14440" y="3047760"/>
            <a:ext cx="48769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ructor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1800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/allocate sub-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1800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sub-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1800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event sensi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1800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processes with the SystemC ker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48120"/>
            <a:ext cx="396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 for SC_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ule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/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-design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-design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_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scellaneous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523880"/>
            <a:ext cx="8686800" cy="119124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ule must contain a C++ construct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 should be built using the SystemC macr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_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includ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C_HAS_PRO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ule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2004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105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,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&amp;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19400" cy="1646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ystem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ember function or class method of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invoked by the scheduler of the SystemC simulation ker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8:40:43Z</dcterms:created>
  <dc:creator>stankovi</dc:creator>
  <dc:description/>
  <dc:language>en-US</dc:language>
  <cp:lastModifiedBy>Peter Marwedel</cp:lastModifiedBy>
  <dcterms:modified xsi:type="dcterms:W3CDTF">2008-04-15T15:45:21Z</dcterms:modified>
  <cp:revision>362</cp:revision>
  <dc:subject/>
  <dc:title>Slide 1</dc:title>
</cp:coreProperties>
</file>