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14.wmf" ContentType="image/x-wmf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1.jpeg" ContentType="image/jpeg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99320" cy="9872640"/>
          </a:xfrm>
          <a:custGeom>
            <a:avLst/>
            <a:gdLst>
              <a:gd name="textAreaLeft" fmla="*/ 360 w 6799320"/>
              <a:gd name="textAreaRight" fmla="*/ 6798960 w 6799320"/>
              <a:gd name="textAreaTop" fmla="*/ 360 h 9872640"/>
              <a:gd name="textAreaBottom" fmla="*/ 9872280 h 9872640"/>
            </a:gdLst>
            <a:ahLst/>
            <a:rect l="textAreaLeft" t="textAreaTop" r="textAreaRight" b="textAreaBottom"/>
            <a:pathLst>
              <a:path w="21600" h="31363">
                <a:moveTo>
                  <a:pt x="5" y="0"/>
                </a:moveTo>
                <a:arcTo wR="5" hR="5" stAng="16200000" swAng="-5400000"/>
                <a:lnTo>
                  <a:pt x="0" y="31358"/>
                </a:lnTo>
                <a:arcTo wR="5" hR="5" stAng="10800000" swAng="-5400000"/>
                <a:lnTo>
                  <a:pt x="21595" y="313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403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ldImg"/>
          </p:nvPr>
        </p:nvSpPr>
        <p:spPr>
          <a:xfrm>
            <a:off x="0" y="74988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40320" cy="444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wait: Exploiting cooperative multitasking: no preemption between the 2 li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40320" cy="44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iting cooperative multitasking: no preemption between the 2 li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840" y="268164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4372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8536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1388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684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8536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1388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6604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0" y="70920"/>
            <a:ext cx="914400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6604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372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268164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4372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8536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1388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8536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1388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0" y="70920"/>
            <a:ext cx="914400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4372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5280"/>
            <a:ext cx="8366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3160" indent="-270000"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95320" indent="-2682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95320" indent="-2682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95320" indent="-2682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48720" y="6507000"/>
            <a:ext cx="112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 </a:t>
            </a:r>
            <a:fld id="{D76FEB09-CC01-4CDB-B7A4-60E10161C41E}" type="slidenum"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95280" y="6437160"/>
            <a:ext cx="2043360" cy="459000"/>
            <a:chOff x="395280" y="6437160"/>
            <a:chExt cx="2043360" cy="459000"/>
          </a:xfrm>
        </p:grpSpPr>
        <p:pic>
          <p:nvPicPr>
            <p:cNvPr id="4" name="" descr=""/>
            <p:cNvPicPr/>
            <p:nvPr/>
          </p:nvPicPr>
          <p:blipFill>
            <a:blip r:embed="rId2"/>
            <a:srcRect l="0" t="0" r="75556" b="0"/>
            <a:stretch/>
          </p:blipFill>
          <p:spPr>
            <a:xfrm>
              <a:off x="395280" y="6491160"/>
              <a:ext cx="48564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787320" y="6437160"/>
              <a:ext cx="1651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sche universitä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rtmu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250920" y="6453360"/>
            <a:ext cx="8642160" cy="0"/>
          </a:xfrm>
          <a:prstGeom prst="line">
            <a:avLst/>
          </a:prstGeom>
          <a:ln w="38160">
            <a:solidFill>
              <a:srgbClr val="84b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50920" y="1125360"/>
            <a:ext cx="8642160" cy="0"/>
          </a:xfrm>
          <a:prstGeom prst="line">
            <a:avLst/>
          </a:prstGeom>
          <a:ln w="38160">
            <a:solidFill>
              <a:srgbClr val="84b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6480"/>
            <a:ext cx="9144000" cy="0"/>
          </a:xfrm>
          <a:prstGeom prst="line">
            <a:avLst/>
          </a:prstGeom>
          <a:ln w="38160">
            <a:solidFill>
              <a:srgbClr val="84b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770200" y="6437160"/>
            <a:ext cx="1819440" cy="459000"/>
            <a:chOff x="2770200" y="6437160"/>
            <a:chExt cx="1819440" cy="459000"/>
          </a:xfrm>
        </p:grpSpPr>
        <p:pic>
          <p:nvPicPr>
            <p:cNvPr id="10" name="" descr=""/>
            <p:cNvPicPr/>
            <p:nvPr/>
          </p:nvPicPr>
          <p:blipFill>
            <a:blip r:embed="rId3"/>
            <a:srcRect l="0" t="461" r="71888" b="44721"/>
            <a:stretch/>
          </p:blipFill>
          <p:spPr>
            <a:xfrm>
              <a:off x="2770200" y="6524640"/>
              <a:ext cx="40500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3129120" y="6437160"/>
              <a:ext cx="146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kultät für informati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4572000" y="6437160"/>
            <a:ext cx="27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.Marwedel,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k 12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538200" y="-3492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Arial"/>
              </a:rPr>
              <a:t>Universität Dortm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538200" y="-3492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Arial"/>
              </a:rPr>
              <a:t>Universität Dortm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11840" y="378000"/>
            <a:ext cx="388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kkurat Light Office"/>
                <a:ea typeface="ヒラギノ角ゴ Pro W3"/>
              </a:rPr>
              <a:t>Fakultät für Informat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kkurat Light Office"/>
                <a:ea typeface="ヒラギノ角ゴ Pro W3"/>
              </a:rPr>
              <a:t>Informatik 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03280" y="330120"/>
            <a:ext cx="3184560" cy="590400"/>
            <a:chOff x="503280" y="330120"/>
            <a:chExt cx="3184560" cy="5904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rcRect l="0" t="0" r="75556" b="0"/>
            <a:stretch/>
          </p:blipFill>
          <p:spPr>
            <a:xfrm>
              <a:off x="503280" y="330120"/>
              <a:ext cx="79056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182600" y="395280"/>
              <a:ext cx="250524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kkurat Light Office"/>
                  <a:ea typeface="ヒラギノ角ゴ Pro W3"/>
                </a:rPr>
                <a:t>technische universität dortm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538200" y="-3492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Arial"/>
              </a:rPr>
              <a:t>Universität Dortm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8200" y="-3492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Arial"/>
              </a:rPr>
              <a:t>Universität Dortm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ctr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90520" algn="ctr"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98440" algn="ctr"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301680" algn="ctr"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301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301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. Marwedel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5562720"/>
            <a:ext cx="8169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 Partially using slides prepared by Tatjana Stankovic from the University of Nis (Serbia and  Montenegro), visiting the University of Dortmund under the TEMPUS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se slides contain Microsoft cliparts. All usage restrictions app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5627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105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,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 &amp;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19400" cy="1646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4000" y="407664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C language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95280" y="1268280"/>
            <a:ext cx="8304120" cy="5104080"/>
            <a:chOff x="395280" y="1268280"/>
            <a:chExt cx="8304120" cy="5104080"/>
          </a:xfrm>
        </p:grpSpPr>
        <p:sp>
          <p:nvSpPr>
            <p:cNvPr id="140" name=""/>
            <p:cNvSpPr/>
            <p:nvPr/>
          </p:nvSpPr>
          <p:spPr>
            <a:xfrm>
              <a:off x="395280" y="1268280"/>
              <a:ext cx="8304120" cy="5104080"/>
            </a:xfrm>
            <a:prstGeom prst="roundRect">
              <a:avLst>
                <a:gd name="adj" fmla="val 2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612360" y="5392800"/>
              <a:ext cx="7941960" cy="837720"/>
              <a:chOff x="612360" y="5392800"/>
              <a:chExt cx="7941960" cy="837720"/>
            </a:xfrm>
          </p:grpSpPr>
          <p:sp>
            <p:nvSpPr>
              <p:cNvPr id="142" name=""/>
              <p:cNvSpPr/>
              <p:nvPr/>
            </p:nvSpPr>
            <p:spPr>
              <a:xfrm>
                <a:off x="612360" y="5392800"/>
                <a:ext cx="7941960" cy="837720"/>
              </a:xfrm>
              <a:prstGeom prst="roundRect">
                <a:avLst>
                  <a:gd name="adj" fmla="val 185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12360" y="5392800"/>
                <a:ext cx="7941960" cy="837720"/>
              </a:xfrm>
              <a:prstGeom prst="roundRect">
                <a:avLst>
                  <a:gd name="adj" fmla="val 18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++ Language Standar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612360" y="3155040"/>
              <a:ext cx="3897720" cy="2096280"/>
              <a:chOff x="612360" y="3155040"/>
              <a:chExt cx="3897720" cy="2096280"/>
            </a:xfrm>
          </p:grpSpPr>
          <p:sp>
            <p:nvSpPr>
              <p:cNvPr id="145" name=""/>
              <p:cNvSpPr/>
              <p:nvPr/>
            </p:nvSpPr>
            <p:spPr>
              <a:xfrm>
                <a:off x="612360" y="3155040"/>
                <a:ext cx="3897720" cy="2096280"/>
              </a:xfrm>
              <a:prstGeom prst="roundRect">
                <a:avLst>
                  <a:gd name="adj" fmla="val 74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12360" y="3155040"/>
                <a:ext cx="3897720" cy="209628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re Languag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du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cess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v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nterfac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Channe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Event-driven simulation kerne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655160" y="3155040"/>
              <a:ext cx="3897720" cy="2096280"/>
              <a:chOff x="4655160" y="3155040"/>
              <a:chExt cx="3897720" cy="2096280"/>
            </a:xfrm>
          </p:grpSpPr>
          <p:sp>
            <p:nvSpPr>
              <p:cNvPr id="148" name=""/>
              <p:cNvSpPr/>
              <p:nvPr/>
            </p:nvSpPr>
            <p:spPr>
              <a:xfrm>
                <a:off x="4655160" y="3155040"/>
                <a:ext cx="3897720" cy="2096280"/>
              </a:xfrm>
              <a:prstGeom prst="roundRect">
                <a:avLst>
                  <a:gd name="adj" fmla="val 74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655160" y="3155040"/>
                <a:ext cx="3897720" cy="209628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ata typ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its and bit-vecto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bitrary precision intege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ixed-point numbe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4-valued logic types, logic-vecto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++ user defined typ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12360" y="2247480"/>
              <a:ext cx="7941960" cy="837720"/>
              <a:chOff x="612360" y="2247480"/>
              <a:chExt cx="7941960" cy="837720"/>
            </a:xfrm>
          </p:grpSpPr>
          <p:sp>
            <p:nvSpPr>
              <p:cNvPr id="151" name=""/>
              <p:cNvSpPr/>
              <p:nvPr/>
            </p:nvSpPr>
            <p:spPr>
              <a:xfrm>
                <a:off x="612360" y="2247480"/>
                <a:ext cx="7941960" cy="837720"/>
              </a:xfrm>
              <a:prstGeom prst="roundRect">
                <a:avLst>
                  <a:gd name="adj" fmla="val 185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12360" y="2247480"/>
                <a:ext cx="7941960" cy="837720"/>
              </a:xfrm>
              <a:prstGeom prst="roundRect">
                <a:avLst>
                  <a:gd name="adj" fmla="val 18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lementary Channel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ignal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imer,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 Mutex, Semaphore, FIFO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12360" y="1337760"/>
              <a:ext cx="3537360" cy="837720"/>
              <a:chOff x="612360" y="1337760"/>
              <a:chExt cx="3537360" cy="837720"/>
            </a:xfrm>
          </p:grpSpPr>
          <p:sp>
            <p:nvSpPr>
              <p:cNvPr id="154" name=""/>
              <p:cNvSpPr/>
              <p:nvPr/>
            </p:nvSpPr>
            <p:spPr>
              <a:xfrm>
                <a:off x="612360" y="1337760"/>
                <a:ext cx="3537360" cy="837720"/>
              </a:xfrm>
              <a:prstGeom prst="roundRect">
                <a:avLst>
                  <a:gd name="adj" fmla="val 185"/>
                </a:avLst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12360" y="1337760"/>
                <a:ext cx="3537360" cy="837720"/>
              </a:xfrm>
              <a:prstGeom prst="roundRect">
                <a:avLst>
                  <a:gd name="adj" fmla="val 18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hannels for Mo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Kahn process networks, SDF, et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366080" y="1337760"/>
              <a:ext cx="4186800" cy="837720"/>
              <a:chOff x="4366080" y="1337760"/>
              <a:chExt cx="4186800" cy="837720"/>
            </a:xfrm>
          </p:grpSpPr>
          <p:sp>
            <p:nvSpPr>
              <p:cNvPr id="157" name=""/>
              <p:cNvSpPr/>
              <p:nvPr/>
            </p:nvSpPr>
            <p:spPr>
              <a:xfrm>
                <a:off x="4366080" y="1337760"/>
                <a:ext cx="4186800" cy="837720"/>
              </a:xfrm>
              <a:prstGeom prst="roundRect">
                <a:avLst>
                  <a:gd name="adj" fmla="val 185"/>
                </a:avLst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66080" y="1337760"/>
                <a:ext cx="4186800" cy="837720"/>
              </a:xfrm>
              <a:prstGeom prst="roundRect">
                <a:avLst>
                  <a:gd name="adj" fmla="val 18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ethodology-specific Channel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ster/Slave librar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ual exclusion: sc_mut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36604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resources can be protected with mute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ex associated with resource to be pro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C provides mutex methods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ut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n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ut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me; // declare mu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        // blocking: waiting until mutex is unlo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   // nonblocking: true if success, else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   // free locked mutex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ignal generated if resource is freed (wakeup?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not 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, since it is bloc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_mutex: Exam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71280" y="1336320"/>
            <a:ext cx="7164360" cy="1901880"/>
          </a:xfrm>
          <a:prstGeom prst="rect">
            <a:avLst/>
          </a:prstGeom>
          <a:solidFill>
            <a:srgbClr val="e3e3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ut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ivers_seat;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-&gt;drivers_seat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     // lock s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-&gt;start();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-&gt;sto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-&gt;drivers_seat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 // unlock s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71640" y="3610080"/>
            <a:ext cx="7200720" cy="2657520"/>
            <a:chOff x="971640" y="3610080"/>
            <a:chExt cx="7200720" cy="2657520"/>
          </a:xfrm>
        </p:grpSpPr>
        <p:sp>
          <p:nvSpPr>
            <p:cNvPr id="164" name=""/>
            <p:cNvSpPr/>
            <p:nvPr/>
          </p:nvSpPr>
          <p:spPr>
            <a:xfrm>
              <a:off x="971640" y="3610080"/>
              <a:ext cx="7200720" cy="2657520"/>
            </a:xfrm>
            <a:prstGeom prst="roundRect">
              <a:avLst>
                <a:gd name="adj" fmla="val 56"/>
              </a:avLst>
            </a:prstGeom>
            <a:solidFill>
              <a:srgbClr val="e3e3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71640" y="3610080"/>
              <a:ext cx="7200720" cy="26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las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bus {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c_mute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bus_access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voi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write(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n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addr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n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data) {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us_access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loc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(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// perform wri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us_access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unloc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(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} … }; //endcl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apho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44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copies of global resources ar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modeled with clas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emaph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opies is part of the declaratio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emaph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me(count); // declare semap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             // blocking: waiting until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        // nonblocking: true if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_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   // return number from semap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             // free semap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not 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, since it is bloc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_semaphore: Examples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66040" cy="44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as station with 12 pum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MODUL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as_station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semaphor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mp(12); // 12 p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stomer1_thread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(;;) { // wait till tank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/ find an available gas pum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mp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ai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/ fill and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mp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6000"/>
            <a:ext cx="777384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a multiport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150400" cy="51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ltiport_RAM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emaph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d_ports(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emaph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rite_ports(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d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data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_port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perform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_port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rite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_port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perform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_port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…};//end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 by FIF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0000" y="1412640"/>
            <a:ext cx="8366040" cy="47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arly design stages, STL’s unbound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q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ouble ended queue) may be su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etails availabl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fif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depth: 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ype needs to be spec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ntax &amp; method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fif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_type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                              // function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ly blocking reads and wr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553080" y="2168640"/>
            <a:ext cx="2590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 by FIFOs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380360" cy="39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ntax &amp; methods (cont’ed)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9920" indent="-262440"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vai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==0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_written_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);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test before waiting for next element to be rea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9920" indent="-262440"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f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==0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_trig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_read_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);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test before waiting for next element to be writ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hn process networ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76000" y="5697360"/>
            <a:ext cx="7140600" cy="6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performance if storing pointers, not structur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d_pt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gt; from GNU Boost library recommen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39640" y="1089000"/>
            <a:ext cx="6082200" cy="445788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finite length is no problem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ahn_ex) {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fif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a, b, y;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Con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hn_ex::kahn_ex(): a(19), b(10), y(20)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ahn_ex::addsub_thread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A*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+ kB*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A*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- kB*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//end 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 station example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2260800" cy="248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 flipH="1">
            <a:off x="990720" y="1219320"/>
            <a:ext cx="3124080" cy="1749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 flipH="1">
            <a:off x="1980720" y="4419720"/>
            <a:ext cx="2055960" cy="1500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73400" y="297180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5520" y="594360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200400" y="3733920"/>
            <a:ext cx="17524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720" y="3240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l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25146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7120" y="179244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l'er u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6000"/>
            <a:ext cx="777384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istic model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synchronous hardw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305000"/>
            <a:ext cx="836604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ig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bu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respond to signals in VHD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use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valuation-upd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dig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channel has 2 storage lo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valu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s are updating new val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re reading curren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_upd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: calle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kernel to cal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during the update phase, for each channel that requested an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copies new value to current value, but may also resolve contention or notify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-update cycle enables deterministic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_sig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8560" y="1160640"/>
            <a:ext cx="836604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9920" indent="-262440"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ig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g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g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9920" indent="-262440"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g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w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evaluate phase of behavior 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to protect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prim_channel::request_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signal::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is hidde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rs in update phase due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_update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ea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cycle, only a single process can write to channels of typ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sig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ast value being retaine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9920" indent="-262440"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g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_signal: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419360" cy="4646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sig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/ initialization during 1st delta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"Hello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&lt; "c: " &lt;&lt; c &lt;&lt; " 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lt; "sig:" &lt;&lt; sig &lt;&l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ZERO_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/ 2nd delta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=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"Worl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&lt; "c: " &lt;&lt; c &lt;&lt; " 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lt; "sig:" &lt;&lt; sig &lt;&l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ZERO_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/ 3rd delta cycl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257800" y="1663560"/>
            <a:ext cx="2666880" cy="1197000"/>
            <a:chOff x="5257800" y="1663560"/>
            <a:chExt cx="2666880" cy="1197000"/>
          </a:xfrm>
        </p:grpSpPr>
        <p:sp>
          <p:nvSpPr>
            <p:cNvPr id="187" name=""/>
            <p:cNvSpPr/>
            <p:nvPr/>
          </p:nvSpPr>
          <p:spPr>
            <a:xfrm>
              <a:off x="5257800" y="1663560"/>
              <a:ext cx="2666880" cy="1197000"/>
            </a:xfrm>
            <a:prstGeom prst="roundRect">
              <a:avLst>
                <a:gd name="adj" fmla="val 13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57800" y="1663560"/>
              <a:ext cx="266688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Outpu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: 1 sig: ' '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: 2 sig: 'Hello'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256360" y="5049720"/>
            <a:ext cx="36003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suffix _sig for signals to indicate delayed up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flow re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60962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here is a process in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here is a process in the “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here is a process in the ready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7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take any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7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: evaluate signal chang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7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send event not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44880" indent="-263880"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te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ut into ready pool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44880" indent="-263880"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e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ol, with 0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44880" indent="-263880"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iting pool, with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7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il process completes (v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suspends (via calls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); process to pool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pdate pending signal chan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 waiting in “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poo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ady poo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ol: advanc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16680" y="1219320"/>
            <a:ext cx="29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/ macroscopic tim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5880" y="15238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tim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// sam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403848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77120" y="472428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388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47676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3581280"/>
            <a:ext cx="636480" cy="1308240"/>
          </a:xfrm>
          <a:custGeom>
            <a:avLst/>
            <a:gdLst/>
            <a:ahLst/>
            <a:rect l="l" t="t" r="r" b="b"/>
            <a:pathLst>
              <a:path w="401" h="824">
                <a:moveTo>
                  <a:pt x="6" y="824"/>
                </a:moveTo>
                <a:cubicBezTo>
                  <a:pt x="62" y="808"/>
                  <a:pt x="283" y="803"/>
                  <a:pt x="342" y="728"/>
                </a:cubicBezTo>
                <a:cubicBezTo>
                  <a:pt x="401" y="653"/>
                  <a:pt x="364" y="485"/>
                  <a:pt x="360" y="374"/>
                </a:cubicBezTo>
                <a:cubicBezTo>
                  <a:pt x="356" y="263"/>
                  <a:pt x="378" y="124"/>
                  <a:pt x="318" y="62"/>
                </a:cubicBezTo>
                <a:cubicBezTo>
                  <a:pt x="258" y="0"/>
                  <a:pt x="66" y="14"/>
                  <a:pt x="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72400" y="3657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848720" y="2819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96080" y="4191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4429" t="36916" r="5905" b="48452"/>
          <a:stretch/>
        </p:blipFill>
        <p:spPr>
          <a:xfrm>
            <a:off x="4572000" y="5715000"/>
            <a:ext cx="4572000" cy="7351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838080" y="2286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335268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266688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05920" y="2895480"/>
            <a:ext cx="788760" cy="2133720"/>
          </a:xfrm>
          <a:custGeom>
            <a:avLst/>
            <a:gdLst/>
            <a:ahLst/>
            <a:rect l="l" t="t" r="r" b="b"/>
            <a:pathLst>
              <a:path w="401" h="824">
                <a:moveTo>
                  <a:pt x="6" y="824"/>
                </a:moveTo>
                <a:cubicBezTo>
                  <a:pt x="62" y="808"/>
                  <a:pt x="283" y="803"/>
                  <a:pt x="342" y="728"/>
                </a:cubicBezTo>
                <a:cubicBezTo>
                  <a:pt x="401" y="653"/>
                  <a:pt x="364" y="485"/>
                  <a:pt x="360" y="374"/>
                </a:cubicBezTo>
                <a:cubicBezTo>
                  <a:pt x="356" y="263"/>
                  <a:pt x="378" y="124"/>
                  <a:pt x="318" y="62"/>
                </a:cubicBezTo>
                <a:cubicBezTo>
                  <a:pt x="258" y="0"/>
                  <a:pt x="66" y="14"/>
                  <a:pt x="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248520" y="2971080"/>
            <a:ext cx="255600" cy="609480"/>
          </a:xfrm>
          <a:custGeom>
            <a:avLst/>
            <a:gdLst/>
            <a:ahLst/>
            <a:rect l="l" t="t" r="r" b="b"/>
            <a:pathLst>
              <a:path w="401" h="824">
                <a:moveTo>
                  <a:pt x="6" y="824"/>
                </a:moveTo>
                <a:cubicBezTo>
                  <a:pt x="62" y="808"/>
                  <a:pt x="283" y="803"/>
                  <a:pt x="342" y="728"/>
                </a:cubicBezTo>
                <a:cubicBezTo>
                  <a:pt x="401" y="653"/>
                  <a:pt x="364" y="485"/>
                  <a:pt x="360" y="374"/>
                </a:cubicBezTo>
                <a:cubicBezTo>
                  <a:pt x="356" y="263"/>
                  <a:pt x="378" y="124"/>
                  <a:pt x="318" y="62"/>
                </a:cubicBezTo>
                <a:cubicBezTo>
                  <a:pt x="258" y="0"/>
                  <a:pt x="66" y="14"/>
                  <a:pt x="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6095160" y="2895480"/>
            <a:ext cx="381240" cy="1371600"/>
          </a:xfrm>
          <a:custGeom>
            <a:avLst/>
            <a:gdLst/>
            <a:ahLst/>
            <a:rect l="l" t="t" r="r" b="b"/>
            <a:pathLst>
              <a:path w="401" h="824">
                <a:moveTo>
                  <a:pt x="6" y="824"/>
                </a:moveTo>
                <a:cubicBezTo>
                  <a:pt x="62" y="808"/>
                  <a:pt x="283" y="803"/>
                  <a:pt x="342" y="728"/>
                </a:cubicBezTo>
                <a:cubicBezTo>
                  <a:pt x="401" y="653"/>
                  <a:pt x="364" y="485"/>
                  <a:pt x="360" y="374"/>
                </a:cubicBezTo>
                <a:cubicBezTo>
                  <a:pt x="356" y="263"/>
                  <a:pt x="378" y="124"/>
                  <a:pt x="318" y="62"/>
                </a:cubicBezTo>
                <a:cubicBezTo>
                  <a:pt x="258" y="0"/>
                  <a:pt x="66" y="14"/>
                  <a:pt x="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4508640"/>
            <a:ext cx="5184720" cy="5760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itions between thread states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edicate/transition net mode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tivity char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ueuing model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44792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24280" y="5181480"/>
            <a:ext cx="106704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5181480"/>
            <a:ext cx="106704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-137520" y="43304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y =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2171160" y="186696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8" idx="6"/>
            <a:endCxn id="216" idx="2"/>
          </p:cNvCxnSpPr>
          <p:nvPr/>
        </p:nvCxnSpPr>
        <p:spPr>
          <a:xfrm>
            <a:off x="1219320" y="1980720"/>
            <a:ext cx="12196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6" idx="0"/>
            <a:endCxn id="212" idx="2"/>
          </p:cNvCxnSpPr>
          <p:nvPr/>
        </p:nvCxnSpPr>
        <p:spPr>
          <a:xfrm>
            <a:off x="2666520" y="1980720"/>
            <a:ext cx="20577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04920" y="358128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8564000">
            <a:off x="1485360" y="2933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4" idx="0"/>
            <a:endCxn id="220" idx="2"/>
          </p:cNvCxnSpPr>
          <p:nvPr/>
        </p:nvCxnSpPr>
        <p:spPr>
          <a:xfrm flipV="1">
            <a:off x="685440" y="3809520"/>
            <a:ext cx="1080" cy="1372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0" idx="0"/>
            <a:endCxn id="218" idx="4"/>
          </p:cNvCxnSpPr>
          <p:nvPr/>
        </p:nvCxnSpPr>
        <p:spPr>
          <a:xfrm flipV="1">
            <a:off x="685440" y="2513880"/>
            <a:ext cx="108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3507480" y="1447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acity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344120" y="32004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876920" y="365760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12" idx="4"/>
            <a:endCxn id="226" idx="0"/>
          </p:cNvCxnSpPr>
          <p:nvPr/>
        </p:nvCxnSpPr>
        <p:spPr>
          <a:xfrm flipV="1" rot="10800000">
            <a:off x="5257080" y="2514240"/>
            <a:ext cx="10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6" idx="2"/>
            <a:endCxn id="213" idx="0"/>
          </p:cNvCxnSpPr>
          <p:nvPr/>
        </p:nvCxnSpPr>
        <p:spPr>
          <a:xfrm flipV="1" rot="10800000">
            <a:off x="5257080" y="3885840"/>
            <a:ext cx="1080" cy="1296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152280" y="144792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1752480"/>
            <a:ext cx="2590920" cy="1310760"/>
          </a:xfrm>
          <a:prstGeom prst="rect">
            <a:avLst/>
          </a:prstGeom>
          <a:solidFill>
            <a:srgbClr val="d9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@ simulation s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nt_in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: placed i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aiting for static sensivity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thers: placed in 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2305200">
            <a:off x="3134520" y="462060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i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v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2019240" y="560052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>
            <a:stCxn id="213" idx="2"/>
            <a:endCxn id="231" idx="2"/>
          </p:cNvCxnSpPr>
          <p:nvPr/>
        </p:nvCxnSpPr>
        <p:spPr>
          <a:xfrm rot="10800000">
            <a:off x="2513880" y="5714280"/>
            <a:ext cx="2210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33" name=""/>
          <p:cNvCxnSpPr>
            <a:stCxn id="231" idx="0"/>
            <a:endCxn id="214" idx="6"/>
          </p:cNvCxnSpPr>
          <p:nvPr/>
        </p:nvCxnSpPr>
        <p:spPr>
          <a:xfrm rot="10800000">
            <a:off x="1218600" y="5714280"/>
            <a:ext cx="1067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2591640" y="5715000"/>
            <a:ext cx="22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i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_ZERO_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259240" y="297180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v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13" idx="1"/>
            <a:endCxn id="221" idx="2"/>
          </p:cNvCxnSpPr>
          <p:nvPr/>
        </p:nvCxnSpPr>
        <p:spPr>
          <a:xfrm flipH="1" flipV="1">
            <a:off x="1953360" y="3119040"/>
            <a:ext cx="2926440" cy="221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37" name=""/>
          <p:cNvCxnSpPr>
            <a:stCxn id="221" idx="0"/>
            <a:endCxn id="218" idx="5"/>
          </p:cNvCxnSpPr>
          <p:nvPr/>
        </p:nvCxnSpPr>
        <p:spPr>
          <a:xfrm flipH="1" flipV="1">
            <a:off x="1063440" y="2358360"/>
            <a:ext cx="71496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38" name=""/>
          <p:cNvSpPr/>
          <p:nvPr/>
        </p:nvSpPr>
        <p:spPr>
          <a:xfrm rot="2115600">
            <a:off x="3363120" y="408744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out/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3221400">
            <a:off x="1638000" y="445788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12" idx="3"/>
            <a:endCxn id="239" idx="0"/>
          </p:cNvCxnSpPr>
          <p:nvPr/>
        </p:nvCxnSpPr>
        <p:spPr>
          <a:xfrm flipH="1">
            <a:off x="2111040" y="2358720"/>
            <a:ext cx="2769120" cy="21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1" name=""/>
          <p:cNvCxnSpPr>
            <a:stCxn id="239" idx="2"/>
            <a:endCxn id="214" idx="7"/>
          </p:cNvCxnSpPr>
          <p:nvPr/>
        </p:nvCxnSpPr>
        <p:spPr>
          <a:xfrm flipH="1">
            <a:off x="1063440" y="4638600"/>
            <a:ext cx="86256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2" name=""/>
          <p:cNvSpPr/>
          <p:nvPr/>
        </p:nvSpPr>
        <p:spPr>
          <a:xfrm flipH="1" rot="19281600">
            <a:off x="2516040" y="274284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_ZERO_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29" idx="0"/>
            <a:endCxn id="218" idx="0"/>
          </p:cNvCxnSpPr>
          <p:nvPr/>
        </p:nvCxnSpPr>
        <p:spPr>
          <a:xfrm flipV="1" rot="16200000">
            <a:off x="4038120" y="-1905480"/>
            <a:ext cx="305280" cy="7011000"/>
          </a:xfrm>
          <a:prstGeom prst="bentConnector3">
            <a:avLst>
              <a:gd name="adj1" fmla="val 174970"/>
            </a:avLst>
          </a:prstGeom>
          <a:ln w="9360">
            <a:solidFill>
              <a:srgbClr val="000000"/>
            </a:solidFill>
            <a:prstDash val="lgDash"/>
            <a:miter/>
            <a:tailEnd len="sm" type="triangle" w="sm"/>
          </a:ln>
        </p:spPr>
      </p:cxnSp>
      <p:cxnSp>
        <p:nvCxnSpPr>
          <p:cNvPr id="244" name=""/>
          <p:cNvCxnSpPr/>
          <p:nvPr/>
        </p:nvCxnSpPr>
        <p:spPr>
          <a:xfrm flipV="1" rot="10800000">
            <a:off x="5790600" y="2132640"/>
            <a:ext cx="610200" cy="3610440"/>
          </a:xfrm>
          <a:prstGeom prst="bentConnector3">
            <a:avLst>
              <a:gd name="adj1" fmla="val 31227"/>
            </a:avLst>
          </a:prstGeom>
          <a:ln w="9360">
            <a:solidFill>
              <a:srgbClr val="000000"/>
            </a:solidFill>
            <a:prstDash val="lgDash"/>
            <a:miter/>
            <a:tailEnd len="sm" type="triangle" w="sm"/>
          </a:ln>
        </p:spPr>
      </p:cxnSp>
      <p:sp>
        <p:nvSpPr>
          <p:cNvPr id="245" name=""/>
          <p:cNvSpPr/>
          <p:nvPr/>
        </p:nvSpPr>
        <p:spPr>
          <a:xfrm>
            <a:off x="228600" y="19810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05520" y="56386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685800" cy="365400"/>
          </a:xfrm>
          <a:prstGeom prst="rect">
            <a:avLst/>
          </a:prstGeom>
          <a:ln w="0">
            <a:noFill/>
          </a:ln>
        </p:spPr>
      </p:pic>
      <p:cxnSp>
        <p:nvCxnSpPr>
          <p:cNvPr id="249" name=""/>
          <p:cNvCxnSpPr>
            <a:stCxn id="212" idx="6"/>
            <a:endCxn id="248" idx="1"/>
          </p:cNvCxnSpPr>
          <p:nvPr/>
        </p:nvCxnSpPr>
        <p:spPr>
          <a:xfrm flipV="1">
            <a:off x="5790960" y="1477440"/>
            <a:ext cx="61020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sm" type="triangle" w="sm"/>
          </a:ln>
        </p:spPr>
      </p:cxnSp>
      <p:sp>
        <p:nvSpPr>
          <p:cNvPr id="250" name=""/>
          <p:cNvSpPr/>
          <p:nvPr/>
        </p:nvSpPr>
        <p:spPr>
          <a:xfrm rot="19255800">
            <a:off x="5635080" y="142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324480" y="6605280"/>
            <a:ext cx="281952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10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gram not foun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72360" y="3068640"/>
            <a:ext cx="2590560" cy="1557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update signals each time ready becomes {} (end of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87600" y="1371600"/>
            <a:ext cx="5306760" cy="4299840"/>
            <a:chOff x="687600" y="1371600"/>
            <a:chExt cx="5306760" cy="4299840"/>
          </a:xfrm>
        </p:grpSpPr>
        <p:sp>
          <p:nvSpPr>
            <p:cNvPr id="254" name=""/>
            <p:cNvSpPr/>
            <p:nvPr/>
          </p:nvSpPr>
          <p:spPr>
            <a:xfrm>
              <a:off x="5243760" y="257508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prio=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92560" y="274320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prio=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02000" y="137160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prio=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7600" y="304812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prio=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73400" y="533412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prio=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2179200">
              <a:off x="3201480" y="480060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prio=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gerous overloading of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6560" y="1926720"/>
            <a:ext cx="570096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g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g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w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g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also legal, but dangerous, since they hide the evaluate-updat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886440" y="2322360"/>
            <a:ext cx="184968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 writes in 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cyc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038480" y="1143000"/>
            <a:ext cx="472464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ignal_resolv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ignal_r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//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57200" y="2666880"/>
            <a:ext cx="8396280" cy="1195560"/>
            <a:chOff x="457200" y="2666880"/>
            <a:chExt cx="8396280" cy="1195560"/>
          </a:xfrm>
        </p:grpSpPr>
        <p:sp>
          <p:nvSpPr>
            <p:cNvPr id="266" name=""/>
            <p:cNvSpPr/>
            <p:nvPr/>
          </p:nvSpPr>
          <p:spPr>
            <a:xfrm>
              <a:off x="457200" y="2666880"/>
              <a:ext cx="8396280" cy="1195560"/>
            </a:xfrm>
            <a:prstGeom prst="roundRect">
              <a:avLst>
                <a:gd name="adj" fmla="val 130"/>
              </a:avLst>
            </a:prstGeom>
            <a:solidFill>
              <a:srgbClr val="e2e2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" y="2666880"/>
              <a:ext cx="8396280" cy="11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mantics same as for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c_sign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c_logi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gt;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cept that multiple writes are permitted in 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cycle.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solution is predefined as follow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57200" y="4114800"/>
            <a:ext cx="3427200" cy="2233080"/>
            <a:chOff x="457200" y="4114800"/>
            <a:chExt cx="3427200" cy="2233080"/>
          </a:xfrm>
        </p:grpSpPr>
        <p:grpSp>
          <p:nvGrpSpPr>
            <p:cNvPr id="269" name=""/>
            <p:cNvGrpSpPr/>
            <p:nvPr/>
          </p:nvGrpSpPr>
          <p:grpSpPr>
            <a:xfrm>
              <a:off x="3197880" y="5901120"/>
              <a:ext cx="683640" cy="445320"/>
              <a:chOff x="3197880" y="5901120"/>
              <a:chExt cx="683640" cy="445320"/>
            </a:xfrm>
          </p:grpSpPr>
          <p:sp>
            <p:nvSpPr>
              <p:cNvPr id="270" name=""/>
              <p:cNvSpPr/>
              <p:nvPr/>
            </p:nvSpPr>
            <p:spPr>
              <a:xfrm>
                <a:off x="3197880" y="590112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197880" y="590112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Z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512800" y="5901120"/>
              <a:ext cx="683640" cy="445320"/>
              <a:chOff x="2512800" y="5901120"/>
              <a:chExt cx="683640" cy="445320"/>
            </a:xfrm>
          </p:grpSpPr>
          <p:sp>
            <p:nvSpPr>
              <p:cNvPr id="273" name=""/>
              <p:cNvSpPr/>
              <p:nvPr/>
            </p:nvSpPr>
            <p:spPr>
              <a:xfrm>
                <a:off x="2512800" y="590112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512800" y="590112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X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1827360" y="5901120"/>
              <a:ext cx="683640" cy="445320"/>
              <a:chOff x="1827360" y="5901120"/>
              <a:chExt cx="683640" cy="445320"/>
            </a:xfrm>
          </p:grpSpPr>
          <p:sp>
            <p:nvSpPr>
              <p:cNvPr id="276" name=""/>
              <p:cNvSpPr/>
              <p:nvPr/>
            </p:nvSpPr>
            <p:spPr>
              <a:xfrm>
                <a:off x="1827360" y="590112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827360" y="590112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1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1142280" y="5901120"/>
              <a:ext cx="683640" cy="445320"/>
              <a:chOff x="1142280" y="5901120"/>
              <a:chExt cx="683640" cy="445320"/>
            </a:xfrm>
          </p:grpSpPr>
          <p:sp>
            <p:nvSpPr>
              <p:cNvPr id="279" name=""/>
              <p:cNvSpPr/>
              <p:nvPr/>
            </p:nvSpPr>
            <p:spPr>
              <a:xfrm>
                <a:off x="1142280" y="590112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142280" y="590112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0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457200" y="5901120"/>
              <a:ext cx="683640" cy="445320"/>
              <a:chOff x="457200" y="5901120"/>
              <a:chExt cx="683640" cy="445320"/>
            </a:xfrm>
          </p:grpSpPr>
          <p:sp>
            <p:nvSpPr>
              <p:cNvPr id="282" name=""/>
              <p:cNvSpPr/>
              <p:nvPr/>
            </p:nvSpPr>
            <p:spPr>
              <a:xfrm>
                <a:off x="457200" y="590112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57200" y="590112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Z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3197880" y="5454000"/>
              <a:ext cx="683640" cy="445320"/>
              <a:chOff x="3197880" y="5454000"/>
              <a:chExt cx="683640" cy="445320"/>
            </a:xfrm>
          </p:grpSpPr>
          <p:sp>
            <p:nvSpPr>
              <p:cNvPr id="285" name=""/>
              <p:cNvSpPr/>
              <p:nvPr/>
            </p:nvSpPr>
            <p:spPr>
              <a:xfrm>
                <a:off x="3197880" y="545400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197880" y="545400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X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2512800" y="5454000"/>
              <a:ext cx="683640" cy="445320"/>
              <a:chOff x="2512800" y="5454000"/>
              <a:chExt cx="683640" cy="445320"/>
            </a:xfrm>
          </p:grpSpPr>
          <p:sp>
            <p:nvSpPr>
              <p:cNvPr id="288" name=""/>
              <p:cNvSpPr/>
              <p:nvPr/>
            </p:nvSpPr>
            <p:spPr>
              <a:xfrm>
                <a:off x="2512800" y="545400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512800" y="545400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X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1827360" y="5454000"/>
              <a:ext cx="683640" cy="445320"/>
              <a:chOff x="1827360" y="5454000"/>
              <a:chExt cx="683640" cy="445320"/>
            </a:xfrm>
          </p:grpSpPr>
          <p:sp>
            <p:nvSpPr>
              <p:cNvPr id="291" name=""/>
              <p:cNvSpPr/>
              <p:nvPr/>
            </p:nvSpPr>
            <p:spPr>
              <a:xfrm>
                <a:off x="1827360" y="545400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27360" y="545400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X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1142280" y="5454000"/>
              <a:ext cx="683640" cy="445320"/>
              <a:chOff x="1142280" y="5454000"/>
              <a:chExt cx="683640" cy="445320"/>
            </a:xfrm>
          </p:grpSpPr>
          <p:sp>
            <p:nvSpPr>
              <p:cNvPr id="294" name=""/>
              <p:cNvSpPr/>
              <p:nvPr/>
            </p:nvSpPr>
            <p:spPr>
              <a:xfrm>
                <a:off x="1142280" y="545400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42280" y="545400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X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57200" y="5454000"/>
              <a:ext cx="683640" cy="445320"/>
              <a:chOff x="457200" y="5454000"/>
              <a:chExt cx="683640" cy="445320"/>
            </a:xfrm>
          </p:grpSpPr>
          <p:sp>
            <p:nvSpPr>
              <p:cNvPr id="297" name=""/>
              <p:cNvSpPr/>
              <p:nvPr/>
            </p:nvSpPr>
            <p:spPr>
              <a:xfrm>
                <a:off x="457200" y="545400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200" y="545400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X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3197880" y="5007240"/>
              <a:ext cx="683640" cy="445320"/>
              <a:chOff x="3197880" y="5007240"/>
              <a:chExt cx="683640" cy="445320"/>
            </a:xfrm>
          </p:grpSpPr>
          <p:sp>
            <p:nvSpPr>
              <p:cNvPr id="300" name=""/>
              <p:cNvSpPr/>
              <p:nvPr/>
            </p:nvSpPr>
            <p:spPr>
              <a:xfrm>
                <a:off x="3197880" y="500724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97880" y="500724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1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512800" y="5007240"/>
              <a:ext cx="683640" cy="445320"/>
              <a:chOff x="2512800" y="5007240"/>
              <a:chExt cx="683640" cy="445320"/>
            </a:xfrm>
          </p:grpSpPr>
          <p:sp>
            <p:nvSpPr>
              <p:cNvPr id="303" name=""/>
              <p:cNvSpPr/>
              <p:nvPr/>
            </p:nvSpPr>
            <p:spPr>
              <a:xfrm>
                <a:off x="2512800" y="500724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512800" y="500724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X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1827360" y="5007240"/>
              <a:ext cx="683640" cy="445320"/>
              <a:chOff x="1827360" y="5007240"/>
              <a:chExt cx="683640" cy="445320"/>
            </a:xfrm>
          </p:grpSpPr>
          <p:sp>
            <p:nvSpPr>
              <p:cNvPr id="306" name=""/>
              <p:cNvSpPr/>
              <p:nvPr/>
            </p:nvSpPr>
            <p:spPr>
              <a:xfrm>
                <a:off x="1827360" y="500724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827360" y="500724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1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142280" y="5007240"/>
              <a:ext cx="683640" cy="445320"/>
              <a:chOff x="1142280" y="5007240"/>
              <a:chExt cx="683640" cy="445320"/>
            </a:xfrm>
          </p:grpSpPr>
          <p:sp>
            <p:nvSpPr>
              <p:cNvPr id="309" name=""/>
              <p:cNvSpPr/>
              <p:nvPr/>
            </p:nvSpPr>
            <p:spPr>
              <a:xfrm>
                <a:off x="1142280" y="500724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42280" y="500724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X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57200" y="5007240"/>
              <a:ext cx="683640" cy="445320"/>
              <a:chOff x="457200" y="5007240"/>
              <a:chExt cx="683640" cy="445320"/>
            </a:xfrm>
          </p:grpSpPr>
          <p:sp>
            <p:nvSpPr>
              <p:cNvPr id="312" name=""/>
              <p:cNvSpPr/>
              <p:nvPr/>
            </p:nvSpPr>
            <p:spPr>
              <a:xfrm>
                <a:off x="457200" y="500724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200" y="500724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1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197880" y="4560120"/>
              <a:ext cx="683640" cy="445320"/>
              <a:chOff x="3197880" y="4560120"/>
              <a:chExt cx="683640" cy="445320"/>
            </a:xfrm>
          </p:grpSpPr>
          <p:sp>
            <p:nvSpPr>
              <p:cNvPr id="315" name=""/>
              <p:cNvSpPr/>
              <p:nvPr/>
            </p:nvSpPr>
            <p:spPr>
              <a:xfrm>
                <a:off x="3197880" y="456012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197880" y="456012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0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512800" y="4560120"/>
              <a:ext cx="683640" cy="445320"/>
              <a:chOff x="2512800" y="4560120"/>
              <a:chExt cx="683640" cy="445320"/>
            </a:xfrm>
          </p:grpSpPr>
          <p:sp>
            <p:nvSpPr>
              <p:cNvPr id="318" name=""/>
              <p:cNvSpPr/>
              <p:nvPr/>
            </p:nvSpPr>
            <p:spPr>
              <a:xfrm>
                <a:off x="2512800" y="456012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512800" y="456012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X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827360" y="4560120"/>
              <a:ext cx="683640" cy="445320"/>
              <a:chOff x="1827360" y="4560120"/>
              <a:chExt cx="683640" cy="445320"/>
            </a:xfrm>
          </p:grpSpPr>
          <p:sp>
            <p:nvSpPr>
              <p:cNvPr id="321" name=""/>
              <p:cNvSpPr/>
              <p:nvPr/>
            </p:nvSpPr>
            <p:spPr>
              <a:xfrm>
                <a:off x="1827360" y="456012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827360" y="456012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X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1142280" y="4560120"/>
              <a:ext cx="683640" cy="445320"/>
              <a:chOff x="1142280" y="4560120"/>
              <a:chExt cx="683640" cy="445320"/>
            </a:xfrm>
          </p:grpSpPr>
          <p:sp>
            <p:nvSpPr>
              <p:cNvPr id="324" name=""/>
              <p:cNvSpPr/>
              <p:nvPr/>
            </p:nvSpPr>
            <p:spPr>
              <a:xfrm>
                <a:off x="1142280" y="456012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142280" y="456012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0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457200" y="4560120"/>
              <a:ext cx="683640" cy="445320"/>
              <a:chOff x="457200" y="4560120"/>
              <a:chExt cx="683640" cy="445320"/>
            </a:xfrm>
          </p:grpSpPr>
          <p:sp>
            <p:nvSpPr>
              <p:cNvPr id="327" name=""/>
              <p:cNvSpPr/>
              <p:nvPr/>
            </p:nvSpPr>
            <p:spPr>
              <a:xfrm>
                <a:off x="457200" y="456012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7200" y="456012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0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197880" y="4114800"/>
              <a:ext cx="683640" cy="445320"/>
              <a:chOff x="3197880" y="4114800"/>
              <a:chExt cx="683640" cy="445320"/>
            </a:xfrm>
          </p:grpSpPr>
          <p:sp>
            <p:nvSpPr>
              <p:cNvPr id="330" name=""/>
              <p:cNvSpPr/>
              <p:nvPr/>
            </p:nvSpPr>
            <p:spPr>
              <a:xfrm>
                <a:off x="3197880" y="411480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97880" y="411480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Z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2512800" y="4114800"/>
              <a:ext cx="683640" cy="445320"/>
              <a:chOff x="2512800" y="4114800"/>
              <a:chExt cx="683640" cy="445320"/>
            </a:xfrm>
          </p:grpSpPr>
          <p:sp>
            <p:nvSpPr>
              <p:cNvPr id="333" name=""/>
              <p:cNvSpPr/>
              <p:nvPr/>
            </p:nvSpPr>
            <p:spPr>
              <a:xfrm>
                <a:off x="2512800" y="411480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12800" y="411480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X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827360" y="4114800"/>
              <a:ext cx="683640" cy="445320"/>
              <a:chOff x="1827360" y="4114800"/>
              <a:chExt cx="683640" cy="445320"/>
            </a:xfrm>
          </p:grpSpPr>
          <p:sp>
            <p:nvSpPr>
              <p:cNvPr id="336" name=""/>
              <p:cNvSpPr/>
              <p:nvPr/>
            </p:nvSpPr>
            <p:spPr>
              <a:xfrm>
                <a:off x="1827360" y="411480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827360" y="411480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1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1142280" y="4114800"/>
              <a:ext cx="683640" cy="445320"/>
              <a:chOff x="1142280" y="4114800"/>
              <a:chExt cx="683640" cy="445320"/>
            </a:xfrm>
          </p:grpSpPr>
          <p:sp>
            <p:nvSpPr>
              <p:cNvPr id="339" name=""/>
              <p:cNvSpPr/>
              <p:nvPr/>
            </p:nvSpPr>
            <p:spPr>
              <a:xfrm>
                <a:off x="1142280" y="411480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42280" y="411480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'0'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457200" y="4114800"/>
              <a:ext cx="683640" cy="445320"/>
              <a:chOff x="457200" y="4114800"/>
              <a:chExt cx="683640" cy="445320"/>
            </a:xfrm>
          </p:grpSpPr>
          <p:sp>
            <p:nvSpPr>
              <p:cNvPr id="342" name=""/>
              <p:cNvSpPr/>
              <p:nvPr/>
            </p:nvSpPr>
            <p:spPr>
              <a:xfrm>
                <a:off x="457200" y="4114800"/>
                <a:ext cx="683640" cy="445320"/>
              </a:xfrm>
              <a:prstGeom prst="roundRect">
                <a:avLst>
                  <a:gd name="adj" fmla="val 3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7200" y="4114800"/>
                <a:ext cx="68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A\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457200" y="4114800"/>
              <a:ext cx="34261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7200" y="4560120"/>
              <a:ext cx="3426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200" y="5007240"/>
              <a:ext cx="3426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7200" y="5454000"/>
              <a:ext cx="3426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7200" y="5901120"/>
              <a:ext cx="3426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7200" y="6346800"/>
              <a:ext cx="34261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7200" y="4114800"/>
              <a:ext cx="1080" cy="22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42280" y="4114800"/>
              <a:ext cx="1080" cy="22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27360" y="4114800"/>
              <a:ext cx="1080" cy="22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12800" y="4114800"/>
              <a:ext cx="1080" cy="22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97880" y="4114800"/>
              <a:ext cx="1080" cy="22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83320" y="4114800"/>
              <a:ext cx="1080" cy="22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33520" y="1676520"/>
            <a:ext cx="457200" cy="380880"/>
          </a:xfrm>
          <a:custGeom>
            <a:avLst/>
            <a:gdLst/>
            <a:ahLst/>
            <a:rect l="l" t="t" r="r" b="b"/>
            <a:pathLst>
              <a:path w="1272" h="1060">
                <a:moveTo>
                  <a:pt x="635" y="0"/>
                </a:moveTo>
                <a:lnTo>
                  <a:pt x="1271" y="1059"/>
                </a:lnTo>
                <a:lnTo>
                  <a:pt x="0" y="1059"/>
                </a:lnTo>
                <a:lnTo>
                  <a:pt x="635" y="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47920" y="1676520"/>
            <a:ext cx="457200" cy="380880"/>
          </a:xfrm>
          <a:custGeom>
            <a:avLst/>
            <a:gdLst/>
            <a:ahLst/>
            <a:rect l="l" t="t" r="r" b="b"/>
            <a:pathLst>
              <a:path w="1272" h="1060">
                <a:moveTo>
                  <a:pt x="635" y="0"/>
                </a:moveTo>
                <a:lnTo>
                  <a:pt x="1271" y="1059"/>
                </a:lnTo>
                <a:lnTo>
                  <a:pt x="0" y="1059"/>
                </a:lnTo>
                <a:lnTo>
                  <a:pt x="635" y="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62320" y="1676520"/>
            <a:ext cx="457200" cy="380880"/>
          </a:xfrm>
          <a:custGeom>
            <a:avLst/>
            <a:gdLst/>
            <a:ahLst/>
            <a:rect l="l" t="t" r="r" b="b"/>
            <a:pathLst>
              <a:path w="1272" h="1060">
                <a:moveTo>
                  <a:pt x="635" y="0"/>
                </a:moveTo>
                <a:lnTo>
                  <a:pt x="1271" y="1059"/>
                </a:lnTo>
                <a:lnTo>
                  <a:pt x="0" y="1059"/>
                </a:lnTo>
                <a:lnTo>
                  <a:pt x="635" y="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62120" y="144792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62120" y="1447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76520" y="1447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90920" y="1447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2120" y="20574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76520" y="20574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90920" y="20574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73760" y="1092240"/>
            <a:ext cx="672120" cy="434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705760" y="1676520"/>
            <a:ext cx="1097280" cy="434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14400" y="19051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19051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743200" y="19051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73440" y="5943600"/>
            <a:ext cx="336960" cy="378000"/>
          </a:xfrm>
          <a:custGeom>
            <a:avLst/>
            <a:gdLst>
              <a:gd name="textAreaLeft" fmla="*/ 360 w 336960"/>
              <a:gd name="textAreaRight" fmla="*/ 336600 w 336960"/>
              <a:gd name="textAreaTop" fmla="*/ 360 h 378000"/>
              <a:gd name="textAreaBottom" fmla="*/ 377640 h 378000"/>
            </a:gdLst>
            <a:ahLst/>
            <a:rect l="textAreaLeft" t="textAreaTop" r="textAreaRight" b="textAreaBottom"/>
            <a:pathLst>
              <a:path w="21600" h="24228">
                <a:moveTo>
                  <a:pt x="100" y="0"/>
                </a:moveTo>
                <a:arcTo wR="100" hR="100" stAng="16200000" swAng="-5400000"/>
                <a:lnTo>
                  <a:pt x="0" y="24128"/>
                </a:lnTo>
                <a:arcTo wR="100" hR="100" stAng="10800000" swAng="-5400000"/>
                <a:lnTo>
                  <a:pt x="21500" y="24228"/>
                </a:lnTo>
                <a:arcTo wR="100" hR="100" stAng="5400000" swAng="-5400000"/>
                <a:lnTo>
                  <a:pt x="21600" y="100"/>
                </a:lnTo>
                <a:arcTo wR="100" hR="1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30280" y="5334120"/>
            <a:ext cx="323280" cy="378000"/>
          </a:xfrm>
          <a:custGeom>
            <a:avLst/>
            <a:gdLst>
              <a:gd name="textAreaLeft" fmla="*/ 360 w 323280"/>
              <a:gd name="textAreaRight" fmla="*/ 322920 w 323280"/>
              <a:gd name="textAreaTop" fmla="*/ 360 h 378000"/>
              <a:gd name="textAreaBottom" fmla="*/ 377640 h 378000"/>
            </a:gdLst>
            <a:ahLst/>
            <a:rect l="textAreaLeft" t="textAreaTop" r="textAreaRight" b="textAreaBottom"/>
            <a:pathLst>
              <a:path w="21600" h="25252">
                <a:moveTo>
                  <a:pt x="105" y="0"/>
                </a:moveTo>
                <a:arcTo wR="105" hR="105" stAng="16200000" swAng="-5400000"/>
                <a:lnTo>
                  <a:pt x="0" y="25147"/>
                </a:lnTo>
                <a:arcTo wR="105" hR="105" stAng="10800000" swAng="-5400000"/>
                <a:lnTo>
                  <a:pt x="21495" y="25252"/>
                </a:lnTo>
                <a:arcTo wR="105" hR="105" stAng="5400000" swAng="-5400000"/>
                <a:lnTo>
                  <a:pt x="21600" y="105"/>
                </a:lnTo>
                <a:arcTo wR="105" hR="10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115880" y="5334120"/>
            <a:ext cx="323280" cy="378000"/>
          </a:xfrm>
          <a:custGeom>
            <a:avLst/>
            <a:gdLst>
              <a:gd name="textAreaLeft" fmla="*/ 360 w 323280"/>
              <a:gd name="textAreaRight" fmla="*/ 322920 w 323280"/>
              <a:gd name="textAreaTop" fmla="*/ 360 h 378000"/>
              <a:gd name="textAreaBottom" fmla="*/ 377640 h 378000"/>
            </a:gdLst>
            <a:ahLst/>
            <a:rect l="textAreaLeft" t="textAreaTop" r="textAreaRight" b="textAreaBottom"/>
            <a:pathLst>
              <a:path w="21600" h="25252">
                <a:moveTo>
                  <a:pt x="105" y="0"/>
                </a:moveTo>
                <a:arcTo wR="105" hR="105" stAng="16200000" swAng="-5400000"/>
                <a:lnTo>
                  <a:pt x="0" y="25147"/>
                </a:lnTo>
                <a:arcTo wR="105" hR="105" stAng="10800000" swAng="-5400000"/>
                <a:lnTo>
                  <a:pt x="21495" y="25252"/>
                </a:lnTo>
                <a:arcTo wR="105" hR="105" stAng="5400000" swAng="-5400000"/>
                <a:lnTo>
                  <a:pt x="21600" y="105"/>
                </a:lnTo>
                <a:arcTo wR="105" hR="10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73440" y="4724280"/>
            <a:ext cx="350640" cy="378000"/>
          </a:xfrm>
          <a:custGeom>
            <a:avLst/>
            <a:gdLst>
              <a:gd name="textAreaLeft" fmla="*/ 360 w 350640"/>
              <a:gd name="textAreaRight" fmla="*/ 350280 w 350640"/>
              <a:gd name="textAreaTop" fmla="*/ 360 h 378000"/>
              <a:gd name="textAreaBottom" fmla="*/ 377640 h 378000"/>
            </a:gdLst>
            <a:ahLst/>
            <a:rect l="textAreaLeft" t="textAreaTop" r="textAreaRight" b="textAreaBottom"/>
            <a:pathLst>
              <a:path w="21600" h="23284">
                <a:moveTo>
                  <a:pt x="97" y="0"/>
                </a:moveTo>
                <a:arcTo wR="97" hR="97" stAng="16200000" swAng="-5400000"/>
                <a:lnTo>
                  <a:pt x="0" y="23187"/>
                </a:lnTo>
                <a:arcTo wR="97" hR="97" stAng="10800000" swAng="-5400000"/>
                <a:lnTo>
                  <a:pt x="21503" y="23284"/>
                </a:lnTo>
                <a:arcTo wR="97" hR="97" stAng="5400000" swAng="-5400000"/>
                <a:lnTo>
                  <a:pt x="21600" y="97"/>
                </a:lnTo>
                <a:arcTo wR="97" hR="9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341600" y="5105520"/>
            <a:ext cx="307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5105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43400" y="56386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798800" y="5638680"/>
            <a:ext cx="384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781680" y="5715000"/>
            <a:ext cx="2133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resolved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715000" y="4114800"/>
            <a:ext cx="3124080" cy="925560"/>
            <a:chOff x="5715000" y="4114800"/>
            <a:chExt cx="3124080" cy="925560"/>
          </a:xfrm>
        </p:grpSpPr>
        <p:sp>
          <p:nvSpPr>
            <p:cNvPr id="381" name=""/>
            <p:cNvSpPr/>
            <p:nvPr/>
          </p:nvSpPr>
          <p:spPr>
            <a:xfrm>
              <a:off x="5715000" y="4114800"/>
              <a:ext cx="3124080" cy="925560"/>
            </a:xfrm>
            <a:prstGeom prst="roundRect">
              <a:avLst>
                <a:gd name="adj" fmla="val 171"/>
              </a:avLst>
            </a:prstGeom>
            <a:solidFill>
              <a:srgbClr val="e2e2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15000" y="4114800"/>
              <a:ext cx="312408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anging the resolution function is a little awkward (see Black &amp; Donova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late specializa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c_signal&lt;bool&gt; and sc_signal&lt;sc_logic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47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s of specializa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ig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ig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support the following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ntax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g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edge_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&l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g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edge_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g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edge_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g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edge_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g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edge_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g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edge_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) {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mantic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e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y transition to '1'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e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y transition to '0'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8880" y="102960"/>
            <a:ext cx="870876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C language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66560" y="1197000"/>
            <a:ext cx="8304480" cy="5103720"/>
            <a:chOff x="466560" y="1197000"/>
            <a:chExt cx="8304480" cy="5103720"/>
          </a:xfrm>
        </p:grpSpPr>
        <p:sp>
          <p:nvSpPr>
            <p:cNvPr id="387" name=""/>
            <p:cNvSpPr/>
            <p:nvPr/>
          </p:nvSpPr>
          <p:spPr>
            <a:xfrm>
              <a:off x="466560" y="1197000"/>
              <a:ext cx="8304480" cy="5103720"/>
            </a:xfrm>
            <a:prstGeom prst="roundRect">
              <a:avLst>
                <a:gd name="adj" fmla="val 2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82200" y="5321160"/>
              <a:ext cx="7942320" cy="837720"/>
              <a:chOff x="682200" y="5321160"/>
              <a:chExt cx="7942320" cy="837720"/>
            </a:xfrm>
          </p:grpSpPr>
          <p:sp>
            <p:nvSpPr>
              <p:cNvPr id="389" name=""/>
              <p:cNvSpPr/>
              <p:nvPr/>
            </p:nvSpPr>
            <p:spPr>
              <a:xfrm>
                <a:off x="682200" y="5321160"/>
                <a:ext cx="7942320" cy="837720"/>
              </a:xfrm>
              <a:prstGeom prst="roundRect">
                <a:avLst>
                  <a:gd name="adj" fmla="val 185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82200" y="5321160"/>
                <a:ext cx="7942320" cy="837720"/>
              </a:xfrm>
              <a:prstGeom prst="roundRect">
                <a:avLst>
                  <a:gd name="adj" fmla="val 18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++ Language Standar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82200" y="3083760"/>
              <a:ext cx="3898080" cy="2095920"/>
              <a:chOff x="682200" y="3083760"/>
              <a:chExt cx="3898080" cy="2095920"/>
            </a:xfrm>
          </p:grpSpPr>
          <p:sp>
            <p:nvSpPr>
              <p:cNvPr id="392" name=""/>
              <p:cNvSpPr/>
              <p:nvPr/>
            </p:nvSpPr>
            <p:spPr>
              <a:xfrm>
                <a:off x="682200" y="3083760"/>
                <a:ext cx="3898080" cy="2095920"/>
              </a:xfrm>
              <a:prstGeom prst="roundRect">
                <a:avLst>
                  <a:gd name="adj" fmla="val 74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2200" y="3083760"/>
                <a:ext cx="3898080" cy="209592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re Languag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du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Po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cess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v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Interfac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hanne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Event-driven simulation kerne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4726440" y="3083760"/>
              <a:ext cx="3898080" cy="2095920"/>
              <a:chOff x="4726440" y="3083760"/>
              <a:chExt cx="3898080" cy="2095920"/>
            </a:xfrm>
          </p:grpSpPr>
          <p:sp>
            <p:nvSpPr>
              <p:cNvPr id="395" name=""/>
              <p:cNvSpPr/>
              <p:nvPr/>
            </p:nvSpPr>
            <p:spPr>
              <a:xfrm>
                <a:off x="4726440" y="3083760"/>
                <a:ext cx="3898080" cy="2095920"/>
              </a:xfrm>
              <a:prstGeom prst="roundRect">
                <a:avLst>
                  <a:gd name="adj" fmla="val 74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26440" y="3083760"/>
                <a:ext cx="3898080" cy="209592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ata typ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its and bit-vecto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bitrary precision intege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ixed-point numbe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4-valued logic types, logic-vecto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++ user defined typ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682200" y="2176200"/>
              <a:ext cx="7942320" cy="837720"/>
              <a:chOff x="682200" y="2176200"/>
              <a:chExt cx="7942320" cy="837720"/>
            </a:xfrm>
          </p:grpSpPr>
          <p:sp>
            <p:nvSpPr>
              <p:cNvPr id="398" name=""/>
              <p:cNvSpPr/>
              <p:nvPr/>
            </p:nvSpPr>
            <p:spPr>
              <a:xfrm>
                <a:off x="682200" y="2176200"/>
                <a:ext cx="7942320" cy="837720"/>
              </a:xfrm>
              <a:prstGeom prst="roundRect">
                <a:avLst>
                  <a:gd name="adj" fmla="val 185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82200" y="2176200"/>
                <a:ext cx="7942320" cy="837720"/>
              </a:xfrm>
              <a:prstGeom prst="roundRect">
                <a:avLst>
                  <a:gd name="adj" fmla="val 18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lementary Channel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ignal, Timer, Mutex, Semaphore, FIFO, et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682200" y="1266480"/>
              <a:ext cx="3537720" cy="837720"/>
              <a:chOff x="682200" y="1266480"/>
              <a:chExt cx="3537720" cy="837720"/>
            </a:xfrm>
          </p:grpSpPr>
          <p:sp>
            <p:nvSpPr>
              <p:cNvPr id="401" name=""/>
              <p:cNvSpPr/>
              <p:nvPr/>
            </p:nvSpPr>
            <p:spPr>
              <a:xfrm>
                <a:off x="682200" y="1266480"/>
                <a:ext cx="3537720" cy="837720"/>
              </a:xfrm>
              <a:prstGeom prst="roundRect">
                <a:avLst>
                  <a:gd name="adj" fmla="val 185"/>
                </a:avLst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82200" y="1266480"/>
                <a:ext cx="3537720" cy="837720"/>
              </a:xfrm>
              <a:prstGeom prst="roundRect">
                <a:avLst>
                  <a:gd name="adj" fmla="val 18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hannels for Mo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Kahn process networks, SDF, et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4438080" y="1266480"/>
              <a:ext cx="4186440" cy="837720"/>
              <a:chOff x="4438080" y="1266480"/>
              <a:chExt cx="4186440" cy="837720"/>
            </a:xfrm>
          </p:grpSpPr>
          <p:sp>
            <p:nvSpPr>
              <p:cNvPr id="404" name=""/>
              <p:cNvSpPr/>
              <p:nvPr/>
            </p:nvSpPr>
            <p:spPr>
              <a:xfrm>
                <a:off x="4438080" y="1266480"/>
                <a:ext cx="4186440" cy="837720"/>
              </a:xfrm>
              <a:prstGeom prst="roundRect">
                <a:avLst>
                  <a:gd name="adj" fmla="val 185"/>
                </a:avLst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438080" y="1266480"/>
                <a:ext cx="4186440" cy="837720"/>
              </a:xfrm>
              <a:prstGeom prst="roundRect">
                <a:avLst>
                  <a:gd name="adj" fmla="val 18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ethodology-specific Channel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ster/Slave librar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348920"/>
            <a:ext cx="785016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ommunicate between local mod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266760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it interfaces such a global variables should be avo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266760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 provide the well-defined boundaries through which module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266760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 are connect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n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i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rovide the required encaps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266760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 are “kind of” pointers to chann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588000" y="5157720"/>
            <a:ext cx="2330640" cy="11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 station example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66400" cy="531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BEG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in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See gas_station.h for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&lt;systemc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"gas_station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igned errors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* simulation_name = "gas_statio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sc_main(int argc, char* argv[]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_set_time_resolution(1,SC_N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_set_default_time_unit(1,SC_N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_station Charlies("Charlies",/*full1*/10,/*full2*/12,/*filltime*/1.5,/*maxfills*/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&lt;&lt; "INFO: Starting gas_station simulation" &lt;&lt; 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_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&lt;&lt; "INFO: Exiting gas_station simulation" &lt;&lt; 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&lt;&lt; "INFO: Simulation " &lt;&lt; simulation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 " " &lt;&lt; (errors?"FAILED":"PASSED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 " with " &lt;&lt; errors &lt;&lt; " error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 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errors?1:0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5943600"/>
            <a:ext cx="4648320" cy="45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ource &amp; ©: D. Black, J. Donovan, http://eklectically.com/Book/; All usage restrictions imposed by the authors a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50560" y="4581360"/>
            <a:ext cx="8366040" cy="12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_thread in module modA communicates a value contained in local variable v by call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of the parent module’s channel c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_thread does not need to use anything but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 of concerns enabled b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fa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727280" y="1268280"/>
            <a:ext cx="5976720" cy="3060720"/>
          </a:xfrm>
          <a:prstGeom prst="roundRect">
            <a:avLst>
              <a:gd name="adj" fmla="val 5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71640" y="2889360"/>
            <a:ext cx="2700360" cy="136836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896000" y="2924280"/>
            <a:ext cx="2700360" cy="133344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924360" y="1592280"/>
            <a:ext cx="1654200" cy="789120"/>
            <a:chOff x="3924360" y="1592280"/>
            <a:chExt cx="1654200" cy="789120"/>
          </a:xfrm>
        </p:grpSpPr>
        <p:sp>
          <p:nvSpPr>
            <p:cNvPr id="415" name=""/>
            <p:cNvSpPr/>
            <p:nvPr/>
          </p:nvSpPr>
          <p:spPr>
            <a:xfrm>
              <a:off x="3924360" y="1592280"/>
              <a:ext cx="1654200" cy="789120"/>
            </a:xfrm>
            <a:custGeom>
              <a:avLst/>
              <a:gdLst/>
              <a:ahLst/>
              <a:rect l="l" t="t" r="r" b="b"/>
              <a:pathLst>
                <a:path w="4601" h="2198">
                  <a:moveTo>
                    <a:pt x="1150" y="0"/>
                  </a:moveTo>
                  <a:lnTo>
                    <a:pt x="3450" y="0"/>
                  </a:lnTo>
                  <a:lnTo>
                    <a:pt x="4600" y="1098"/>
                  </a:lnTo>
                  <a:lnTo>
                    <a:pt x="3450" y="2197"/>
                  </a:lnTo>
                  <a:lnTo>
                    <a:pt x="1150" y="2197"/>
                  </a:lnTo>
                  <a:lnTo>
                    <a:pt x="0" y="1098"/>
                  </a:lnTo>
                  <a:lnTo>
                    <a:pt x="115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30360" y="1738080"/>
              <a:ext cx="1040400" cy="497160"/>
            </a:xfrm>
            <a:prstGeom prst="roundRect">
              <a:avLst>
                <a:gd name="adj" fmla="val 31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rite().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d(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087640" y="3213000"/>
            <a:ext cx="2195280" cy="971640"/>
            <a:chOff x="2087640" y="3213000"/>
            <a:chExt cx="2195280" cy="971640"/>
          </a:xfrm>
        </p:grpSpPr>
        <p:sp>
          <p:nvSpPr>
            <p:cNvPr id="418" name=""/>
            <p:cNvSpPr/>
            <p:nvPr/>
          </p:nvSpPr>
          <p:spPr>
            <a:xfrm>
              <a:off x="2087640" y="3213000"/>
              <a:ext cx="2195280" cy="971640"/>
            </a:xfrm>
            <a:prstGeom prst="ellipse">
              <a:avLst/>
            </a:prstGeom>
            <a:solidFill>
              <a:srgbClr val="e3e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12720" y="3357360"/>
              <a:ext cx="1544760" cy="68472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_thre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6360" y="3284640"/>
            <a:ext cx="2158920" cy="934920"/>
            <a:chOff x="5256360" y="3284640"/>
            <a:chExt cx="2158920" cy="934920"/>
          </a:xfrm>
        </p:grpSpPr>
        <p:sp>
          <p:nvSpPr>
            <p:cNvPr id="421" name=""/>
            <p:cNvSpPr/>
            <p:nvPr/>
          </p:nvSpPr>
          <p:spPr>
            <a:xfrm>
              <a:off x="5256360" y="3284640"/>
              <a:ext cx="2158920" cy="934920"/>
            </a:xfrm>
            <a:prstGeom prst="ellipse">
              <a:avLst/>
            </a:prstGeom>
            <a:solidFill>
              <a:srgbClr val="e3e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76400" y="3422160"/>
              <a:ext cx="1519920" cy="657720"/>
            </a:xfrm>
            <a:prstGeom prst="roundRect">
              <a:avLst>
                <a:gd name="adj" fmla="val 2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_thre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16360" y="1844640"/>
            <a:ext cx="322200" cy="322200"/>
            <a:chOff x="3816360" y="1844640"/>
            <a:chExt cx="322200" cy="322200"/>
          </a:xfrm>
        </p:grpSpPr>
        <p:sp>
          <p:nvSpPr>
            <p:cNvPr id="424" name=""/>
            <p:cNvSpPr/>
            <p:nvPr/>
          </p:nvSpPr>
          <p:spPr>
            <a:xfrm>
              <a:off x="3816360" y="1844640"/>
              <a:ext cx="3222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88720" y="1951920"/>
              <a:ext cx="181440" cy="107280"/>
            </a:xfrm>
            <a:custGeom>
              <a:avLst/>
              <a:gdLst/>
              <a:ahLst/>
              <a:rect l="l" t="t" r="r" b="b"/>
              <a:pathLst>
                <a:path w="505" h="301">
                  <a:moveTo>
                    <a:pt x="0" y="300"/>
                  </a:moveTo>
                  <a:lnTo>
                    <a:pt x="504" y="300"/>
                  </a:lnTo>
                  <a:lnTo>
                    <a:pt x="50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3920760" y="1233360"/>
            <a:ext cx="1880640" cy="378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c_fifo&lt;int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059280" y="2781000"/>
            <a:ext cx="214200" cy="214200"/>
            <a:chOff x="3059280" y="2781000"/>
            <a:chExt cx="214200" cy="214200"/>
          </a:xfrm>
        </p:grpSpPr>
        <p:sp>
          <p:nvSpPr>
            <p:cNvPr id="428" name=""/>
            <p:cNvSpPr/>
            <p:nvPr/>
          </p:nvSpPr>
          <p:spPr>
            <a:xfrm rot="16200000">
              <a:off x="3060720" y="2781000"/>
              <a:ext cx="210960" cy="214200"/>
            </a:xfrm>
            <a:custGeom>
              <a:avLst/>
              <a:gdLst>
                <a:gd name="textAreaLeft" fmla="*/ 360 w 210960"/>
                <a:gd name="textAreaRight" fmla="*/ 210600 w 210960"/>
                <a:gd name="textAreaTop" fmla="*/ 360 h 214200"/>
                <a:gd name="textAreaBottom" fmla="*/ 213840 h 214200"/>
              </a:gdLst>
              <a:ahLst/>
              <a:rect l="textAreaLeft" t="textAreaTop" r="textAreaRight" b="textAreaBottom"/>
              <a:pathLst>
                <a:path w="21600" h="21931">
                  <a:moveTo>
                    <a:pt x="158" y="0"/>
                  </a:moveTo>
                  <a:arcTo wR="158" hR="158" stAng="16200000" swAng="-5400000"/>
                  <a:lnTo>
                    <a:pt x="0" y="21773"/>
                  </a:lnTo>
                  <a:arcTo wR="158" hR="158" stAng="10800000" swAng="-5400000"/>
                  <a:lnTo>
                    <a:pt x="21442" y="21931"/>
                  </a:lnTo>
                  <a:arcTo wR="158" hR="158" stAng="5400000" swAng="-5400000"/>
                  <a:lnTo>
                    <a:pt x="21600" y="158"/>
                  </a:lnTo>
                  <a:arcTo wR="158" hR="158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29840" y="2782800"/>
              <a:ext cx="108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202560" y="2781000"/>
              <a:ext cx="108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192720" y="2781000"/>
            <a:ext cx="214560" cy="214200"/>
            <a:chOff x="6192720" y="2781000"/>
            <a:chExt cx="214560" cy="214200"/>
          </a:xfrm>
        </p:grpSpPr>
        <p:sp>
          <p:nvSpPr>
            <p:cNvPr id="432" name=""/>
            <p:cNvSpPr/>
            <p:nvPr/>
          </p:nvSpPr>
          <p:spPr>
            <a:xfrm rot="16200000">
              <a:off x="6194520" y="2781000"/>
              <a:ext cx="210960" cy="214560"/>
            </a:xfrm>
            <a:custGeom>
              <a:avLst/>
              <a:gdLst>
                <a:gd name="textAreaLeft" fmla="*/ 360 w 210960"/>
                <a:gd name="textAreaRight" fmla="*/ 210600 w 210960"/>
                <a:gd name="textAreaTop" fmla="*/ 360 h 214560"/>
                <a:gd name="textAreaBottom" fmla="*/ 214200 h 214560"/>
              </a:gdLst>
              <a:ahLst/>
              <a:rect l="textAreaLeft" t="textAreaTop" r="textAreaRight" b="textAreaBottom"/>
              <a:pathLst>
                <a:path w="21600" h="21968">
                  <a:moveTo>
                    <a:pt x="158" y="0"/>
                  </a:moveTo>
                  <a:arcTo wR="158" hR="158" stAng="16200000" swAng="-5400000"/>
                  <a:lnTo>
                    <a:pt x="0" y="21810"/>
                  </a:lnTo>
                  <a:arcTo wR="158" hR="158" stAng="10800000" swAng="-5400000"/>
                  <a:lnTo>
                    <a:pt x="21442" y="21968"/>
                  </a:lnTo>
                  <a:arcTo wR="158" hR="158" stAng="5400000" swAng="-5400000"/>
                  <a:lnTo>
                    <a:pt x="21600" y="158"/>
                  </a:lnTo>
                  <a:arcTo wR="158" hR="158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263640" y="2782800"/>
              <a:ext cx="108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336360" y="2781000"/>
              <a:ext cx="108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1693800" y="2457360"/>
            <a:ext cx="1184400" cy="34956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A 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897440" y="2492280"/>
            <a:ext cx="1184400" cy="34956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B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400360" y="1807920"/>
            <a:ext cx="322200" cy="322200"/>
            <a:chOff x="5400360" y="1807920"/>
            <a:chExt cx="322200" cy="322200"/>
          </a:xfrm>
        </p:grpSpPr>
        <p:sp>
          <p:nvSpPr>
            <p:cNvPr id="438" name=""/>
            <p:cNvSpPr/>
            <p:nvPr/>
          </p:nvSpPr>
          <p:spPr>
            <a:xfrm rot="10800000">
              <a:off x="5400360" y="1807920"/>
              <a:ext cx="3222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70200" y="1915560"/>
              <a:ext cx="180000" cy="106920"/>
            </a:xfrm>
            <a:custGeom>
              <a:avLst/>
              <a:gdLst/>
              <a:ahLst/>
              <a:rect l="l" t="t" r="r" b="b"/>
              <a:pathLst>
                <a:path w="504" h="300">
                  <a:moveTo>
                    <a:pt x="503" y="0"/>
                  </a:moveTo>
                  <a:lnTo>
                    <a:pt x="0" y="0"/>
                  </a:lnTo>
                  <a:lnTo>
                    <a:pt x="0" y="299"/>
                  </a:lnTo>
                  <a:lnTo>
                    <a:pt x="503" y="29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3166920" y="1989000"/>
            <a:ext cx="650880" cy="793800"/>
          </a:xfrm>
          <a:custGeom>
            <a:avLst/>
            <a:gdLst/>
            <a:ahLst/>
            <a:rect l="l" t="t" r="r" b="b"/>
            <a:pathLst>
              <a:path w="1806" h="2203">
                <a:moveTo>
                  <a:pt x="0" y="2202"/>
                </a:moveTo>
                <a:lnTo>
                  <a:pt x="0" y="0"/>
                </a:lnTo>
                <a:lnTo>
                  <a:pt x="180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24360" y="1989000"/>
            <a:ext cx="578160" cy="793800"/>
          </a:xfrm>
          <a:custGeom>
            <a:avLst/>
            <a:gdLst/>
            <a:ahLst/>
            <a:rect l="l" t="t" r="r" b="b"/>
            <a:pathLst>
              <a:path w="1603" h="2203">
                <a:moveTo>
                  <a:pt x="0" y="0"/>
                </a:moveTo>
                <a:lnTo>
                  <a:pt x="1602" y="0"/>
                </a:lnTo>
                <a:lnTo>
                  <a:pt x="1602" y="220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78160" y="2852640"/>
            <a:ext cx="917640" cy="34956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410160" y="2889360"/>
            <a:ext cx="917640" cy="34956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374200" y="3681360"/>
            <a:ext cx="1633680" cy="378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-&gt;write(v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81080" y="3753000"/>
            <a:ext cx="1693080" cy="34956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=pB-&gt;rea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11640" y="1989000"/>
            <a:ext cx="290520" cy="181080"/>
          </a:xfrm>
          <a:custGeom>
            <a:avLst/>
            <a:gdLst/>
            <a:ahLst/>
            <a:rect l="l" t="t" r="r" b="b"/>
            <a:pathLst>
              <a:path w="805" h="501">
                <a:moveTo>
                  <a:pt x="804" y="0"/>
                </a:moveTo>
                <a:cubicBezTo>
                  <a:pt x="720" y="106"/>
                  <a:pt x="636" y="216"/>
                  <a:pt x="503" y="300"/>
                </a:cubicBezTo>
                <a:cubicBezTo>
                  <a:pt x="370" y="384"/>
                  <a:pt x="185" y="442"/>
                  <a:pt x="0" y="50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140360" y="1844640"/>
            <a:ext cx="215640" cy="144360"/>
          </a:xfrm>
          <a:custGeom>
            <a:avLst/>
            <a:gdLst/>
            <a:ahLst/>
            <a:rect l="l" t="t" r="r" b="b"/>
            <a:pathLst>
              <a:path w="601" h="403">
                <a:moveTo>
                  <a:pt x="0" y="402"/>
                </a:moveTo>
                <a:cubicBezTo>
                  <a:pt x="97" y="282"/>
                  <a:pt x="198" y="167"/>
                  <a:pt x="300" y="101"/>
                </a:cubicBezTo>
                <a:cubicBezTo>
                  <a:pt x="402" y="35"/>
                  <a:pt x="498" y="17"/>
                  <a:pt x="600" y="0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virtual methods and polymorphism in C+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6408720" cy="267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ltiport_memory_arch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_interfac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rite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r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mem[addr] = data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} // end wri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tual 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ad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r) 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m[addr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} // end rea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m[1024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556000" y="3573360"/>
            <a:ext cx="6406920" cy="2843640"/>
            <a:chOff x="2556000" y="3573360"/>
            <a:chExt cx="6406920" cy="2843640"/>
          </a:xfrm>
        </p:grpSpPr>
        <p:sp>
          <p:nvSpPr>
            <p:cNvPr id="451" name=""/>
            <p:cNvSpPr/>
            <p:nvPr/>
          </p:nvSpPr>
          <p:spPr>
            <a:xfrm>
              <a:off x="2556000" y="3573360"/>
              <a:ext cx="6406920" cy="2843640"/>
            </a:xfrm>
            <a:prstGeom prst="roundRect">
              <a:avLst>
                <a:gd name="adj" fmla="val 5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56000" y="3573360"/>
              <a:ext cx="6406920" cy="27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truc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multiport_memory_RTL: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ublic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my_interface {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virtua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voi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write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unsigne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addr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n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data) {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  // complex details of memory wr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} // end writ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virtual in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read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unsigne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addr) ) {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// complex details of memory re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} // end read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ivat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:   // complex details of memory 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7380360" y="1197000"/>
            <a:ext cx="1511280" cy="2284200"/>
            <a:chOff x="7380360" y="1197000"/>
            <a:chExt cx="1511280" cy="2284200"/>
          </a:xfrm>
        </p:grpSpPr>
        <p:grpSp>
          <p:nvGrpSpPr>
            <p:cNvPr id="454" name=""/>
            <p:cNvGrpSpPr/>
            <p:nvPr/>
          </p:nvGrpSpPr>
          <p:grpSpPr>
            <a:xfrm>
              <a:off x="7380360" y="1197000"/>
              <a:ext cx="1511280" cy="1624320"/>
              <a:chOff x="7380360" y="1197000"/>
              <a:chExt cx="1511280" cy="162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7380360" y="1197000"/>
                <a:ext cx="1511280" cy="648720"/>
              </a:xfrm>
              <a:prstGeom prst="roundRect">
                <a:avLst>
                  <a:gd name="adj" fmla="val 241"/>
                </a:avLst>
              </a:prstGeom>
              <a:solidFill>
                <a:srgbClr val="e2e2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380360" y="1197000"/>
                <a:ext cx="1511280" cy="16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1280" indent="-341280">
                  <a:lnSpc>
                    <a:spcPct val="93000"/>
                  </a:lnSpc>
                  <a:tabLst>
                    <a:tab algn="l" pos="0"/>
                    <a:tab algn="l" pos="341280"/>
                    <a:tab algn="l" pos="1255680"/>
                    <a:tab algn="l" pos="2170080"/>
                    <a:tab algn="l" pos="3084480"/>
                    <a:tab algn="l" pos="3998880"/>
                    <a:tab algn="l" pos="4913280"/>
                    <a:tab algn="l" pos="5827680"/>
                    <a:tab algn="l" pos="6742080"/>
                    <a:tab algn="l" pos="7656480"/>
                    <a:tab algn="l" pos="8570880"/>
                    <a:tab algn="l" pos="9485280"/>
                    <a:tab algn="l" pos="1039968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Maryland"/>
                    <a:ea typeface="Arial Unicode MS"/>
                  </a:rPr>
                  <a:t>Memories!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7" name="" descr=""/>
            <p:cNvPicPr/>
            <p:nvPr/>
          </p:nvPicPr>
          <p:blipFill>
            <a:blip r:embed="rId1"/>
            <a:stretch/>
          </p:blipFill>
          <p:spPr>
            <a:xfrm>
              <a:off x="7596360" y="1843920"/>
              <a:ext cx="1272960" cy="163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8" name=""/>
          <p:cNvGrpSpPr/>
          <p:nvPr/>
        </p:nvGrpSpPr>
        <p:grpSpPr>
          <a:xfrm>
            <a:off x="6732720" y="981000"/>
            <a:ext cx="2087280" cy="2644560"/>
            <a:chOff x="6732720" y="981000"/>
            <a:chExt cx="2087280" cy="2644560"/>
          </a:xfrm>
        </p:grpSpPr>
        <p:pic>
          <p:nvPicPr>
            <p:cNvPr id="459" name="" descr=""/>
            <p:cNvPicPr/>
            <p:nvPr/>
          </p:nvPicPr>
          <p:blipFill>
            <a:blip r:embed="rId2"/>
            <a:stretch/>
          </p:blipFill>
          <p:spPr>
            <a:xfrm>
              <a:off x="6781680" y="1883520"/>
              <a:ext cx="1989360" cy="1742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0" name=""/>
            <p:cNvGrpSpPr/>
            <p:nvPr/>
          </p:nvGrpSpPr>
          <p:grpSpPr>
            <a:xfrm>
              <a:off x="6732720" y="981000"/>
              <a:ext cx="2087280" cy="829440"/>
              <a:chOff x="6732720" y="981000"/>
              <a:chExt cx="2087280" cy="829440"/>
            </a:xfrm>
          </p:grpSpPr>
          <p:sp>
            <p:nvSpPr>
              <p:cNvPr id="461" name=""/>
              <p:cNvSpPr/>
              <p:nvPr/>
            </p:nvSpPr>
            <p:spPr>
              <a:xfrm>
                <a:off x="6732720" y="981000"/>
                <a:ext cx="2087280" cy="829440"/>
              </a:xfrm>
              <a:prstGeom prst="roundRect">
                <a:avLst>
                  <a:gd name="adj" fmla="val 190"/>
                </a:avLst>
              </a:prstGeom>
              <a:solidFill>
                <a:srgbClr val="e2e2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732720" y="981000"/>
                <a:ext cx="2087280" cy="77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1280" indent="-341280">
                  <a:lnSpc>
                    <a:spcPct val="93000"/>
                  </a:lnSpc>
                  <a:tabLst>
                    <a:tab algn="l" pos="0"/>
                    <a:tab algn="l" pos="341280"/>
                    <a:tab algn="l" pos="1255680"/>
                    <a:tab algn="l" pos="2170080"/>
                    <a:tab algn="l" pos="3084480"/>
                    <a:tab algn="l" pos="3998880"/>
                    <a:tab algn="l" pos="4913280"/>
                    <a:tab algn="l" pos="5827680"/>
                    <a:tab algn="l" pos="6742080"/>
                    <a:tab algn="l" pos="7656480"/>
                    <a:tab algn="l" pos="8570880"/>
                    <a:tab algn="l" pos="9485280"/>
                    <a:tab algn="l" pos="103996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Oops! Memories!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3" name=""/>
          <p:cNvSpPr/>
          <p:nvPr/>
        </p:nvSpPr>
        <p:spPr>
          <a:xfrm>
            <a:off x="303120" y="4311720"/>
            <a:ext cx="16765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emory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tion to memory tes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4720" y="1295280"/>
            <a:ext cx="5329440" cy="294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test(my_interface mem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//complex memory t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ort_memory_arch f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ort_memory_RTL slo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test(fas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test(slow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68360" y="4653000"/>
            <a:ext cx="5325840" cy="1195200"/>
            <a:chOff x="468360" y="4653000"/>
            <a:chExt cx="5325840" cy="1195200"/>
          </a:xfrm>
        </p:grpSpPr>
        <p:sp>
          <p:nvSpPr>
            <p:cNvPr id="467" name=""/>
            <p:cNvSpPr/>
            <p:nvPr/>
          </p:nvSpPr>
          <p:spPr>
            <a:xfrm>
              <a:off x="468360" y="4653000"/>
              <a:ext cx="5325840" cy="1195200"/>
            </a:xfrm>
            <a:prstGeom prst="roundRect">
              <a:avLst>
                <a:gd name="adj" fmla="val 130"/>
              </a:avLst>
            </a:prstGeom>
            <a:solidFill>
              <a:srgbClr val="e2e2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8360" y="4653000"/>
              <a:ext cx="5325840" cy="11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he same memory test method will use different levels of precision for the memory mode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6407280" y="1773360"/>
            <a:ext cx="1439640" cy="480960"/>
            <a:chOff x="6407280" y="1773360"/>
            <a:chExt cx="1439640" cy="480960"/>
          </a:xfrm>
        </p:grpSpPr>
        <p:sp>
          <p:nvSpPr>
            <p:cNvPr id="470" name=""/>
            <p:cNvSpPr/>
            <p:nvPr/>
          </p:nvSpPr>
          <p:spPr>
            <a:xfrm>
              <a:off x="6407280" y="1773360"/>
              <a:ext cx="1439640" cy="48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21120" y="1844280"/>
              <a:ext cx="1013040" cy="33876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t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6012000" y="1233360"/>
            <a:ext cx="1342800" cy="3780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6478200" y="2241720"/>
            <a:ext cx="50652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803280" y="2276640"/>
            <a:ext cx="1370160" cy="3780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,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156360" y="2744640"/>
            <a:ext cx="75564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017840" y="2708280"/>
            <a:ext cx="1952280" cy="378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-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5867280" y="3429000"/>
            <a:ext cx="1440000" cy="646200"/>
            <a:chOff x="5867280" y="3429000"/>
            <a:chExt cx="1440000" cy="646200"/>
          </a:xfrm>
        </p:grpSpPr>
        <p:sp>
          <p:nvSpPr>
            <p:cNvPr id="478" name=""/>
            <p:cNvSpPr/>
            <p:nvPr/>
          </p:nvSpPr>
          <p:spPr>
            <a:xfrm>
              <a:off x="5867280" y="3429000"/>
              <a:ext cx="1440000" cy="646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79680" y="3524040"/>
              <a:ext cx="1013400" cy="4561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RT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7451640" y="3392640"/>
            <a:ext cx="1440000" cy="645840"/>
            <a:chOff x="7451640" y="3392640"/>
            <a:chExt cx="1440000" cy="645840"/>
          </a:xfrm>
        </p:grpSpPr>
        <p:sp>
          <p:nvSpPr>
            <p:cNvPr id="481" name=""/>
            <p:cNvSpPr/>
            <p:nvPr/>
          </p:nvSpPr>
          <p:spPr>
            <a:xfrm>
              <a:off x="7451640" y="3392640"/>
              <a:ext cx="1440000" cy="64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64040" y="3487320"/>
              <a:ext cx="101340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rc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6767640" y="3033720"/>
            <a:ext cx="1008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6406920" y="3105000"/>
            <a:ext cx="7452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80000" y="2744640"/>
            <a:ext cx="324000" cy="324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480000" y="2744640"/>
            <a:ext cx="1800" cy="36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s in C+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366040" cy="11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lasses never used direct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 classes usually only contain pure virtual functions.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303840" y="2438280"/>
            <a:ext cx="3455280" cy="1319400"/>
            <a:chOff x="303840" y="2438280"/>
            <a:chExt cx="3455280" cy="1319400"/>
          </a:xfrm>
        </p:grpSpPr>
        <p:sp>
          <p:nvSpPr>
            <p:cNvPr id="490" name=""/>
            <p:cNvSpPr/>
            <p:nvPr/>
          </p:nvSpPr>
          <p:spPr>
            <a:xfrm>
              <a:off x="304920" y="2438280"/>
              <a:ext cx="3452760" cy="1319400"/>
            </a:xfrm>
            <a:prstGeom prst="roundRect">
              <a:avLst>
                <a:gd name="adj" fmla="val 11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03840" y="2438280"/>
              <a:ext cx="3455280" cy="1292760"/>
            </a:xfrm>
            <a:prstGeom prst="roundRect">
              <a:avLst>
                <a:gd name="adj" fmla="val 11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uc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My_interface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irtua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1 My_methA(…)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=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irtua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2 My_methB(…)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=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28600" y="4191120"/>
            <a:ext cx="3046320" cy="2233440"/>
            <a:chOff x="228600" y="4191120"/>
            <a:chExt cx="3046320" cy="2233440"/>
          </a:xfrm>
        </p:grpSpPr>
        <p:sp>
          <p:nvSpPr>
            <p:cNvPr id="493" name=""/>
            <p:cNvSpPr/>
            <p:nvPr/>
          </p:nvSpPr>
          <p:spPr>
            <a:xfrm>
              <a:off x="228600" y="4191120"/>
              <a:ext cx="3046320" cy="2233440"/>
            </a:xfrm>
            <a:prstGeom prst="roundRect">
              <a:avLst>
                <a:gd name="adj" fmla="val 6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8600" y="4191120"/>
              <a:ext cx="3046320" cy="20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My_Derived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public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My_Interface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1 My_methA(…) {…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2 My_methB(…) {…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ivat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5 my_data1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429000" y="4191120"/>
            <a:ext cx="3046320" cy="2233440"/>
            <a:chOff x="3429000" y="4191120"/>
            <a:chExt cx="3046320" cy="2233440"/>
          </a:xfrm>
        </p:grpSpPr>
        <p:sp>
          <p:nvSpPr>
            <p:cNvPr id="496" name=""/>
            <p:cNvSpPr/>
            <p:nvPr/>
          </p:nvSpPr>
          <p:spPr>
            <a:xfrm>
              <a:off x="3429000" y="4191120"/>
              <a:ext cx="3046320" cy="2233440"/>
            </a:xfrm>
            <a:prstGeom prst="roundRect">
              <a:avLst>
                <a:gd name="adj" fmla="val 6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29000" y="4191120"/>
              <a:ext cx="3046320" cy="20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My_Derived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public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My_Interface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1 My_methA(…) {…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2 My_methB(…) {…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ivat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7 my_data4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279440" y="3794040"/>
            <a:ext cx="320760" cy="320760"/>
          </a:xfrm>
          <a:custGeom>
            <a:avLst/>
            <a:gdLst/>
            <a:ahLst/>
            <a:rect l="l" t="t" r="r" b="b"/>
            <a:pathLst>
              <a:path w="889" h="889">
                <a:moveTo>
                  <a:pt x="543" y="0"/>
                </a:moveTo>
                <a:lnTo>
                  <a:pt x="172" y="517"/>
                </a:lnTo>
                <a:lnTo>
                  <a:pt x="0" y="393"/>
                </a:lnTo>
                <a:lnTo>
                  <a:pt x="220" y="813"/>
                </a:lnTo>
                <a:lnTo>
                  <a:pt x="688" y="888"/>
                </a:lnTo>
                <a:lnTo>
                  <a:pt x="517" y="764"/>
                </a:lnTo>
                <a:lnTo>
                  <a:pt x="888" y="248"/>
                </a:lnTo>
                <a:lnTo>
                  <a:pt x="543" y="0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16280" y="3794040"/>
            <a:ext cx="320760" cy="319320"/>
          </a:xfrm>
          <a:custGeom>
            <a:avLst/>
            <a:gdLst/>
            <a:ahLst/>
            <a:rect l="l" t="t" r="r" b="b"/>
            <a:pathLst>
              <a:path w="889" h="887">
                <a:moveTo>
                  <a:pt x="346" y="0"/>
                </a:moveTo>
                <a:lnTo>
                  <a:pt x="716" y="515"/>
                </a:lnTo>
                <a:lnTo>
                  <a:pt x="888" y="392"/>
                </a:lnTo>
                <a:lnTo>
                  <a:pt x="668" y="811"/>
                </a:lnTo>
                <a:lnTo>
                  <a:pt x="200" y="886"/>
                </a:lnTo>
                <a:lnTo>
                  <a:pt x="371" y="763"/>
                </a:lnTo>
                <a:lnTo>
                  <a:pt x="0" y="245"/>
                </a:lnTo>
                <a:lnTo>
                  <a:pt x="346" y="0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6629400" y="4191120"/>
            <a:ext cx="2389320" cy="1831680"/>
            <a:chOff x="6629400" y="4191120"/>
            <a:chExt cx="2389320" cy="1831680"/>
          </a:xfrm>
        </p:grpSpPr>
        <p:sp>
          <p:nvSpPr>
            <p:cNvPr id="501" name=""/>
            <p:cNvSpPr/>
            <p:nvPr/>
          </p:nvSpPr>
          <p:spPr>
            <a:xfrm>
              <a:off x="6629400" y="4191120"/>
              <a:ext cx="2389320" cy="1831680"/>
            </a:xfrm>
            <a:prstGeom prst="roundRect">
              <a:avLst>
                <a:gd name="adj" fmla="val 69"/>
              </a:avLst>
            </a:prstGeom>
            <a:solidFill>
              <a:srgbClr val="e2e2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29400" y="4191120"/>
              <a:ext cx="23893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lasses containing no data members and only pure virtual methods are called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nterface class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267080" y="2438280"/>
            <a:ext cx="4724640" cy="1474920"/>
            <a:chOff x="4267080" y="2438280"/>
            <a:chExt cx="4724640" cy="1474920"/>
          </a:xfrm>
        </p:grpSpPr>
        <p:sp>
          <p:nvSpPr>
            <p:cNvPr id="504" name=""/>
            <p:cNvSpPr/>
            <p:nvPr/>
          </p:nvSpPr>
          <p:spPr>
            <a:xfrm>
              <a:off x="4267080" y="2438280"/>
              <a:ext cx="4724640" cy="1474920"/>
            </a:xfrm>
            <a:prstGeom prst="roundRect">
              <a:avLst>
                <a:gd name="adj" fmla="val 10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67080" y="2438280"/>
              <a:ext cx="472464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ymorphis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calling My_methA resu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6036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call to My_Derived1::My_methA if object is of type My_Derived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6036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in call to My_Derived2::My_methA if object is of type My_Derived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 of interfaces and chann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50920" y="1218960"/>
            <a:ext cx="8572320" cy="14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C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fac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 class inheriting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interfac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only pure virtual declarations of methods referenced by SystemC channels and 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mplementations or data are provided in an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50920" y="3176640"/>
            <a:ext cx="857232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ystemC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channe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lass implement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1interface classes, inheriting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c_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c_prim_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hannel implements all methods of inherited interface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24000" y="5105520"/>
            <a:ext cx="84992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By using interfaces to connect to channels, we can implement modules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independen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of the implementation details of the communication chann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of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42920" y="1989000"/>
            <a:ext cx="1217520" cy="912960"/>
            <a:chOff x="142920" y="1989000"/>
            <a:chExt cx="1217520" cy="912960"/>
          </a:xfrm>
        </p:grpSpPr>
        <p:sp>
          <p:nvSpPr>
            <p:cNvPr id="512" name=""/>
            <p:cNvSpPr/>
            <p:nvPr/>
          </p:nvSpPr>
          <p:spPr>
            <a:xfrm>
              <a:off x="142920" y="1989000"/>
              <a:ext cx="1217520" cy="912960"/>
            </a:xfrm>
            <a:prstGeom prst="roundRect">
              <a:avLst>
                <a:gd name="adj" fmla="val 17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42920" y="1989000"/>
              <a:ext cx="12175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223640" y="2276640"/>
            <a:ext cx="214200" cy="214200"/>
            <a:chOff x="1223640" y="2276640"/>
            <a:chExt cx="214200" cy="214200"/>
          </a:xfrm>
        </p:grpSpPr>
        <p:sp>
          <p:nvSpPr>
            <p:cNvPr id="515" name=""/>
            <p:cNvSpPr/>
            <p:nvPr/>
          </p:nvSpPr>
          <p:spPr>
            <a:xfrm>
              <a:off x="1225440" y="2276640"/>
              <a:ext cx="210960" cy="214200"/>
            </a:xfrm>
            <a:custGeom>
              <a:avLst/>
              <a:gdLst>
                <a:gd name="textAreaLeft" fmla="*/ 360 w 210960"/>
                <a:gd name="textAreaRight" fmla="*/ 210600 w 210960"/>
                <a:gd name="textAreaTop" fmla="*/ 360 h 214200"/>
                <a:gd name="textAreaBottom" fmla="*/ 213840 h 214200"/>
              </a:gdLst>
              <a:ahLst/>
              <a:rect l="textAreaLeft" t="textAreaTop" r="textAreaRight" b="textAreaBottom"/>
              <a:pathLst>
                <a:path w="21600" h="21931">
                  <a:moveTo>
                    <a:pt x="158" y="0"/>
                  </a:moveTo>
                  <a:arcTo wR="158" hR="158" stAng="16200000" swAng="-5400000"/>
                  <a:lnTo>
                    <a:pt x="0" y="21773"/>
                  </a:lnTo>
                  <a:arcTo wR="158" hR="158" stAng="10800000" swAng="-5400000"/>
                  <a:lnTo>
                    <a:pt x="21442" y="21931"/>
                  </a:lnTo>
                  <a:arcTo wR="158" hR="158" stAng="5400000" swAng="-5400000"/>
                  <a:lnTo>
                    <a:pt x="21600" y="158"/>
                  </a:lnTo>
                  <a:arcTo wR="158" hR="158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1223640" y="2347200"/>
              <a:ext cx="21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25440" y="2419920"/>
              <a:ext cx="210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3024000" y="1989000"/>
            <a:ext cx="1360800" cy="912960"/>
            <a:chOff x="3024000" y="1989000"/>
            <a:chExt cx="1360800" cy="912960"/>
          </a:xfrm>
        </p:grpSpPr>
        <p:grpSp>
          <p:nvGrpSpPr>
            <p:cNvPr id="519" name=""/>
            <p:cNvGrpSpPr/>
            <p:nvPr/>
          </p:nvGrpSpPr>
          <p:grpSpPr>
            <a:xfrm>
              <a:off x="3166920" y="1989000"/>
              <a:ext cx="1217880" cy="912960"/>
              <a:chOff x="3166920" y="1989000"/>
              <a:chExt cx="1217880" cy="912960"/>
            </a:xfrm>
          </p:grpSpPr>
          <p:sp>
            <p:nvSpPr>
              <p:cNvPr id="520" name=""/>
              <p:cNvSpPr/>
              <p:nvPr/>
            </p:nvSpPr>
            <p:spPr>
              <a:xfrm>
                <a:off x="3166920" y="1989000"/>
                <a:ext cx="1217880" cy="912960"/>
              </a:xfrm>
              <a:prstGeom prst="roundRect">
                <a:avLst>
                  <a:gd name="adj" fmla="val 171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166920" y="1989000"/>
                <a:ext cx="121788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od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3024000" y="2276640"/>
              <a:ext cx="214200" cy="214200"/>
              <a:chOff x="3024000" y="2276640"/>
              <a:chExt cx="214200" cy="214200"/>
            </a:xfrm>
          </p:grpSpPr>
          <p:sp>
            <p:nvSpPr>
              <p:cNvPr id="523" name=""/>
              <p:cNvSpPr/>
              <p:nvPr/>
            </p:nvSpPr>
            <p:spPr>
              <a:xfrm>
                <a:off x="3025800" y="2276640"/>
                <a:ext cx="210600" cy="214200"/>
              </a:xfrm>
              <a:custGeom>
                <a:avLst/>
                <a:gdLst>
                  <a:gd name="textAreaLeft" fmla="*/ 360 w 210600"/>
                  <a:gd name="textAreaRight" fmla="*/ 210240 w 210600"/>
                  <a:gd name="textAreaTop" fmla="*/ 360 h 214200"/>
                  <a:gd name="textAreaBottom" fmla="*/ 213840 h 214200"/>
                </a:gdLst>
                <a:ahLst/>
                <a:rect l="textAreaLeft" t="textAreaTop" r="textAreaRight" b="textAreaBottom"/>
                <a:pathLst>
                  <a:path w="21600" h="21969">
                    <a:moveTo>
                      <a:pt x="158" y="0"/>
                    </a:moveTo>
                    <a:arcTo wR="158" hR="158" stAng="16200000" swAng="-5400000"/>
                    <a:lnTo>
                      <a:pt x="0" y="21811"/>
                    </a:lnTo>
                    <a:arcTo wR="158" hR="158" stAng="10800000" swAng="-5400000"/>
                    <a:lnTo>
                      <a:pt x="21442" y="21969"/>
                    </a:lnTo>
                    <a:arcTo wR="158" hR="158" stAng="5400000" swAng="-5400000"/>
                    <a:lnTo>
                      <a:pt x="21600" y="158"/>
                    </a:lnTo>
                    <a:arcTo wR="158" hR="15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3024000" y="2347200"/>
                <a:ext cx="214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025800" y="2419920"/>
                <a:ext cx="210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"/>
          <p:cNvSpPr/>
          <p:nvPr/>
        </p:nvSpPr>
        <p:spPr>
          <a:xfrm>
            <a:off x="1933560" y="1700280"/>
            <a:ext cx="744480" cy="1438200"/>
          </a:xfrm>
          <a:custGeom>
            <a:avLst/>
            <a:gdLst/>
            <a:ahLst/>
            <a:rect l="l" t="t" r="r" b="b"/>
            <a:pathLst>
              <a:path w="2066" h="3997">
                <a:moveTo>
                  <a:pt x="0" y="979"/>
                </a:moveTo>
                <a:lnTo>
                  <a:pt x="1032" y="0"/>
                </a:lnTo>
                <a:lnTo>
                  <a:pt x="2065" y="952"/>
                </a:lnTo>
                <a:lnTo>
                  <a:pt x="2038" y="3096"/>
                </a:lnTo>
                <a:lnTo>
                  <a:pt x="1085" y="3996"/>
                </a:lnTo>
                <a:lnTo>
                  <a:pt x="26" y="3016"/>
                </a:lnTo>
                <a:lnTo>
                  <a:pt x="0" y="979"/>
                </a:ln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1800360" y="2287440"/>
            <a:ext cx="214200" cy="214560"/>
            <a:chOff x="1800360" y="2287440"/>
            <a:chExt cx="214200" cy="214560"/>
          </a:xfrm>
        </p:grpSpPr>
        <p:sp>
          <p:nvSpPr>
            <p:cNvPr id="528" name=""/>
            <p:cNvSpPr/>
            <p:nvPr/>
          </p:nvSpPr>
          <p:spPr>
            <a:xfrm>
              <a:off x="1800360" y="2287440"/>
              <a:ext cx="214200" cy="21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00360" y="2345760"/>
              <a:ext cx="141840" cy="86400"/>
            </a:xfrm>
            <a:custGeom>
              <a:avLst/>
              <a:gdLst/>
              <a:ahLst/>
              <a:rect l="l" t="t" r="r" b="b"/>
              <a:pathLst>
                <a:path w="398" h="242">
                  <a:moveTo>
                    <a:pt x="0" y="210"/>
                  </a:moveTo>
                  <a:cubicBezTo>
                    <a:pt x="140" y="225"/>
                    <a:pt x="282" y="241"/>
                    <a:pt x="339" y="210"/>
                  </a:cubicBezTo>
                  <a:cubicBezTo>
                    <a:pt x="396" y="179"/>
                    <a:pt x="397" y="62"/>
                    <a:pt x="339" y="31"/>
                  </a:cubicBezTo>
                  <a:cubicBezTo>
                    <a:pt x="281" y="0"/>
                    <a:pt x="140" y="16"/>
                    <a:pt x="0" y="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1440000" y="2384280"/>
            <a:ext cx="3603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664000" y="2384280"/>
            <a:ext cx="3603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42920" y="4221000"/>
            <a:ext cx="1217520" cy="912960"/>
            <a:chOff x="142920" y="4221000"/>
            <a:chExt cx="1217520" cy="912960"/>
          </a:xfrm>
        </p:grpSpPr>
        <p:sp>
          <p:nvSpPr>
            <p:cNvPr id="533" name=""/>
            <p:cNvSpPr/>
            <p:nvPr/>
          </p:nvSpPr>
          <p:spPr>
            <a:xfrm>
              <a:off x="142920" y="4221000"/>
              <a:ext cx="1217520" cy="912960"/>
            </a:xfrm>
            <a:prstGeom prst="roundRect">
              <a:avLst>
                <a:gd name="adj" fmla="val 17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2920" y="4221000"/>
              <a:ext cx="12175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1223640" y="4508640"/>
            <a:ext cx="214200" cy="214200"/>
            <a:chOff x="1223640" y="4508640"/>
            <a:chExt cx="214200" cy="214200"/>
          </a:xfrm>
        </p:grpSpPr>
        <p:sp>
          <p:nvSpPr>
            <p:cNvPr id="536" name=""/>
            <p:cNvSpPr/>
            <p:nvPr/>
          </p:nvSpPr>
          <p:spPr>
            <a:xfrm>
              <a:off x="1225440" y="4508640"/>
              <a:ext cx="210960" cy="214200"/>
            </a:xfrm>
            <a:custGeom>
              <a:avLst/>
              <a:gdLst>
                <a:gd name="textAreaLeft" fmla="*/ 360 w 210960"/>
                <a:gd name="textAreaRight" fmla="*/ 210600 w 210960"/>
                <a:gd name="textAreaTop" fmla="*/ 360 h 214200"/>
                <a:gd name="textAreaBottom" fmla="*/ 213840 h 214200"/>
              </a:gdLst>
              <a:ahLst/>
              <a:rect l="textAreaLeft" t="textAreaTop" r="textAreaRight" b="textAreaBottom"/>
              <a:pathLst>
                <a:path w="21600" h="21931">
                  <a:moveTo>
                    <a:pt x="158" y="0"/>
                  </a:moveTo>
                  <a:arcTo wR="158" hR="158" stAng="16200000" swAng="-5400000"/>
                  <a:lnTo>
                    <a:pt x="0" y="21773"/>
                  </a:lnTo>
                  <a:arcTo wR="158" hR="158" stAng="10800000" swAng="-5400000"/>
                  <a:lnTo>
                    <a:pt x="21442" y="21931"/>
                  </a:lnTo>
                  <a:arcTo wR="158" hR="158" stAng="5400000" swAng="-5400000"/>
                  <a:lnTo>
                    <a:pt x="21600" y="158"/>
                  </a:lnTo>
                  <a:arcTo wR="158" hR="158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1223640" y="4579200"/>
              <a:ext cx="21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25440" y="4651920"/>
              <a:ext cx="210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024000" y="4221000"/>
            <a:ext cx="1360800" cy="912960"/>
            <a:chOff x="3024000" y="4221000"/>
            <a:chExt cx="1360800" cy="912960"/>
          </a:xfrm>
        </p:grpSpPr>
        <p:grpSp>
          <p:nvGrpSpPr>
            <p:cNvPr id="540" name=""/>
            <p:cNvGrpSpPr/>
            <p:nvPr/>
          </p:nvGrpSpPr>
          <p:grpSpPr>
            <a:xfrm>
              <a:off x="3166920" y="4221000"/>
              <a:ext cx="1217880" cy="912960"/>
              <a:chOff x="3166920" y="4221000"/>
              <a:chExt cx="1217880" cy="912960"/>
            </a:xfrm>
          </p:grpSpPr>
          <p:sp>
            <p:nvSpPr>
              <p:cNvPr id="541" name=""/>
              <p:cNvSpPr/>
              <p:nvPr/>
            </p:nvSpPr>
            <p:spPr>
              <a:xfrm>
                <a:off x="3166920" y="4221000"/>
                <a:ext cx="1217880" cy="912960"/>
              </a:xfrm>
              <a:prstGeom prst="roundRect">
                <a:avLst>
                  <a:gd name="adj" fmla="val 171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166920" y="4221000"/>
                <a:ext cx="121788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od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3024000" y="4508640"/>
              <a:ext cx="214200" cy="214200"/>
              <a:chOff x="3024000" y="4508640"/>
              <a:chExt cx="214200" cy="214200"/>
            </a:xfrm>
          </p:grpSpPr>
          <p:sp>
            <p:nvSpPr>
              <p:cNvPr id="544" name=""/>
              <p:cNvSpPr/>
              <p:nvPr/>
            </p:nvSpPr>
            <p:spPr>
              <a:xfrm>
                <a:off x="3025800" y="4508640"/>
                <a:ext cx="210600" cy="214200"/>
              </a:xfrm>
              <a:custGeom>
                <a:avLst/>
                <a:gdLst>
                  <a:gd name="textAreaLeft" fmla="*/ 360 w 210600"/>
                  <a:gd name="textAreaRight" fmla="*/ 210240 w 210600"/>
                  <a:gd name="textAreaTop" fmla="*/ 360 h 214200"/>
                  <a:gd name="textAreaBottom" fmla="*/ 213840 h 214200"/>
                </a:gdLst>
                <a:ahLst/>
                <a:rect l="textAreaLeft" t="textAreaTop" r="textAreaRight" b="textAreaBottom"/>
                <a:pathLst>
                  <a:path w="21600" h="21969">
                    <a:moveTo>
                      <a:pt x="158" y="0"/>
                    </a:moveTo>
                    <a:arcTo wR="158" hR="158" stAng="16200000" swAng="-5400000"/>
                    <a:lnTo>
                      <a:pt x="0" y="21811"/>
                    </a:lnTo>
                    <a:arcTo wR="158" hR="158" stAng="10800000" swAng="-5400000"/>
                    <a:lnTo>
                      <a:pt x="21442" y="21969"/>
                    </a:lnTo>
                    <a:arcTo wR="158" hR="158" stAng="5400000" swAng="-5400000"/>
                    <a:lnTo>
                      <a:pt x="21600" y="158"/>
                    </a:lnTo>
                    <a:arcTo wR="158" hR="15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3024000" y="4579200"/>
                <a:ext cx="214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025800" y="4651920"/>
                <a:ext cx="210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7" name=""/>
          <p:cNvGrpSpPr/>
          <p:nvPr/>
        </p:nvGrpSpPr>
        <p:grpSpPr>
          <a:xfrm>
            <a:off x="1800360" y="3932280"/>
            <a:ext cx="874080" cy="1436760"/>
            <a:chOff x="1800360" y="3932280"/>
            <a:chExt cx="874080" cy="1436760"/>
          </a:xfrm>
        </p:grpSpPr>
        <p:sp>
          <p:nvSpPr>
            <p:cNvPr id="548" name=""/>
            <p:cNvSpPr/>
            <p:nvPr/>
          </p:nvSpPr>
          <p:spPr>
            <a:xfrm>
              <a:off x="1933200" y="3932280"/>
              <a:ext cx="741240" cy="1436760"/>
            </a:xfrm>
            <a:custGeom>
              <a:avLst/>
              <a:gdLst/>
              <a:ahLst/>
              <a:rect l="l" t="t" r="r" b="b"/>
              <a:pathLst>
                <a:path w="2064" h="3996">
                  <a:moveTo>
                    <a:pt x="0" y="979"/>
                  </a:moveTo>
                  <a:lnTo>
                    <a:pt x="1031" y="0"/>
                  </a:lnTo>
                  <a:lnTo>
                    <a:pt x="2063" y="952"/>
                  </a:lnTo>
                  <a:lnTo>
                    <a:pt x="2036" y="3095"/>
                  </a:lnTo>
                  <a:lnTo>
                    <a:pt x="1083" y="3995"/>
                  </a:lnTo>
                  <a:lnTo>
                    <a:pt x="26" y="3015"/>
                  </a:lnTo>
                  <a:lnTo>
                    <a:pt x="0" y="979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1800360" y="4518720"/>
              <a:ext cx="213480" cy="214200"/>
              <a:chOff x="1800360" y="4518720"/>
              <a:chExt cx="213480" cy="214200"/>
            </a:xfrm>
          </p:grpSpPr>
          <p:sp>
            <p:nvSpPr>
              <p:cNvPr id="550" name=""/>
              <p:cNvSpPr/>
              <p:nvPr/>
            </p:nvSpPr>
            <p:spPr>
              <a:xfrm>
                <a:off x="1800360" y="4518720"/>
                <a:ext cx="213480" cy="214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00360" y="4577040"/>
                <a:ext cx="141480" cy="86040"/>
              </a:xfrm>
              <a:custGeom>
                <a:avLst/>
                <a:gdLst/>
                <a:ahLst/>
                <a:rect l="l" t="t" r="r" b="b"/>
                <a:pathLst>
                  <a:path w="399" h="241">
                    <a:moveTo>
                      <a:pt x="0" y="209"/>
                    </a:moveTo>
                    <a:cubicBezTo>
                      <a:pt x="140" y="224"/>
                      <a:pt x="282" y="240"/>
                      <a:pt x="340" y="209"/>
                    </a:cubicBezTo>
                    <a:cubicBezTo>
                      <a:pt x="398" y="178"/>
                      <a:pt x="398" y="62"/>
                      <a:pt x="340" y="31"/>
                    </a:cubicBezTo>
                    <a:cubicBezTo>
                      <a:pt x="282" y="0"/>
                      <a:pt x="140" y="16"/>
                      <a:pt x="0" y="3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1440000" y="4616280"/>
            <a:ext cx="3603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664000" y="4616280"/>
            <a:ext cx="3603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24360" y="1484280"/>
            <a:ext cx="3908520" cy="42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ne design, modules are connected via a FIFO, in a second design with a complex bus. If the interfaces, in this ca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fifo_out_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&gt;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fifo_in_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&gt; remain the same, no change to modA and modB is required if we replace the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ey for re-use of intellectual property (I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53480" y="1268280"/>
            <a:ext cx="1457280" cy="3780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fif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-291960" y="3355920"/>
            <a:ext cx="2521080" cy="434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_fifo_out_i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l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252520" y="3355920"/>
            <a:ext cx="2318400" cy="434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_fifo_in_i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l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655640" y="2490480"/>
            <a:ext cx="179640" cy="795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55640" y="3716280"/>
            <a:ext cx="17964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770200" y="3716280"/>
            <a:ext cx="3960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 flipV="1">
            <a:off x="2698920" y="2490480"/>
            <a:ext cx="110880" cy="795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724760" y="5372280"/>
            <a:ext cx="1586520" cy="3780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x_bus&lt;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917640" cy="61272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995640" y="5445000"/>
            <a:ext cx="790560" cy="1016280"/>
          </a:xfrm>
          <a:prstGeom prst="rect">
            <a:avLst/>
          </a:prstGeom>
          <a:ln w="0">
            <a:noFill/>
          </a:ln>
        </p:spPr>
      </p:pic>
      <p:grpSp>
        <p:nvGrpSpPr>
          <p:cNvPr id="565" name=""/>
          <p:cNvGrpSpPr/>
          <p:nvPr/>
        </p:nvGrpSpPr>
        <p:grpSpPr>
          <a:xfrm>
            <a:off x="2556000" y="2276640"/>
            <a:ext cx="214200" cy="214200"/>
            <a:chOff x="2556000" y="2276640"/>
            <a:chExt cx="214200" cy="214200"/>
          </a:xfrm>
        </p:grpSpPr>
        <p:sp>
          <p:nvSpPr>
            <p:cNvPr id="566" name=""/>
            <p:cNvSpPr/>
            <p:nvPr/>
          </p:nvSpPr>
          <p:spPr>
            <a:xfrm>
              <a:off x="2556000" y="2276640"/>
              <a:ext cx="21420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28360" y="2334600"/>
              <a:ext cx="141480" cy="86400"/>
            </a:xfrm>
            <a:custGeom>
              <a:avLst/>
              <a:gdLst/>
              <a:ahLst/>
              <a:rect l="l" t="t" r="r" b="b"/>
              <a:pathLst>
                <a:path w="398" h="241">
                  <a:moveTo>
                    <a:pt x="397" y="209"/>
                  </a:moveTo>
                  <a:cubicBezTo>
                    <a:pt x="257" y="224"/>
                    <a:pt x="115" y="240"/>
                    <a:pt x="58" y="209"/>
                  </a:cubicBezTo>
                  <a:cubicBezTo>
                    <a:pt x="1" y="178"/>
                    <a:pt x="0" y="62"/>
                    <a:pt x="58" y="31"/>
                  </a:cubicBezTo>
                  <a:cubicBezTo>
                    <a:pt x="116" y="0"/>
                    <a:pt x="257" y="16"/>
                    <a:pt x="397" y="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2556000" y="4508640"/>
            <a:ext cx="214200" cy="214200"/>
            <a:chOff x="2556000" y="4508640"/>
            <a:chExt cx="214200" cy="214200"/>
          </a:xfrm>
        </p:grpSpPr>
        <p:sp>
          <p:nvSpPr>
            <p:cNvPr id="569" name=""/>
            <p:cNvSpPr/>
            <p:nvPr/>
          </p:nvSpPr>
          <p:spPr>
            <a:xfrm>
              <a:off x="2556000" y="4508640"/>
              <a:ext cx="21420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28360" y="4566600"/>
              <a:ext cx="141480" cy="86400"/>
            </a:xfrm>
            <a:custGeom>
              <a:avLst/>
              <a:gdLst/>
              <a:ahLst/>
              <a:rect l="l" t="t" r="r" b="b"/>
              <a:pathLst>
                <a:path w="398" h="241">
                  <a:moveTo>
                    <a:pt x="397" y="209"/>
                  </a:moveTo>
                  <a:cubicBezTo>
                    <a:pt x="257" y="224"/>
                    <a:pt x="115" y="240"/>
                    <a:pt x="58" y="209"/>
                  </a:cubicBezTo>
                  <a:cubicBezTo>
                    <a:pt x="1" y="178"/>
                    <a:pt x="0" y="62"/>
                    <a:pt x="58" y="31"/>
                  </a:cubicBezTo>
                  <a:cubicBezTo>
                    <a:pt x="116" y="0"/>
                    <a:pt x="257" y="16"/>
                    <a:pt x="397" y="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ystemC Port Decla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11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C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lass templated with and inheriting from a SystemC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 allow access of channels across module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250920" y="2781360"/>
            <a:ext cx="8712000" cy="830520"/>
            <a:chOff x="250920" y="2781360"/>
            <a:chExt cx="8712000" cy="830520"/>
          </a:xfrm>
        </p:grpSpPr>
        <p:sp>
          <p:nvSpPr>
            <p:cNvPr id="574" name=""/>
            <p:cNvSpPr/>
            <p:nvPr/>
          </p:nvSpPr>
          <p:spPr>
            <a:xfrm>
              <a:off x="250920" y="2781360"/>
              <a:ext cx="8712000" cy="830520"/>
            </a:xfrm>
            <a:prstGeom prst="roundRect">
              <a:avLst>
                <a:gd name="adj" fmla="val 190"/>
              </a:avLst>
            </a:prstGeom>
            <a:solidFill>
              <a:srgbClr val="e2e2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50920" y="2781360"/>
              <a:ext cx="871200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lnSpc>
                  <a:spcPct val="93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 Unicode MS"/>
                </a:rPr>
                <a:t>Syntax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c_por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lt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nterfac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g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ort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; //used @module class defin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250920" y="3933720"/>
            <a:ext cx="7199280" cy="1926000"/>
            <a:chOff x="250920" y="3933720"/>
            <a:chExt cx="7199280" cy="1926000"/>
          </a:xfrm>
        </p:grpSpPr>
        <p:sp>
          <p:nvSpPr>
            <p:cNvPr id="577" name=""/>
            <p:cNvSpPr/>
            <p:nvPr/>
          </p:nvSpPr>
          <p:spPr>
            <a:xfrm>
              <a:off x="250920" y="3933720"/>
              <a:ext cx="7199280" cy="1926000"/>
            </a:xfrm>
            <a:prstGeom prst="roundRect">
              <a:avLst>
                <a:gd name="adj" fmla="val 79"/>
              </a:avLst>
            </a:prstGeom>
            <a:solidFill>
              <a:srgbClr val="e2e2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50920" y="3933720"/>
              <a:ext cx="7199280" cy="18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lnSpc>
                  <a:spcPct val="93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 Unicode MS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C_MODUL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(stereo_amp) {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c_por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lt;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c_fifo_in_if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lt;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n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gt; &gt;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oundin_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c_por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lt;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c_fifo_out_if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lt;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n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gt; &gt;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oundin_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…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}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4427640" y="566244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635280" y="5877000"/>
            <a:ext cx="1871640" cy="344520"/>
            <a:chOff x="3635280" y="5877000"/>
            <a:chExt cx="1871640" cy="344520"/>
          </a:xfrm>
        </p:grpSpPr>
        <p:sp>
          <p:nvSpPr>
            <p:cNvPr id="581" name=""/>
            <p:cNvSpPr/>
            <p:nvPr/>
          </p:nvSpPr>
          <p:spPr>
            <a:xfrm>
              <a:off x="3635280" y="5877000"/>
              <a:ext cx="1871640" cy="344520"/>
            </a:xfrm>
            <a:prstGeom prst="roundRect">
              <a:avLst>
                <a:gd name="adj" fmla="val 458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635280" y="5877000"/>
              <a:ext cx="1871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 no omit blank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7740720" y="4365720"/>
            <a:ext cx="102060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258920" y="1483920"/>
            <a:ext cx="6014880" cy="47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s statio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mutex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semap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fif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sign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Symbol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cyc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signal_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ymorphism &amp;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rts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94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#ifndef </a:t>
            </a: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GAS_STATION_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ing std::cout; using std::end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#include &lt;str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#include &lt;systemc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_MODULE(gas_station) {   // Local modul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st    sc_time t_MIN;   bool     m_filling; // state of attend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uble   m_full1, m_full2;   double   m_filltime; sc_event e_request1, e_request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uble   m_tank1, m_tank2; unsigned m_count1, m_count2, m_maxcou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_event e_filled;   //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_HAS_PROCESS(gas_stati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s_station(    sc_module_name  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uble   full1=10.0,     double   full2=11.1,     double   filltime=1.8,     unsigned maxcount=5   )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_module(_name), m_full1(full1), m_full2(full2), m_filltime(filltime), m_tank1(full1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_tank2(full1), m_count1(0), m_count2(0),     m_maxcount(maxcount),     m_filling(false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_MIN(1,SC_NS) // treat 1 minute = 1 nano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{ cout &lt;&lt; "INFO: Gas station named \"" &lt;&lt; name() &lt;&lt; "\"" &lt;&lt; end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ut &lt;&lt; "INFO:   Customer1 has " &lt;&lt; m_full1 &lt;&lt; " gallon tank." &lt;&lt; end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ut &lt;&lt; "INFO:   Customer2 has " &lt;&lt; m_full2 &lt;&lt; " gallon tank." &lt;&lt; end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ut &lt;&lt; "INFO:   Attendant takes " &lt;&lt; m_filltime &lt;&lt; " minutes per gallon." &lt;&lt; end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ut &lt;&lt; "INFO:   Maximum of " &lt;&lt; m_maxcount &lt;&lt; " fills per customer." &lt;&lt; end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_THREAD(customer1_thread);       sensitive(e_fille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_THREAD(customer2_threa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_METHOD(attendant_method);  sensitive &lt;&lt; e_request1 &lt;&lt; e_request2;  dont_initializ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//endconstructor gas_station   // Declare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id customer1_thread(void);   void customer2_thread(void);   void attendant_method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d::string hms(void); }; // Helper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6400800"/>
            <a:ext cx="4724280" cy="45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ource &amp; ©: D. Black, J. Donovan, http://eklectically.com/Book/; All usage restrictions imposed by the authors a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8920" y="71280"/>
            <a:ext cx="86058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 station example (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1752480"/>
            <a:ext cx="3809880" cy="400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void gas_station::customer2_thread(void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for (;;) {  // Simulate emptying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wait((m_full2+rand()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(m_full2*0.10))*t_MI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cout &lt;&lt; "INFO: " &lt;&lt; name()   &lt;&lt; "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Customer2 needs gas (1) at " &lt;&l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hms() &lt;&lt; end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_tank2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o { e_request2.notify(); // fillup!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wait(e_filled); // dynamic sensi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} while (m_tank2 == 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}//endfor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}//end customer2_thread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838080"/>
            <a:ext cx="5257800" cy="558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//BEG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gas_station.cp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(syste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#include "gas_station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using std::cou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using std::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xtern unsigned erro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void gas_station::customer1_thread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for (;;) {   // Simulate gas tank empty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wait((m_full1+rand()%int(m_full1*0.10))*t_M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// Force 25% of all fill ups to be simultaneou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// with other customers to check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f (rand()%4==1) wait(e_request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out &lt;&lt; "INFO: " &lt;&lt; name() &lt;&lt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" Customer1 req. gas (1) at "  &lt;&lt; hms() &lt;&lt; 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m_tank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// Request fill up and then wait for ac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o {  e_request1.notify(); // I need fill up!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wait(); // static sensitivity Somebody got fi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} while (m_tank1 == 0); // Was it us? 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}//end for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}//end customer1_threa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6019920"/>
            <a:ext cx="3809880" cy="39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Source &amp; ©: D. Black, J. Donovan, http://eklectically.com/Book/; All usage restrictions imposed by the authors app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 station example (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228600"/>
            <a:ext cx="9144000" cy="5959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d gas_station::attendant_method(voi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ASSERTION: We got here due to either (A) a request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(B) an event request from a new customer. Since this is an SC_METHO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we maintain a small amount of state, m_filling. Initially, we're not fil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Once we get a fillup request, we choose who, initiate filling, and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use dynamic sensitivity to delay by the amount of time it takes to fill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indicated gas t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!m_fillin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Check customer 1 first (preferential sel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m_tank1 == 0 &amp;&amp; m_count1 &lt; m_maxcoun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t &lt;&lt; "INFO: " &lt;&lt; name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lt; " Filling tank1 (3) at 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lt; hms()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_trigger(m_filltime*m_full1*t_MI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_filling = 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Check customer 2 only if no custom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else if (m_tank2 == 0 &amp;&amp; m_count2 &lt; m_maxcoun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t &lt;&lt; "INFO: " &lt;&lt; nam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lt; " Filling tank2 (3) at 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lt; hms()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_trigger(m_filltime*m_full2*t_MI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_filling = 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//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5715000"/>
            <a:ext cx="3048120" cy="641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ource &amp; ©: D. Black, J. Donovan, http://eklectically.com/Book/; All usage restrictions imposed by the authors a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 station example (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2280"/>
            <a:ext cx="9144000" cy="64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// We reach here by timing out on filling the tank, so firs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// the tank, counts and issue messages about this event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// appropriate customer. Then notify everyone of the event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f (m_tank1 == 0 &amp;&amp; m_count1 &lt; m_maxcoun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_tank1 = m_full1; m_count1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ut &lt;&lt; "INFO: " &lt;&lt; name()  &lt;&lt; " Filled tank1 (4) at "   &lt;&lt; hms() &lt;&lt; 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 else if (m_tank2 == 0 &amp;&amp; m_count2 &lt; m_maxcoun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_tank2 = m_full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_count2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ut &lt;&lt; "INFO: " &lt;&lt; name() &lt;&lt; " Filled tank2 (4) at " &lt;&lt; hms() &lt;&lt; 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//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_filled.notify(SC_ZERO_TIME); // We finished filling (4) &amp; are availab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_filling = false; // go back to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// See if we need to stop th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f (m_count1 == m_maxcount &amp;&amp; m_count2 == m_maxcoun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ut &lt;&lt; "WARN: " &lt;&lt; nam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&lt; " No more fuel at 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&lt; hms() &lt;&lt; 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_stop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//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//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//end attendant_metho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5791320"/>
            <a:ext cx="3048120" cy="641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ource &amp; ©: D. Black, J. Donovan, http://eklectically.com/Book/; All usage restrictions imposed by the authors a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 station example (7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66040" cy="405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include &lt;s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::string gas_station::hms(voi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::ostringstream no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mins(sc_simulation_time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igned days = int(mins/(24*60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s -= days*24.0*60.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igned hrs = int(mins/6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s -= hrs*60.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days)          now &lt;&lt; days &lt;&lt; " days 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days||hrs)   now &lt;&lt; hrs  &lt;&lt; " hrs 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&lt;&lt; mins &lt;&lt; " mins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now.st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//end hm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5943600"/>
            <a:ext cx="4648320" cy="45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ource &amp; ©: D. Black, J. Donovan, http://eklectically.com/Book/; All usage restrictions imposed by the authors a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ations of gas station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366040" cy="46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cated way of finding out, which customer has been serv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e.g.: what to do af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_request1 | e_request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cannot be used to distribut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echanism available for accessing share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itive channe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ed from base clas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prim_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ut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emaph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fif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erarchical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Nicht kopieren: ist 1x durch StarOffice gelaufen.
Für 90 min nicht ganz ausreichend,</dc:description>
  <dc:language>en-US</dc:language>
  <cp:lastModifiedBy>Peter Marwedel</cp:lastModifiedBy>
  <dcterms:modified xsi:type="dcterms:W3CDTF">2008-04-16T19:24:24Z</dcterms:modified>
  <cp:revision>31</cp:revision>
  <dc:subject/>
  <dc:title>Folie 1</dc:title>
</cp:coreProperties>
</file>