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536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13880" y="129528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536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13880" y="2681640"/>
            <a:ext cx="269352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91440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3720" y="268164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3720" y="1295280"/>
            <a:ext cx="408240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2681640"/>
            <a:ext cx="8366040" cy="12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66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2682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270000"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5320" indent="-2682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48720" y="6507000"/>
            <a:ext cx="112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fld id="{0EC86CFF-AF91-4FF2-B5CF-EDBFD952658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437160"/>
            <a:ext cx="2043360" cy="459000"/>
            <a:chOff x="395280" y="6437160"/>
            <a:chExt cx="2043360" cy="459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395280" y="6491160"/>
              <a:ext cx="485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87320" y="6437160"/>
              <a:ext cx="1651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sche universitä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rtm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250920" y="6453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6480"/>
            <a:ext cx="9144000" cy="0"/>
          </a:xfrm>
          <a:prstGeom prst="line">
            <a:avLst/>
          </a:prstGeom>
          <a:ln w="38160">
            <a:solidFill>
              <a:srgbClr val="84b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70200" y="6437160"/>
            <a:ext cx="1819440" cy="459000"/>
            <a:chOff x="2770200" y="6437160"/>
            <a:chExt cx="1819440" cy="45900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0" t="461" r="71888" b="44721"/>
            <a:stretch/>
          </p:blipFill>
          <p:spPr>
            <a:xfrm>
              <a:off x="2770200" y="6524640"/>
              <a:ext cx="405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3129120" y="6437160"/>
              <a:ext cx="146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kultät für informat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4572000" y="643716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Marwedel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rmatik 12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38200" y="-3492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tät Dortm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11840" y="378000"/>
            <a:ext cx="388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Fakultät für Informa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kkurat Light Office"/>
                <a:ea typeface="ヒラギノ角ゴ Pro W3"/>
              </a:rPr>
              <a:t>Informatik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03280" y="330120"/>
            <a:ext cx="3184560" cy="590400"/>
            <a:chOff x="503280" y="330120"/>
            <a:chExt cx="3184560" cy="590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0" r="75556" b="0"/>
            <a:stretch/>
          </p:blipFill>
          <p:spPr>
            <a:xfrm>
              <a:off x="503280" y="330120"/>
              <a:ext cx="79056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82600" y="395280"/>
              <a:ext cx="25052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kkurat Light Office"/>
                  <a:ea typeface="ヒラギノ角ゴ Pro W3"/>
                </a:rPr>
                <a:t>technische universität dortm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9052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98440" algn="ctr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301680" algn="ctr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30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. Marwede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 12, U. Dortm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19920"/>
            <a:ext cx="816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artially using slides prepared by Tatjana Stankovic from the University of Nis (Serbia and  Montenegro), visiting the University of Dortmund under the TEMPU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slides contain Microsoft cliparts. All usage restrictions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C languag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1295280"/>
            <a:ext cx="8305920" cy="5105520"/>
            <a:chOff x="457200" y="1295280"/>
            <a:chExt cx="8305920" cy="5105520"/>
          </a:xfrm>
        </p:grpSpPr>
        <p:sp>
          <p:nvSpPr>
            <p:cNvPr id="192" name=""/>
            <p:cNvSpPr/>
            <p:nvPr/>
          </p:nvSpPr>
          <p:spPr>
            <a:xfrm>
              <a:off x="457200" y="1295280"/>
              <a:ext cx="8305920" cy="510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560" y="542124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 Language Stand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560" y="3183480"/>
              <a:ext cx="3899880" cy="2098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re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nterfa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-driven simulation 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8520" y="3183480"/>
              <a:ext cx="3899880" cy="2098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ts and bit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bitrary precision integ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xed-point nu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-valued logic types, logic-v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++ user defined typ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560" y="2274120"/>
              <a:ext cx="7944840" cy="839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ary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gnal, Timer, Mutex, Semaphore, FIFO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3560" y="1365120"/>
              <a:ext cx="353880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nnels for Mo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ahn process networks, SDF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29440" y="1365120"/>
              <a:ext cx="4188960" cy="839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hodology-specific Cha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ster/Slave libr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02880"/>
            <a:ext cx="784872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a set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only the signature of an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parameter,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ystemC interface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tains a virtual function called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egister_port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81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onnects a port to a channel through the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81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Arguments: port object and type name of the interface that port ac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mutex_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72007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_mutex_if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public sc_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k()    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ylock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ock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provides interfaces to be used wit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thod for event sens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semaphore_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528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_semaphore_if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public sc_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()    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ywait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()    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_value(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295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provides interfaces to be used wit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no method for event sens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fifo interface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8880" y="2209680"/>
            <a:ext cx="72403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terfaces are provide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_fifo_out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_fifo_in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, they provide all method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fifo interfaces (2): sc_fifo_out_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6560" y="1989000"/>
            <a:ext cx="8366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_fifo_out_if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public sc_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amp;)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b_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amp;)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_free(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data_read_event(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fifo interfaces (3): sc_fifo_in_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36604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_fifo_in_if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public sc_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( T&amp; 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read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b_read( T&amp; )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_available(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data_written_event(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signal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836604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inout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public sc_signal_in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{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&amp;) =0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out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inout_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inout_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ll methods for the other two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1160" y="1143000"/>
            <a:ext cx="764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are provide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_signal_out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_signal_in_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_signal_inout_if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, they provide all method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s and static sens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66040" cy="48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requently desirable to describe processes which are sensitive to events on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re essentially pointers, which may be undefined until the end of elaboration (IEEE 1666 insists on th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re undefined, when static sensitivity clauses are analy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to events has to be deferred, events have to be located “late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fin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ethods to be used in static sensivity lists to establish sensitivity to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66760"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void the burden of writing event finders, some port specializations provide methods already including event fi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pecia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_in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&gt;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methods include event fi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&gt; name_sig_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name_sig_ip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_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for T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name_bool_sig_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name_log_sig_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name_log_ip_si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name_bool_ip_si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0000" y="5486400"/>
            <a:ext cx="69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-notation discouraged but needed in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” - notation prefe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286000"/>
            <a:ext cx="2743200" cy="685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3886200"/>
            <a:ext cx="1447560" cy="990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,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&amp;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19400" cy="164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44197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_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metho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_chang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486400" cy="49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 LFSR_ex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FSR_EX_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FSR_EX_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FSR_ex) //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amp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2&gt; &gt; signa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cl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re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FSR_e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FSR_ex_metho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lt; clock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&lt;&lt; re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FSR_ex_metho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2&gt; LFSR_reg;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43600" y="1600200"/>
            <a:ext cx="2743200" cy="1600200"/>
            <a:chOff x="5943600" y="1600200"/>
            <a:chExt cx="2743200" cy="1600200"/>
          </a:xfrm>
        </p:grpSpPr>
        <p:grpSp>
          <p:nvGrpSpPr>
            <p:cNvPr id="230" name=""/>
            <p:cNvGrpSpPr/>
            <p:nvPr/>
          </p:nvGrpSpPr>
          <p:grpSpPr>
            <a:xfrm>
              <a:off x="7467480" y="1752480"/>
              <a:ext cx="914400" cy="838080"/>
              <a:chOff x="7467480" y="1752480"/>
              <a:chExt cx="914400" cy="838080"/>
            </a:xfrm>
          </p:grpSpPr>
          <p:sp>
            <p:nvSpPr>
              <p:cNvPr id="231" name=""/>
              <p:cNvSpPr/>
              <p:nvPr/>
            </p:nvSpPr>
            <p:spPr>
              <a:xfrm rot="10800000">
                <a:off x="7543800" y="1828800"/>
                <a:ext cx="762120" cy="761760"/>
              </a:xfrm>
              <a:prstGeom prst="ellipse">
                <a:avLst/>
              </a:prstGeom>
              <a:solidFill>
                <a:srgbClr val="e3e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7467480" y="175248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7543800" y="22096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943600" y="2895480"/>
              <a:ext cx="20574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4872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705360" y="3048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2468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2057400"/>
              <a:ext cx="304920" cy="838080"/>
            </a:xfrm>
            <a:custGeom>
              <a:avLst/>
              <a:gdLst/>
              <a:ahLst/>
              <a:rect l="l" t="t" r="r" b="b"/>
              <a:pathLst>
                <a:path w="192" h="528">
                  <a:moveTo>
                    <a:pt x="0" y="52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190512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0" y="624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160020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3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2057400"/>
              <a:ext cx="457200" cy="99072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624"/>
                  </a:lnTo>
                  <a:lnTo>
                    <a:pt x="288" y="6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1752480"/>
              <a:ext cx="1447560" cy="114300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912" y="28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458200" y="2743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38680" y="209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031360" y="1447920"/>
            <a:ext cx="3503160" cy="2924640"/>
            <a:chOff x="5031360" y="1447920"/>
            <a:chExt cx="3503160" cy="2924640"/>
          </a:xfrm>
        </p:grpSpPr>
        <p:sp>
          <p:nvSpPr>
            <p:cNvPr id="246" name=""/>
            <p:cNvSpPr/>
            <p:nvPr/>
          </p:nvSpPr>
          <p:spPr>
            <a:xfrm>
              <a:off x="5791320" y="1447920"/>
              <a:ext cx="2743200" cy="2361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86600" y="3200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46720" y="397368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1360" y="266688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07320" y="31240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93560" y="21337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366040" cy="49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 LFSR_ex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system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LFSR_ex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FSR_ex::LFSR_ex_metho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et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=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SR_reg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FSR_re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sb = LFSR_reg[31] ^ LFSR_reg[25] ^ LFSR_reg[2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 LFSR_reg[21] ^ LFSR_reg[15] ^ LFSR_reg[11] ^ LFSR_reg[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 LFSR_reg[ 9] ^ LFSR_reg[ 7] ^ LFSR_reg[ 6] ^ LFSR_reg[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^ LFSR_reg[ 3] ^ LFSR_reg[ 1] ^ LFSR_reg[ 0] ^ sample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SR_re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1,1) = LFSR_re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0,0); LFSR_reg[0] = ls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FSR_re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//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791320" y="1447920"/>
            <a:ext cx="2743200" cy="1600200"/>
            <a:chOff x="5791320" y="1447920"/>
            <a:chExt cx="2743200" cy="1600200"/>
          </a:xfrm>
        </p:grpSpPr>
        <p:grpSp>
          <p:nvGrpSpPr>
            <p:cNvPr id="257" name=""/>
            <p:cNvGrpSpPr/>
            <p:nvPr/>
          </p:nvGrpSpPr>
          <p:grpSpPr>
            <a:xfrm>
              <a:off x="7315200" y="1600200"/>
              <a:ext cx="914400" cy="838080"/>
              <a:chOff x="7315200" y="1600200"/>
              <a:chExt cx="914400" cy="838080"/>
            </a:xfrm>
          </p:grpSpPr>
          <p:sp>
            <p:nvSpPr>
              <p:cNvPr id="258" name=""/>
              <p:cNvSpPr/>
              <p:nvPr/>
            </p:nvSpPr>
            <p:spPr>
              <a:xfrm rot="10800000">
                <a:off x="7391520" y="1676520"/>
                <a:ext cx="762120" cy="761760"/>
              </a:xfrm>
              <a:prstGeom prst="ellipse">
                <a:avLst/>
              </a:prstGeom>
              <a:solidFill>
                <a:srgbClr val="e3e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0800000">
                <a:off x="7315200" y="160020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391520" y="2057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91320" y="2743200"/>
              <a:ext cx="20574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644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53080" y="2895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2400" y="2438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2920" y="1905120"/>
              <a:ext cx="304920" cy="838080"/>
            </a:xfrm>
            <a:custGeom>
              <a:avLst/>
              <a:gdLst/>
              <a:ahLst/>
              <a:rect l="l" t="t" r="r" b="b"/>
              <a:pathLst>
                <a:path w="192" h="528">
                  <a:moveTo>
                    <a:pt x="0" y="52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0" y="175284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0" y="624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7640" y="144792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3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77320" y="1905120"/>
              <a:ext cx="457200" cy="99072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624"/>
                  </a:lnTo>
                  <a:lnTo>
                    <a:pt x="288" y="6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840" y="1600200"/>
              <a:ext cx="1447560" cy="114300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912" y="288"/>
                  </a:moveTo>
                  <a:lnTo>
                    <a:pt x="912" y="0"/>
                  </a:ln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305920" y="25909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86400" y="194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1295280"/>
            <a:ext cx="274320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3960" y="32767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79080" y="2514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4680" y="2971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41280" y="19810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ndard Graphical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1640" y="1197000"/>
            <a:ext cx="7359480" cy="5241960"/>
            <a:chOff x="971640" y="1197000"/>
            <a:chExt cx="7359480" cy="5241960"/>
          </a:xfrm>
        </p:grpSpPr>
        <p:sp>
          <p:nvSpPr>
            <p:cNvPr id="282" name=""/>
            <p:cNvSpPr/>
            <p:nvPr/>
          </p:nvSpPr>
          <p:spPr>
            <a:xfrm>
              <a:off x="971640" y="1197000"/>
              <a:ext cx="7359480" cy="5241960"/>
            </a:xfrm>
            <a:prstGeom prst="roundRect">
              <a:avLst>
                <a:gd name="adj" fmla="val 28"/>
              </a:avLst>
            </a:prstGeom>
            <a:solidFill>
              <a:srgbClr val="ddd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971640" y="1197000"/>
            <a:ext cx="7359480" cy="524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197000"/>
                      <a:ext cx="7359480" cy="524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971640" y="1197000"/>
              <a:ext cx="7359480" cy="524196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176560" y="2824200"/>
            <a:ext cx="1584360" cy="396720"/>
            <a:chOff x="2176560" y="2824200"/>
            <a:chExt cx="1584360" cy="396720"/>
          </a:xfrm>
        </p:grpSpPr>
        <p:sp>
          <p:nvSpPr>
            <p:cNvPr id="287" name=""/>
            <p:cNvSpPr/>
            <p:nvPr/>
          </p:nvSpPr>
          <p:spPr>
            <a:xfrm>
              <a:off x="2176560" y="2824200"/>
              <a:ext cx="1584360" cy="396720"/>
            </a:xfrm>
            <a:prstGeom prst="roundRect">
              <a:avLst>
                <a:gd name="adj" fmla="val 398"/>
              </a:avLst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76560" y="2824200"/>
              <a:ext cx="158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c_chan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031840" y="3905280"/>
            <a:ext cx="1584360" cy="396720"/>
            <a:chOff x="2031840" y="3905280"/>
            <a:chExt cx="1584360" cy="396720"/>
          </a:xfrm>
        </p:grpSpPr>
        <p:sp>
          <p:nvSpPr>
            <p:cNvPr id="290" name=""/>
            <p:cNvSpPr/>
            <p:nvPr/>
          </p:nvSpPr>
          <p:spPr>
            <a:xfrm>
              <a:off x="2031840" y="3905280"/>
              <a:ext cx="1584360" cy="396720"/>
            </a:xfrm>
            <a:prstGeom prst="roundRect">
              <a:avLst>
                <a:gd name="adj" fmla="val 398"/>
              </a:avLst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31840" y="3905280"/>
              <a:ext cx="158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c_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31840" y="4768920"/>
            <a:ext cx="1729080" cy="396720"/>
            <a:chOff x="2031840" y="4768920"/>
            <a:chExt cx="1729080" cy="396720"/>
          </a:xfrm>
        </p:grpSpPr>
        <p:sp>
          <p:nvSpPr>
            <p:cNvPr id="293" name=""/>
            <p:cNvSpPr/>
            <p:nvPr/>
          </p:nvSpPr>
          <p:spPr>
            <a:xfrm>
              <a:off x="2031840" y="4768920"/>
              <a:ext cx="1729080" cy="396720"/>
            </a:xfrm>
            <a:prstGeom prst="roundRect">
              <a:avLst>
                <a:gd name="adj" fmla="val 398"/>
              </a:avLst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31840" y="4768920"/>
              <a:ext cx="17290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c_inte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320920" y="5992920"/>
            <a:ext cx="1728720" cy="396720"/>
            <a:chOff x="2320920" y="5992920"/>
            <a:chExt cx="1728720" cy="396720"/>
          </a:xfrm>
        </p:grpSpPr>
        <p:sp>
          <p:nvSpPr>
            <p:cNvPr id="296" name=""/>
            <p:cNvSpPr/>
            <p:nvPr/>
          </p:nvSpPr>
          <p:spPr>
            <a:xfrm>
              <a:off x="2320920" y="5992920"/>
              <a:ext cx="1728720" cy="396720"/>
            </a:xfrm>
            <a:prstGeom prst="roundRect">
              <a:avLst>
                <a:gd name="adj" fmla="val 398"/>
              </a:avLst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20920" y="5992920"/>
              <a:ext cx="1728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c_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connection mechan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546200"/>
            <a:ext cx="83534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connected to channels after modules and channels have been instanti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6560" y="292428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_in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_in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);    // positional (ris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_inst.port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_in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// named (sa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Video mix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1989000"/>
            <a:ext cx="7129440" cy="35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_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2924280"/>
            <a:ext cx="2232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b2YCrCb_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3280" y="2781360"/>
            <a:ext cx="1872000" cy="22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CrCb_Mixer_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4365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7440" y="4005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_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51960" y="3213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_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64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4829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50160" y="51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6520" y="3213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b_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5800" y="3213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crcb_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14560" y="3573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2920" y="4365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7440" y="400536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328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1744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32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645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15280" y="36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8160" y="3284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_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562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1440" y="5157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32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90160" y="45086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_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72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10000">
            <a:off x="2585520" y="5008320"/>
            <a:ext cx="708120" cy="87120"/>
          </a:xfrm>
          <a:prstGeom prst="rightArrow">
            <a:avLst>
              <a:gd name="adj1" fmla="val 50000"/>
              <a:gd name="adj2" fmla="val 20320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5300640"/>
            <a:ext cx="1079280" cy="87480"/>
          </a:xfrm>
          <a:prstGeom prst="rightArrow">
            <a:avLst>
              <a:gd name="adj1" fmla="val 50000"/>
              <a:gd name="adj2" fmla="val 30843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4138200" y="2566080"/>
            <a:ext cx="454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crcb_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020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258920" y="2637720"/>
            <a:ext cx="4546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b_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27320" y="5877000"/>
            <a:ext cx="39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(in)complete as in "the sour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408720" y="3537000"/>
            <a:ext cx="216000" cy="216000"/>
            <a:chOff x="6408720" y="3537000"/>
            <a:chExt cx="216000" cy="216000"/>
          </a:xfrm>
        </p:grpSpPr>
        <p:sp>
          <p:nvSpPr>
            <p:cNvPr id="337" name=""/>
            <p:cNvSpPr/>
            <p:nvPr/>
          </p:nvSpPr>
          <p:spPr>
            <a:xfrm>
              <a:off x="6408720" y="353700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408720" y="360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08720" y="3681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8064360" y="3537000"/>
            <a:ext cx="216000" cy="216000"/>
            <a:chOff x="8064360" y="3537000"/>
            <a:chExt cx="216000" cy="216000"/>
          </a:xfrm>
        </p:grpSpPr>
        <p:sp>
          <p:nvSpPr>
            <p:cNvPr id="341" name=""/>
            <p:cNvSpPr/>
            <p:nvPr/>
          </p:nvSpPr>
          <p:spPr>
            <a:xfrm>
              <a:off x="8064360" y="353700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064360" y="360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64360" y="3681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934920" y="4257720"/>
            <a:ext cx="216000" cy="216000"/>
            <a:chOff x="934920" y="4257720"/>
            <a:chExt cx="216000" cy="216000"/>
          </a:xfrm>
        </p:grpSpPr>
        <p:sp>
          <p:nvSpPr>
            <p:cNvPr id="345" name=""/>
            <p:cNvSpPr/>
            <p:nvPr/>
          </p:nvSpPr>
          <p:spPr>
            <a:xfrm>
              <a:off x="934920" y="425772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34920" y="4329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4920" y="4402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535280" y="4257720"/>
            <a:ext cx="216000" cy="216000"/>
            <a:chOff x="4535280" y="4257720"/>
            <a:chExt cx="216000" cy="216000"/>
          </a:xfrm>
        </p:grpSpPr>
        <p:sp>
          <p:nvSpPr>
            <p:cNvPr id="349" name=""/>
            <p:cNvSpPr/>
            <p:nvPr/>
          </p:nvSpPr>
          <p:spPr>
            <a:xfrm>
              <a:off x="4535640" y="4257720"/>
              <a:ext cx="215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535280" y="4329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35640" y="44024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35280" y="4761000"/>
            <a:ext cx="216000" cy="215640"/>
            <a:chOff x="4535280" y="4761000"/>
            <a:chExt cx="216000" cy="215640"/>
          </a:xfrm>
        </p:grpSpPr>
        <p:sp>
          <p:nvSpPr>
            <p:cNvPr id="353" name=""/>
            <p:cNvSpPr/>
            <p:nvPr/>
          </p:nvSpPr>
          <p:spPr>
            <a:xfrm>
              <a:off x="4535640" y="4761000"/>
              <a:ext cx="21564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535280" y="48322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5640" y="4905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887640" y="3500280"/>
            <a:ext cx="216000" cy="216000"/>
            <a:chOff x="3887640" y="3500280"/>
            <a:chExt cx="216000" cy="216000"/>
          </a:xfrm>
        </p:grpSpPr>
        <p:sp>
          <p:nvSpPr>
            <p:cNvPr id="357" name=""/>
            <p:cNvSpPr/>
            <p:nvPr/>
          </p:nvSpPr>
          <p:spPr>
            <a:xfrm>
              <a:off x="3887640" y="350028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887640" y="35719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87640" y="3645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692000" y="3500280"/>
            <a:ext cx="216000" cy="216000"/>
            <a:chOff x="1692000" y="3500280"/>
            <a:chExt cx="216000" cy="216000"/>
          </a:xfrm>
        </p:grpSpPr>
        <p:sp>
          <p:nvSpPr>
            <p:cNvPr id="361" name=""/>
            <p:cNvSpPr/>
            <p:nvPr/>
          </p:nvSpPr>
          <p:spPr>
            <a:xfrm>
              <a:off x="1692360" y="3500280"/>
              <a:ext cx="215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692000" y="35719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92360" y="3645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600360" y="5408640"/>
            <a:ext cx="216000" cy="216000"/>
            <a:chOff x="3600360" y="5408640"/>
            <a:chExt cx="216000" cy="216000"/>
          </a:xfrm>
        </p:grpSpPr>
        <p:sp>
          <p:nvSpPr>
            <p:cNvPr id="365" name=""/>
            <p:cNvSpPr/>
            <p:nvPr/>
          </p:nvSpPr>
          <p:spPr>
            <a:xfrm rot="16200000">
              <a:off x="3600360" y="540864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2000" y="54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745080" y="54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376360" y="5408640"/>
            <a:ext cx="216000" cy="216000"/>
            <a:chOff x="2376360" y="5408640"/>
            <a:chExt cx="216000" cy="216000"/>
          </a:xfrm>
        </p:grpSpPr>
        <p:sp>
          <p:nvSpPr>
            <p:cNvPr id="369" name=""/>
            <p:cNvSpPr/>
            <p:nvPr/>
          </p:nvSpPr>
          <p:spPr>
            <a:xfrm rot="16200000">
              <a:off x="2376360" y="540864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8000" y="54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21080" y="54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535280" y="3465360"/>
            <a:ext cx="216000" cy="216000"/>
            <a:chOff x="4535280" y="3465360"/>
            <a:chExt cx="216000" cy="216000"/>
          </a:xfrm>
        </p:grpSpPr>
        <p:sp>
          <p:nvSpPr>
            <p:cNvPr id="373" name=""/>
            <p:cNvSpPr/>
            <p:nvPr/>
          </p:nvSpPr>
          <p:spPr>
            <a:xfrm>
              <a:off x="4535640" y="3465360"/>
              <a:ext cx="215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535280" y="3537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35640" y="36100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Video mixer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644364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: Rgb2YCrCb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gb2YCrC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GB_frame&gt; &gt; rgb_p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&gt; ycrcb_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4184640"/>
            <a:ext cx="658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: YCRCB_Mixer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CRC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loat&gt; &gt; K_p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&gt; a_pi, b_p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&gt; y_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292720" y="2600280"/>
            <a:ext cx="3526920" cy="2435400"/>
            <a:chOff x="5292720" y="2600280"/>
            <a:chExt cx="3526920" cy="2435400"/>
          </a:xfrm>
        </p:grpSpPr>
        <p:sp>
          <p:nvSpPr>
            <p:cNvPr id="380" name=""/>
            <p:cNvSpPr/>
            <p:nvPr/>
          </p:nvSpPr>
          <p:spPr>
            <a:xfrm>
              <a:off x="5298840" y="2600280"/>
              <a:ext cx="3520800" cy="2363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deo_Mi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5120" y="2962440"/>
              <a:ext cx="1202760" cy="55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2YCrCb_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26000" y="2851200"/>
              <a:ext cx="1007640" cy="172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CRCB_Mixer_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292720" y="4074840"/>
              <a:ext cx="8697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69400" y="375120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vd_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8269560" y="293400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deo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05440" y="3517920"/>
              <a:ext cx="2142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162480" y="47415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86120" y="46879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4400" y="325764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75120" y="3462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5440" y="325764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95760" y="3462480"/>
              <a:ext cx="58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62480" y="4075200"/>
              <a:ext cx="116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41760" y="382428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6000" y="407520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78240" y="346248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63800" y="325764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26000" y="346248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84800" y="3517920"/>
              <a:ext cx="34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34000" y="351792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89400" y="324792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22720" y="474192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63040" y="47592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26000" y="44625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1760" y="41832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9040" y="446256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06440" y="42591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010000">
              <a:off x="6217920" y="4570560"/>
              <a:ext cx="382320" cy="68040"/>
            </a:xfrm>
            <a:prstGeom prst="rightArrow">
              <a:avLst>
                <a:gd name="adj1" fmla="val 50000"/>
                <a:gd name="adj2" fmla="val 14047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02080" y="4795920"/>
              <a:ext cx="580680" cy="68040"/>
            </a:xfrm>
            <a:prstGeom prst="rightArrow">
              <a:avLst>
                <a:gd name="adj1" fmla="val 50000"/>
                <a:gd name="adj2" fmla="val 21336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6954480" y="2811600"/>
              <a:ext cx="36288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41840" y="3462480"/>
              <a:ext cx="23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5441400" y="2811240"/>
              <a:ext cx="3628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Video mixer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6337080" cy="49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: Video_Mixer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DEO_MIXE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&gt; dvd_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&gt; video_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MIXER_ctrl&gt; &gt; contr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MIXER_state&gt; &gt; stat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local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GB_frame&gt; rgb_graph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YCRCB_frame&gt; ycrcb_graph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HAS_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DEO_MIX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_MIXE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m);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xer_th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64000" y="3860640"/>
            <a:ext cx="3527640" cy="2435400"/>
            <a:chOff x="5364000" y="3860640"/>
            <a:chExt cx="3527640" cy="2435400"/>
          </a:xfrm>
        </p:grpSpPr>
        <p:sp>
          <p:nvSpPr>
            <p:cNvPr id="416" name=""/>
            <p:cNvSpPr/>
            <p:nvPr/>
          </p:nvSpPr>
          <p:spPr>
            <a:xfrm>
              <a:off x="5370480" y="3860640"/>
              <a:ext cx="3521160" cy="2363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deo_Mi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46760" y="4222800"/>
              <a:ext cx="1203120" cy="55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2YCrCb_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7640" y="4111560"/>
              <a:ext cx="1008000" cy="172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CRCB_Mixer_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364000" y="5335200"/>
              <a:ext cx="870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41040" y="501156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vd_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41200" y="41943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deo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77080" y="4778280"/>
              <a:ext cx="21456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234120" y="600192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57760" y="594828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46400" y="45180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6760" y="472284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27440" y="451800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67400" y="472284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34120" y="5335560"/>
              <a:ext cx="11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13400" y="508464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97640" y="533556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49880" y="472284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35800" y="45180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7640" y="472284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6440" y="477828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05640" y="47782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61400" y="450828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94360" y="600228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34680" y="601956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7640" y="572292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3400" y="5443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00680" y="5722920"/>
              <a:ext cx="69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78440" y="5519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010000">
              <a:off x="6289560" y="5830560"/>
              <a:ext cx="382680" cy="68040"/>
            </a:xfrm>
            <a:prstGeom prst="rightArrow">
              <a:avLst>
                <a:gd name="adj1" fmla="val 50000"/>
                <a:gd name="adj2" fmla="val 1406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3720" y="6056280"/>
              <a:ext cx="581040" cy="68040"/>
            </a:xfrm>
            <a:prstGeom prst="rightArrow">
              <a:avLst>
                <a:gd name="adj1" fmla="val 50000"/>
                <a:gd name="adj2" fmla="val 21349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0800000">
              <a:off x="7025760" y="4071960"/>
              <a:ext cx="36288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13480" y="47228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5513400" y="4071600"/>
              <a:ext cx="3628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05720" y="1371600"/>
            <a:ext cx="2301840" cy="17974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type of the module name (internally managed strings), which must be the 1st parameter if SC_CTOR is not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Video mixer 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3374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_Mixer::VIDEO_Mixer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Insta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2YCrCb Rgb2YCrCb_i("Rgb2YCrCb_i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CRCB_Mixer YCRCB_Mixer_i(" YCRCB_Mixer_i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//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gb2YCrCb_i.rgb_pi(rgb_graphi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gb2YCrCb_i.ycrcb_po(ycrcb_graphi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CRCB_Mixer_i.K_pi(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CRCB_Mixer_i.a_pi(dvd_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CRCB_Mixer_i.b_pi(ycrcb_graphi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CRCB_Mixer_i.y_po(video_p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364000" y="3933720"/>
            <a:ext cx="3527640" cy="2435400"/>
            <a:chOff x="5364000" y="3933720"/>
            <a:chExt cx="3527640" cy="2435400"/>
          </a:xfrm>
        </p:grpSpPr>
        <p:sp>
          <p:nvSpPr>
            <p:cNvPr id="453" name=""/>
            <p:cNvSpPr/>
            <p:nvPr/>
          </p:nvSpPr>
          <p:spPr>
            <a:xfrm>
              <a:off x="5370480" y="3933720"/>
              <a:ext cx="3521160" cy="2363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ideo_Mix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6760" y="4295880"/>
              <a:ext cx="1203120" cy="55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2YCrCb_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7640" y="4184640"/>
              <a:ext cx="1008000" cy="172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CRCB_Mixer_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364000" y="5408280"/>
              <a:ext cx="870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41040" y="508464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vd_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8341200" y="426744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deo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77080" y="4851360"/>
              <a:ext cx="21456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234120" y="60750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57760" y="602136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46400" y="459108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46760" y="479592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27440" y="459108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67400" y="479592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4120" y="5408640"/>
              <a:ext cx="11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13400" y="515772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97640" y="540864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49880" y="479592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35800" y="459108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97640" y="479592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56440" y="485136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05640" y="485136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61400" y="458136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_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94360" y="6075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34680" y="609264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97640" y="579600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13400" y="551664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_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00680" y="5796000"/>
              <a:ext cx="69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78440" y="5592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010000">
              <a:off x="6289560" y="5903640"/>
              <a:ext cx="382680" cy="68040"/>
            </a:xfrm>
            <a:prstGeom prst="rightArrow">
              <a:avLst>
                <a:gd name="adj1" fmla="val 50000"/>
                <a:gd name="adj2" fmla="val 14060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73720" y="6129360"/>
              <a:ext cx="581040" cy="68040"/>
            </a:xfrm>
            <a:prstGeom prst="rightArrow">
              <a:avLst>
                <a:gd name="adj1" fmla="val 50000"/>
                <a:gd name="adj2" fmla="val 21349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0800000">
              <a:off x="7025760" y="4145040"/>
              <a:ext cx="36288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crc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13480" y="479592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0800000">
              <a:off x="5513400" y="4144680"/>
              <a:ext cx="3628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gb_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6934320" y="4648320"/>
            <a:ext cx="1981080" cy="1299600"/>
            <a:chOff x="6934320" y="4648320"/>
            <a:chExt cx="1981080" cy="1299600"/>
          </a:xfrm>
        </p:grpSpPr>
        <p:sp>
          <p:nvSpPr>
            <p:cNvPr id="487" name=""/>
            <p:cNvSpPr/>
            <p:nvPr/>
          </p:nvSpPr>
          <p:spPr>
            <a:xfrm>
              <a:off x="6934320" y="4648320"/>
              <a:ext cx="198108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6934320" y="4724280"/>
              <a:ext cx="1932120" cy="12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"/>
          <p:cNvGrpSpPr/>
          <p:nvPr/>
        </p:nvGrpSpPr>
        <p:grpSpPr>
          <a:xfrm>
            <a:off x="6781680" y="4876920"/>
            <a:ext cx="1981080" cy="1299600"/>
            <a:chOff x="6781680" y="4876920"/>
            <a:chExt cx="1981080" cy="1299600"/>
          </a:xfrm>
        </p:grpSpPr>
        <p:sp>
          <p:nvSpPr>
            <p:cNvPr id="490" name=""/>
            <p:cNvSpPr/>
            <p:nvPr/>
          </p:nvSpPr>
          <p:spPr>
            <a:xfrm>
              <a:off x="6781680" y="4876920"/>
              <a:ext cx="198108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2"/>
            <a:stretch/>
          </p:blipFill>
          <p:spPr>
            <a:xfrm>
              <a:off x="6781680" y="4952880"/>
              <a:ext cx="1932120" cy="12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for describing an array of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, for example, for describing multiplexer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,N]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// N=0..max, default=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// if N=0, an unlimited number of interfaces may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// connected to the 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629400" y="5105520"/>
            <a:ext cx="1981080" cy="1299600"/>
            <a:chOff x="6629400" y="5105520"/>
            <a:chExt cx="1981080" cy="1299600"/>
          </a:xfrm>
        </p:grpSpPr>
        <p:sp>
          <p:nvSpPr>
            <p:cNvPr id="495" name=""/>
            <p:cNvSpPr/>
            <p:nvPr/>
          </p:nvSpPr>
          <p:spPr>
            <a:xfrm>
              <a:off x="6629400" y="5105520"/>
              <a:ext cx="198108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1932120" cy="12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 of interfaces and chann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8572320" cy="14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C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rfac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stract class inheriting fro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interfac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only pure virtual declarations of methods referenced by SystemC channels and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mplementations or data are provided in an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176640"/>
            <a:ext cx="85723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C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channel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 implementing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1interface classes, inheriting fro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c_chann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c_prim_chann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annel implements all methods of inherited interfac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105520"/>
            <a:ext cx="84992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y using interfaces to connect to channels, we can implement modules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independen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f the implementation details of the communication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514600" y="1371600"/>
            <a:ext cx="4114800" cy="190512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witch_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133360" y="4495320"/>
            <a:ext cx="6629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File Switch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witch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4&gt; T1_i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c_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req_op;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761400" y="10666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761400" y="17524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61400" y="24382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761400" y="31240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7848000" y="10666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7848000" y="17524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7848000" y="24382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7848000" y="3124080"/>
            <a:ext cx="533520" cy="1143000"/>
          </a:xfrm>
          <a:custGeom>
            <a:avLst/>
            <a:gdLst/>
            <a:ahLst/>
            <a:rect l="l" t="t" r="r" b="b"/>
            <a:pathLst>
              <a:path w="468" h="906">
                <a:moveTo>
                  <a:pt x="0" y="222"/>
                </a:moveTo>
                <a:lnTo>
                  <a:pt x="234" y="0"/>
                </a:lnTo>
                <a:lnTo>
                  <a:pt x="468" y="216"/>
                </a:lnTo>
                <a:lnTo>
                  <a:pt x="462" y="702"/>
                </a:lnTo>
                <a:lnTo>
                  <a:pt x="246" y="906"/>
                </a:lnTo>
                <a:lnTo>
                  <a:pt x="6" y="684"/>
                </a:lnTo>
                <a:lnTo>
                  <a:pt x="0" y="22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1981080"/>
            <a:ext cx="19810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_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8640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47560" y="1523880"/>
            <a:ext cx="215640" cy="216000"/>
            <a:chOff x="1447560" y="1523880"/>
            <a:chExt cx="215640" cy="216000"/>
          </a:xfrm>
        </p:grpSpPr>
        <p:sp>
          <p:nvSpPr>
            <p:cNvPr id="512" name=""/>
            <p:cNvSpPr/>
            <p:nvPr/>
          </p:nvSpPr>
          <p:spPr>
            <a:xfrm rot="10800000">
              <a:off x="1447560" y="15238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800000">
              <a:off x="1520640" y="15951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447560" y="2209680"/>
            <a:ext cx="215640" cy="216000"/>
            <a:chOff x="1447560" y="2209680"/>
            <a:chExt cx="215640" cy="216000"/>
          </a:xfrm>
        </p:grpSpPr>
        <p:sp>
          <p:nvSpPr>
            <p:cNvPr id="515" name=""/>
            <p:cNvSpPr/>
            <p:nvPr/>
          </p:nvSpPr>
          <p:spPr>
            <a:xfrm rot="10800000">
              <a:off x="1447560" y="22096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1520640" y="22809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47560" y="2895480"/>
            <a:ext cx="215640" cy="216000"/>
            <a:chOff x="1447560" y="2895480"/>
            <a:chExt cx="215640" cy="216000"/>
          </a:xfrm>
        </p:grpSpPr>
        <p:sp>
          <p:nvSpPr>
            <p:cNvPr id="518" name=""/>
            <p:cNvSpPr/>
            <p:nvPr/>
          </p:nvSpPr>
          <p:spPr>
            <a:xfrm rot="10800000">
              <a:off x="1447560" y="28954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0800000">
              <a:off x="1520640" y="29667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447560" y="3581280"/>
            <a:ext cx="215640" cy="216000"/>
            <a:chOff x="1447560" y="3581280"/>
            <a:chExt cx="215640" cy="216000"/>
          </a:xfrm>
        </p:grpSpPr>
        <p:sp>
          <p:nvSpPr>
            <p:cNvPr id="521" name=""/>
            <p:cNvSpPr/>
            <p:nvPr/>
          </p:nvSpPr>
          <p:spPr>
            <a:xfrm rot="10800000">
              <a:off x="1447560" y="35812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0800000">
              <a:off x="1520640" y="36525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0880" y="1523880"/>
            <a:ext cx="216000" cy="216000"/>
            <a:chOff x="380880" y="1523880"/>
            <a:chExt cx="216000" cy="216000"/>
          </a:xfrm>
        </p:grpSpPr>
        <p:sp>
          <p:nvSpPr>
            <p:cNvPr id="524" name=""/>
            <p:cNvSpPr/>
            <p:nvPr/>
          </p:nvSpPr>
          <p:spPr>
            <a:xfrm>
              <a:off x="380880" y="15238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0880" y="15825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80880" y="2209680"/>
            <a:ext cx="216000" cy="216000"/>
            <a:chOff x="380880" y="2209680"/>
            <a:chExt cx="216000" cy="216000"/>
          </a:xfrm>
        </p:grpSpPr>
        <p:sp>
          <p:nvSpPr>
            <p:cNvPr id="527" name=""/>
            <p:cNvSpPr/>
            <p:nvPr/>
          </p:nvSpPr>
          <p:spPr>
            <a:xfrm>
              <a:off x="380880" y="22096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880" y="22683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80880" y="2895480"/>
            <a:ext cx="216000" cy="216000"/>
            <a:chOff x="380880" y="2895480"/>
            <a:chExt cx="216000" cy="216000"/>
          </a:xfrm>
        </p:grpSpPr>
        <p:sp>
          <p:nvSpPr>
            <p:cNvPr id="530" name=""/>
            <p:cNvSpPr/>
            <p:nvPr/>
          </p:nvSpPr>
          <p:spPr>
            <a:xfrm>
              <a:off x="380880" y="28954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880" y="29541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0880" y="3581280"/>
            <a:ext cx="216000" cy="216000"/>
            <a:chOff x="380880" y="3581280"/>
            <a:chExt cx="216000" cy="216000"/>
          </a:xfrm>
        </p:grpSpPr>
        <p:sp>
          <p:nvSpPr>
            <p:cNvPr id="533" name=""/>
            <p:cNvSpPr/>
            <p:nvPr/>
          </p:nvSpPr>
          <p:spPr>
            <a:xfrm>
              <a:off x="380880" y="3581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880" y="36399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8610480" y="1523880"/>
            <a:ext cx="216000" cy="216000"/>
            <a:chOff x="8610480" y="1523880"/>
            <a:chExt cx="216000" cy="216000"/>
          </a:xfrm>
        </p:grpSpPr>
        <p:sp>
          <p:nvSpPr>
            <p:cNvPr id="536" name=""/>
            <p:cNvSpPr/>
            <p:nvPr/>
          </p:nvSpPr>
          <p:spPr>
            <a:xfrm rot="10800000">
              <a:off x="8610480" y="15238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0800000">
              <a:off x="8683560" y="15951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8534160" y="2209680"/>
            <a:ext cx="215640" cy="216000"/>
            <a:chOff x="8534160" y="2209680"/>
            <a:chExt cx="215640" cy="216000"/>
          </a:xfrm>
        </p:grpSpPr>
        <p:sp>
          <p:nvSpPr>
            <p:cNvPr id="539" name=""/>
            <p:cNvSpPr/>
            <p:nvPr/>
          </p:nvSpPr>
          <p:spPr>
            <a:xfrm rot="10800000">
              <a:off x="8534160" y="22096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0800000">
              <a:off x="8607240" y="22809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8534160" y="2895480"/>
            <a:ext cx="215640" cy="216000"/>
            <a:chOff x="8534160" y="2895480"/>
            <a:chExt cx="215640" cy="216000"/>
          </a:xfrm>
        </p:grpSpPr>
        <p:sp>
          <p:nvSpPr>
            <p:cNvPr id="542" name=""/>
            <p:cNvSpPr/>
            <p:nvPr/>
          </p:nvSpPr>
          <p:spPr>
            <a:xfrm rot="10800000">
              <a:off x="8534160" y="28954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0800000">
              <a:off x="8607240" y="2966760"/>
              <a:ext cx="14256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8610480" y="3581280"/>
            <a:ext cx="216000" cy="216000"/>
            <a:chOff x="8610480" y="3581280"/>
            <a:chExt cx="216000" cy="216000"/>
          </a:xfrm>
        </p:grpSpPr>
        <p:sp>
          <p:nvSpPr>
            <p:cNvPr id="545" name=""/>
            <p:cNvSpPr/>
            <p:nvPr/>
          </p:nvSpPr>
          <p:spPr>
            <a:xfrm rot="10800000">
              <a:off x="8610480" y="3581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0800000">
              <a:off x="8683560" y="36525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467480" y="1523880"/>
            <a:ext cx="216000" cy="216000"/>
            <a:chOff x="7467480" y="1523880"/>
            <a:chExt cx="216000" cy="216000"/>
          </a:xfrm>
        </p:grpSpPr>
        <p:sp>
          <p:nvSpPr>
            <p:cNvPr id="548" name=""/>
            <p:cNvSpPr/>
            <p:nvPr/>
          </p:nvSpPr>
          <p:spPr>
            <a:xfrm>
              <a:off x="7467480" y="15238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67480" y="15825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7467480" y="2209680"/>
            <a:ext cx="216000" cy="216000"/>
            <a:chOff x="7467480" y="2209680"/>
            <a:chExt cx="216000" cy="216000"/>
          </a:xfrm>
        </p:grpSpPr>
        <p:sp>
          <p:nvSpPr>
            <p:cNvPr id="551" name=""/>
            <p:cNvSpPr/>
            <p:nvPr/>
          </p:nvSpPr>
          <p:spPr>
            <a:xfrm>
              <a:off x="7467480" y="22096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67480" y="22683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467480" y="2895480"/>
            <a:ext cx="216000" cy="216000"/>
            <a:chOff x="7467480" y="2895480"/>
            <a:chExt cx="216000" cy="216000"/>
          </a:xfrm>
        </p:grpSpPr>
        <p:sp>
          <p:nvSpPr>
            <p:cNvPr id="554" name=""/>
            <p:cNvSpPr/>
            <p:nvPr/>
          </p:nvSpPr>
          <p:spPr>
            <a:xfrm>
              <a:off x="7467480" y="28954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67480" y="29541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362320" y="2170080"/>
            <a:ext cx="331560" cy="268200"/>
            <a:chOff x="2362320" y="2170080"/>
            <a:chExt cx="331560" cy="268200"/>
          </a:xfrm>
        </p:grpSpPr>
        <p:grpSp>
          <p:nvGrpSpPr>
            <p:cNvPr id="557" name=""/>
            <p:cNvGrpSpPr/>
            <p:nvPr/>
          </p:nvGrpSpPr>
          <p:grpSpPr>
            <a:xfrm>
              <a:off x="2478240" y="2170080"/>
              <a:ext cx="215640" cy="152280"/>
              <a:chOff x="2478240" y="2170080"/>
              <a:chExt cx="215640" cy="152280"/>
            </a:xfrm>
          </p:grpSpPr>
          <p:sp>
            <p:nvSpPr>
              <p:cNvPr id="558" name=""/>
              <p:cNvSpPr/>
              <p:nvPr/>
            </p:nvSpPr>
            <p:spPr>
              <a:xfrm>
                <a:off x="2478240" y="217008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78240" y="22464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438280" y="2209680"/>
              <a:ext cx="215640" cy="152280"/>
              <a:chOff x="2438280" y="2209680"/>
              <a:chExt cx="215640" cy="152280"/>
            </a:xfrm>
          </p:grpSpPr>
          <p:sp>
            <p:nvSpPr>
              <p:cNvPr id="561" name=""/>
              <p:cNvSpPr/>
              <p:nvPr/>
            </p:nvSpPr>
            <p:spPr>
              <a:xfrm>
                <a:off x="2438280" y="220968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438280" y="2286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403360" y="2244600"/>
              <a:ext cx="215640" cy="152280"/>
              <a:chOff x="2403360" y="2244600"/>
              <a:chExt cx="215640" cy="152280"/>
            </a:xfrm>
          </p:grpSpPr>
          <p:sp>
            <p:nvSpPr>
              <p:cNvPr id="564" name=""/>
              <p:cNvSpPr/>
              <p:nvPr/>
            </p:nvSpPr>
            <p:spPr>
              <a:xfrm>
                <a:off x="2403360" y="224460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403360" y="23209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362320" y="2286000"/>
              <a:ext cx="215640" cy="152280"/>
              <a:chOff x="2362320" y="2286000"/>
              <a:chExt cx="215640" cy="152280"/>
            </a:xfrm>
          </p:grpSpPr>
          <p:sp>
            <p:nvSpPr>
              <p:cNvPr id="567" name=""/>
              <p:cNvSpPr/>
              <p:nvPr/>
            </p:nvSpPr>
            <p:spPr>
              <a:xfrm>
                <a:off x="2362320" y="228600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62320" y="23623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1676520" y="1676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676520" y="23619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676520" y="24379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6781680" y="1676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2362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05720" y="243828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16040" y="251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_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38680" y="25146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_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3920" y="14479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3920" y="21337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3200" y="2819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3200" y="35053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14479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2133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96080" y="28195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696080" y="3505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477120" y="2209680"/>
            <a:ext cx="331560" cy="268200"/>
            <a:chOff x="6477120" y="2209680"/>
            <a:chExt cx="331560" cy="268200"/>
          </a:xfrm>
        </p:grpSpPr>
        <p:grpSp>
          <p:nvGrpSpPr>
            <p:cNvPr id="588" name=""/>
            <p:cNvGrpSpPr/>
            <p:nvPr/>
          </p:nvGrpSpPr>
          <p:grpSpPr>
            <a:xfrm>
              <a:off x="6593040" y="2209680"/>
              <a:ext cx="215640" cy="152280"/>
              <a:chOff x="6593040" y="2209680"/>
              <a:chExt cx="215640" cy="152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593040" y="220968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93040" y="2286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553080" y="2249280"/>
              <a:ext cx="215640" cy="152280"/>
              <a:chOff x="6553080" y="2249280"/>
              <a:chExt cx="215640" cy="152280"/>
            </a:xfrm>
          </p:grpSpPr>
          <p:sp>
            <p:nvSpPr>
              <p:cNvPr id="592" name=""/>
              <p:cNvSpPr/>
              <p:nvPr/>
            </p:nvSpPr>
            <p:spPr>
              <a:xfrm>
                <a:off x="6553080" y="224928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53080" y="23256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6518160" y="2284200"/>
              <a:ext cx="215640" cy="152280"/>
              <a:chOff x="6518160" y="2284200"/>
              <a:chExt cx="215640" cy="152280"/>
            </a:xfrm>
          </p:grpSpPr>
          <p:sp>
            <p:nvSpPr>
              <p:cNvPr id="595" name=""/>
              <p:cNvSpPr/>
              <p:nvPr/>
            </p:nvSpPr>
            <p:spPr>
              <a:xfrm>
                <a:off x="6518160" y="228420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18160" y="23605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6477120" y="2325600"/>
              <a:ext cx="215640" cy="152280"/>
              <a:chOff x="6477120" y="2325600"/>
              <a:chExt cx="215640" cy="152280"/>
            </a:xfrm>
          </p:grpSpPr>
          <p:sp>
            <p:nvSpPr>
              <p:cNvPr id="598" name=""/>
              <p:cNvSpPr/>
              <p:nvPr/>
            </p:nvSpPr>
            <p:spPr>
              <a:xfrm>
                <a:off x="6477120" y="2325600"/>
                <a:ext cx="215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477120" y="24019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1828800" cy="1227240"/>
          </a:xfrm>
          <a:prstGeom prst="rect">
            <a:avLst/>
          </a:prstGeom>
          <a:ln w="0">
            <a:noFill/>
          </a:ln>
        </p:spPr>
      </p:pic>
      <p:grpSp>
        <p:nvGrpSpPr>
          <p:cNvPr id="601" name=""/>
          <p:cNvGrpSpPr/>
          <p:nvPr/>
        </p:nvGrpSpPr>
        <p:grpSpPr>
          <a:xfrm>
            <a:off x="7467480" y="3581280"/>
            <a:ext cx="216000" cy="216000"/>
            <a:chOff x="7467480" y="3581280"/>
            <a:chExt cx="216000" cy="216000"/>
          </a:xfrm>
        </p:grpSpPr>
        <p:sp>
          <p:nvSpPr>
            <p:cNvPr id="602" name=""/>
            <p:cNvSpPr/>
            <p:nvPr/>
          </p:nvSpPr>
          <p:spPr>
            <a:xfrm>
              <a:off x="7467480" y="3581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67480" y="3639960"/>
              <a:ext cx="142920" cy="8604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4"/>
                  </a:moveTo>
                  <a:cubicBezTo>
                    <a:pt x="56" y="58"/>
                    <a:pt x="113" y="62"/>
                    <a:pt x="136" y="54"/>
                  </a:cubicBezTo>
                  <a:cubicBezTo>
                    <a:pt x="159" y="46"/>
                    <a:pt x="159" y="16"/>
                    <a:pt x="136" y="8"/>
                  </a:cubicBezTo>
                  <a:cubicBezTo>
                    <a:pt x="113" y="0"/>
                    <a:pt x="56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6172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File: board.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"Switch.h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ard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 un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itch switch_i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t1A, t1B, t1C, t1D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req[9]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ard): switch_i("switch_i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{//connect 4 channels to the swit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witch_i.T1_ip(t1A); switch_i.T1_ip(t1B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witch_i.T1_ip(t1C); switch_i.T1_ip(t1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sign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=0;i!=4;i++) {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switch_i.req_op(req[i]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}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6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File: Switch.cp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witch::switch_thread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=0;i!=req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req[i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startup after first port is activ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1_ip[0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//returns reference to ev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| T1_ip[1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//that occurs when data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| T1_ip[2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//written (method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T1_ip[3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;;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=0; i!=T1_ip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// process each port 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= T1_ip[i]-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nnect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6920" y="5334120"/>
            <a:ext cx="562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c1i implements interfaces ifB, if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c2i implements interfaces ifX, if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c3i implements interfaces ifF, if5, if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371600"/>
            <a:ext cx="327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 is an array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1 implements an interface if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ustom channels, not explained in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ay communicate with other processes at the same level using channels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e pr2 &amp; pr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 is of ty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_ex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SystemC 2.1: channel moved into module, port can be used like a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080" y="1295280"/>
            <a:ext cx="6123240" cy="3810240"/>
            <a:chOff x="1080" y="1295280"/>
            <a:chExt cx="6123240" cy="3810240"/>
          </a:xfrm>
        </p:grpSpPr>
        <p:sp>
          <p:nvSpPr>
            <p:cNvPr id="612" name=""/>
            <p:cNvSpPr/>
            <p:nvPr/>
          </p:nvSpPr>
          <p:spPr>
            <a:xfrm>
              <a:off x="362520" y="1295280"/>
              <a:ext cx="5258520" cy="3810240"/>
            </a:xfrm>
            <a:prstGeom prst="rect">
              <a:avLst/>
            </a:prstGeom>
            <a:solidFill>
              <a:srgbClr val="e3e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27440" y="1573200"/>
              <a:ext cx="966240" cy="110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48920" y="1573200"/>
              <a:ext cx="966600" cy="110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66600" y="4413240"/>
              <a:ext cx="1087920" cy="276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66600" y="3651120"/>
              <a:ext cx="1087920" cy="346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2570400" y="4213800"/>
              <a:ext cx="901800" cy="604080"/>
            </a:xfrm>
            <a:prstGeom prst="hexagon">
              <a:avLst>
                <a:gd name="adj" fmla="val 37321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241200" y="2195640"/>
              <a:ext cx="257760" cy="295200"/>
              <a:chOff x="241200" y="2195640"/>
              <a:chExt cx="257760" cy="295200"/>
            </a:xfrm>
          </p:grpSpPr>
          <p:sp>
            <p:nvSpPr>
              <p:cNvPr id="619" name=""/>
              <p:cNvSpPr/>
              <p:nvPr/>
            </p:nvSpPr>
            <p:spPr>
              <a:xfrm>
                <a:off x="241200" y="2195640"/>
                <a:ext cx="257760" cy="29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160" y="2293920"/>
                <a:ext cx="14508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41200" y="1641600"/>
              <a:ext cx="242640" cy="277560"/>
              <a:chOff x="241200" y="1641600"/>
              <a:chExt cx="242640" cy="277560"/>
            </a:xfrm>
          </p:grpSpPr>
          <p:sp>
            <p:nvSpPr>
              <p:cNvPr id="622" name=""/>
              <p:cNvSpPr/>
              <p:nvPr/>
            </p:nvSpPr>
            <p:spPr>
              <a:xfrm>
                <a:off x="241200" y="1641600"/>
                <a:ext cx="242640" cy="27756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704">
                    <a:moveTo>
                      <a:pt x="158" y="0"/>
                    </a:moveTo>
                    <a:arcTo wR="158" hR="158" stAng="16200000" swAng="-5400000"/>
                    <a:lnTo>
                      <a:pt x="0" y="24546"/>
                    </a:lnTo>
                    <a:arcTo wR="158" hR="158" stAng="10800000" swAng="-5400000"/>
                    <a:lnTo>
                      <a:pt x="21442" y="24704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1200" y="17805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1080" y="1346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3600" y="1555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4200" y="177948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905760" y="1641600"/>
              <a:ext cx="242640" cy="277560"/>
              <a:chOff x="905760" y="1641600"/>
              <a:chExt cx="242640" cy="277560"/>
            </a:xfrm>
          </p:grpSpPr>
          <p:sp>
            <p:nvSpPr>
              <p:cNvPr id="628" name=""/>
              <p:cNvSpPr/>
              <p:nvPr/>
            </p:nvSpPr>
            <p:spPr>
              <a:xfrm>
                <a:off x="905760" y="1641600"/>
                <a:ext cx="242640" cy="27756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704">
                    <a:moveTo>
                      <a:pt x="158" y="0"/>
                    </a:moveTo>
                    <a:arcTo wR="158" hR="158" stAng="16200000" swAng="-5400000"/>
                    <a:lnTo>
                      <a:pt x="0" y="24546"/>
                    </a:lnTo>
                    <a:arcTo wR="158" hR="158" stAng="10800000" swAng="-5400000"/>
                    <a:lnTo>
                      <a:pt x="21442" y="24704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5760" y="17805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1080" y="1969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3600" y="21081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905760" y="2195640"/>
              <a:ext cx="258120" cy="295200"/>
              <a:chOff x="905760" y="2195640"/>
              <a:chExt cx="258120" cy="295200"/>
            </a:xfrm>
          </p:grpSpPr>
          <p:sp>
            <p:nvSpPr>
              <p:cNvPr id="633" name=""/>
              <p:cNvSpPr/>
              <p:nvPr/>
            </p:nvSpPr>
            <p:spPr>
              <a:xfrm>
                <a:off x="905760" y="2195640"/>
                <a:ext cx="258120" cy="29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63720" y="2293920"/>
                <a:ext cx="14544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484200" y="233532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88640" y="134604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1 mi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50200" y="16239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50200" y="217800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874160" y="1641600"/>
              <a:ext cx="241200" cy="277560"/>
              <a:chOff x="1874160" y="1641600"/>
              <a:chExt cx="241200" cy="277560"/>
            </a:xfrm>
          </p:grpSpPr>
          <p:sp>
            <p:nvSpPr>
              <p:cNvPr id="640" name=""/>
              <p:cNvSpPr/>
              <p:nvPr/>
            </p:nvSpPr>
            <p:spPr>
              <a:xfrm>
                <a:off x="1874160" y="1641600"/>
                <a:ext cx="241200" cy="27756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851">
                    <a:moveTo>
                      <a:pt x="158" y="0"/>
                    </a:moveTo>
                    <a:arcTo wR="158" hR="158" stAng="16200000" swAng="-5400000"/>
                    <a:lnTo>
                      <a:pt x="0" y="24693"/>
                    </a:lnTo>
                    <a:arcTo wR="158" hR="158" stAng="10800000" swAng="-5400000"/>
                    <a:lnTo>
                      <a:pt x="21442" y="24851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874160" y="17805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1510920" y="16239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874160" y="2195640"/>
              <a:ext cx="256320" cy="295200"/>
              <a:chOff x="1874160" y="2195640"/>
              <a:chExt cx="256320" cy="29520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1874160" y="2195640"/>
                <a:ext cx="256320" cy="29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1931040" y="22939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1390320" y="2541600"/>
              <a:ext cx="256320" cy="295200"/>
              <a:chOff x="1390320" y="2541600"/>
              <a:chExt cx="256320" cy="295200"/>
            </a:xfrm>
          </p:grpSpPr>
          <p:sp>
            <p:nvSpPr>
              <p:cNvPr id="647" name=""/>
              <p:cNvSpPr/>
              <p:nvPr/>
            </p:nvSpPr>
            <p:spPr>
              <a:xfrm flipV="1" rot="5400000">
                <a:off x="1370880" y="2561040"/>
                <a:ext cx="295200" cy="25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rot="5400000">
                <a:off x="1435320" y="2647800"/>
                <a:ext cx="16596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1511640" y="21780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89720" y="29401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"/>
            <p:cNvCxnSpPr>
              <a:stCxn id="615" idx="0"/>
              <a:endCxn id="616" idx="4"/>
            </p:cNvCxnSpPr>
            <p:nvPr/>
          </p:nvCxnSpPr>
          <p:spPr>
            <a:xfrm flipV="1">
              <a:off x="1510920" y="3996720"/>
              <a:ext cx="108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"/>
            <p:cNvSpPr/>
            <p:nvPr/>
          </p:nvSpPr>
          <p:spPr>
            <a:xfrm>
              <a:off x="1089000" y="40291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41200" y="4413240"/>
              <a:ext cx="242640" cy="276120"/>
              <a:chOff x="241200" y="4413240"/>
              <a:chExt cx="242640" cy="276120"/>
            </a:xfrm>
          </p:grpSpPr>
          <p:sp>
            <p:nvSpPr>
              <p:cNvPr id="654" name=""/>
              <p:cNvSpPr/>
              <p:nvPr/>
            </p:nvSpPr>
            <p:spPr>
              <a:xfrm>
                <a:off x="241200" y="4413240"/>
                <a:ext cx="242640" cy="27612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6120"/>
                  <a:gd name="textAreaBottom" fmla="*/ 275760 h 276120"/>
                </a:gdLst>
                <a:ahLst/>
                <a:rect l="textAreaLeft" t="textAreaTop" r="textAreaRight" b="textAreaBottom"/>
                <a:pathLst>
                  <a:path w="21600" h="24576">
                    <a:moveTo>
                      <a:pt x="158" y="0"/>
                    </a:moveTo>
                    <a:arcTo wR="158" hR="158" stAng="16200000" swAng="-5400000"/>
                    <a:lnTo>
                      <a:pt x="0" y="24418"/>
                    </a:lnTo>
                    <a:arcTo wR="158" hR="158" stAng="10800000" swAng="-5400000"/>
                    <a:lnTo>
                      <a:pt x="21442" y="24576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41200" y="455148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84200" y="4551480"/>
              <a:ext cx="4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3600" y="43275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80" y="4184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2598120" y="4413240"/>
              <a:ext cx="258120" cy="293760"/>
              <a:chOff x="2598120" y="4413240"/>
              <a:chExt cx="258120" cy="293760"/>
            </a:xfrm>
          </p:grpSpPr>
          <p:sp>
            <p:nvSpPr>
              <p:cNvPr id="660" name=""/>
              <p:cNvSpPr/>
              <p:nvPr/>
            </p:nvSpPr>
            <p:spPr>
              <a:xfrm>
                <a:off x="2598120" y="4413240"/>
                <a:ext cx="258120" cy="29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56080" y="4511160"/>
                <a:ext cx="145440" cy="979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054880" y="4551480"/>
              <a:ext cx="54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7160" y="43275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2571120" y="1512720"/>
              <a:ext cx="900360" cy="604080"/>
            </a:xfrm>
            <a:prstGeom prst="hexagon">
              <a:avLst>
                <a:gd name="adj" fmla="val 37262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598120" y="1641600"/>
              <a:ext cx="258120" cy="295200"/>
              <a:chOff x="2598120" y="1641600"/>
              <a:chExt cx="258120" cy="295200"/>
            </a:xfrm>
          </p:grpSpPr>
          <p:sp>
            <p:nvSpPr>
              <p:cNvPr id="666" name=""/>
              <p:cNvSpPr/>
              <p:nvPr/>
            </p:nvSpPr>
            <p:spPr>
              <a:xfrm>
                <a:off x="2598120" y="1641600"/>
                <a:ext cx="258120" cy="29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56080" y="1739880"/>
                <a:ext cx="14544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2115720" y="1779480"/>
              <a:ext cx="4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7280" y="15559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3203640" y="1641600"/>
              <a:ext cx="256320" cy="295200"/>
              <a:chOff x="3203640" y="1641600"/>
              <a:chExt cx="256320" cy="29520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203640" y="1641600"/>
                <a:ext cx="256320" cy="29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3260520" y="173988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3507120" y="1486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929040" y="1641600"/>
              <a:ext cx="241200" cy="277560"/>
              <a:chOff x="3929040" y="1641600"/>
              <a:chExt cx="241200" cy="277560"/>
            </a:xfrm>
          </p:grpSpPr>
          <p:sp>
            <p:nvSpPr>
              <p:cNvPr id="675" name=""/>
              <p:cNvSpPr/>
              <p:nvPr/>
            </p:nvSpPr>
            <p:spPr>
              <a:xfrm>
                <a:off x="3929040" y="1641600"/>
                <a:ext cx="241200" cy="27756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851">
                    <a:moveTo>
                      <a:pt x="158" y="0"/>
                    </a:moveTo>
                    <a:arcTo wR="158" hR="158" stAng="16200000" swAng="-5400000"/>
                    <a:lnTo>
                      <a:pt x="0" y="24693"/>
                    </a:lnTo>
                    <a:arcTo wR="158" hR="158" stAng="10800000" swAng="-5400000"/>
                    <a:lnTo>
                      <a:pt x="21442" y="24851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29040" y="17805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896000" y="1641600"/>
              <a:ext cx="241200" cy="277560"/>
              <a:chOff x="4896000" y="1641600"/>
              <a:chExt cx="241200" cy="277560"/>
            </a:xfrm>
          </p:grpSpPr>
          <p:sp>
            <p:nvSpPr>
              <p:cNvPr id="678" name=""/>
              <p:cNvSpPr/>
              <p:nvPr/>
            </p:nvSpPr>
            <p:spPr>
              <a:xfrm>
                <a:off x="4896000" y="1641600"/>
                <a:ext cx="241200" cy="27756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851">
                    <a:moveTo>
                      <a:pt x="158" y="0"/>
                    </a:moveTo>
                    <a:arcTo wR="158" hR="158" stAng="16200000" swAng="-5400000"/>
                    <a:lnTo>
                      <a:pt x="0" y="24693"/>
                    </a:lnTo>
                    <a:arcTo wR="158" hR="158" stAng="10800000" swAng="-5400000"/>
                    <a:lnTo>
                      <a:pt x="21442" y="24851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96000" y="17805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929040" y="2195640"/>
              <a:ext cx="241200" cy="277560"/>
              <a:chOff x="3929040" y="2195640"/>
              <a:chExt cx="241200" cy="277560"/>
            </a:xfrm>
          </p:grpSpPr>
          <p:sp>
            <p:nvSpPr>
              <p:cNvPr id="681" name=""/>
              <p:cNvSpPr/>
              <p:nvPr/>
            </p:nvSpPr>
            <p:spPr>
              <a:xfrm>
                <a:off x="3929040" y="2195640"/>
                <a:ext cx="241200" cy="27756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851">
                    <a:moveTo>
                      <a:pt x="158" y="0"/>
                    </a:moveTo>
                    <a:arcTo wR="158" hR="158" stAng="16200000" swAng="-5400000"/>
                    <a:lnTo>
                      <a:pt x="0" y="24693"/>
                    </a:lnTo>
                    <a:arcTo wR="158" hR="158" stAng="10800000" swAng="-5400000"/>
                    <a:lnTo>
                      <a:pt x="21442" y="24851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29040" y="233460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411440" y="2541600"/>
              <a:ext cx="241200" cy="277920"/>
              <a:chOff x="4411440" y="2541600"/>
              <a:chExt cx="241200" cy="277920"/>
            </a:xfrm>
          </p:grpSpPr>
          <p:sp>
            <p:nvSpPr>
              <p:cNvPr id="684" name=""/>
              <p:cNvSpPr/>
              <p:nvPr/>
            </p:nvSpPr>
            <p:spPr>
              <a:xfrm rot="5400000">
                <a:off x="4393080" y="2559960"/>
                <a:ext cx="277920" cy="241200"/>
              </a:xfrm>
              <a:prstGeom prst="roundRect">
                <a:avLst>
                  <a:gd name="adj" fmla="val 7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32040" y="2541600"/>
                <a:ext cx="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86" name=""/>
            <p:cNvCxnSpPr>
              <a:stCxn id="644" idx="6"/>
              <a:endCxn id="682" idx="0"/>
            </p:cNvCxnSpPr>
            <p:nvPr/>
          </p:nvCxnSpPr>
          <p:spPr>
            <a:xfrm flipV="1">
              <a:off x="2130480" y="2334960"/>
              <a:ext cx="179928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7" name=""/>
            <p:cNvSpPr/>
            <p:nvPr/>
          </p:nvSpPr>
          <p:spPr>
            <a:xfrm>
              <a:off x="5196600" y="1555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5500080" y="1641600"/>
              <a:ext cx="240840" cy="277560"/>
              <a:chOff x="5500080" y="1641600"/>
              <a:chExt cx="240840" cy="277560"/>
            </a:xfrm>
          </p:grpSpPr>
          <p:sp>
            <p:nvSpPr>
              <p:cNvPr id="689" name=""/>
              <p:cNvSpPr/>
              <p:nvPr/>
            </p:nvSpPr>
            <p:spPr>
              <a:xfrm>
                <a:off x="5500080" y="1641600"/>
                <a:ext cx="240840" cy="277560"/>
              </a:xfrm>
              <a:custGeom>
                <a:avLst/>
                <a:gdLst>
                  <a:gd name="textAreaLeft" fmla="*/ 360 w 240840"/>
                  <a:gd name="textAreaRight" fmla="*/ 240480 w 240840"/>
                  <a:gd name="textAreaTop" fmla="*/ 360 h 277560"/>
                  <a:gd name="textAreaBottom" fmla="*/ 277200 h 277560"/>
                </a:gdLst>
                <a:ahLst/>
                <a:rect l="textAreaLeft" t="textAreaTop" r="textAreaRight" b="textAreaBottom"/>
                <a:pathLst>
                  <a:path w="21600" h="24888">
                    <a:moveTo>
                      <a:pt x="158" y="0"/>
                    </a:moveTo>
                    <a:arcTo wR="158" hR="158" stAng="16200000" swAng="-5400000"/>
                    <a:lnTo>
                      <a:pt x="0" y="24730"/>
                    </a:lnTo>
                    <a:arcTo wR="158" hR="158" stAng="10800000" swAng="-5400000"/>
                    <a:lnTo>
                      <a:pt x="21442" y="24888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00080" y="178056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5137200" y="1779480"/>
              <a:ext cx="48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95040" y="1693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09760" y="1555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D[0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09760" y="21780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D[1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53720" y="238752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6200000">
              <a:off x="4083120" y="3313440"/>
              <a:ext cx="900000" cy="603720"/>
            </a:xfrm>
            <a:prstGeom prst="hexagon">
              <a:avLst>
                <a:gd name="adj" fmla="val 37269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411080" y="3027240"/>
              <a:ext cx="256680" cy="293760"/>
              <a:chOff x="4411080" y="3027240"/>
              <a:chExt cx="256680" cy="293760"/>
            </a:xfrm>
          </p:grpSpPr>
          <p:sp>
            <p:nvSpPr>
              <p:cNvPr id="698" name=""/>
              <p:cNvSpPr/>
              <p:nvPr/>
            </p:nvSpPr>
            <p:spPr>
              <a:xfrm flipV="1" rot="16200000">
                <a:off x="4392360" y="3045600"/>
                <a:ext cx="293760" cy="25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 rot="16200000">
                <a:off x="4456080" y="312948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4470120" y="2801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713840" y="3443040"/>
              <a:ext cx="256320" cy="293400"/>
              <a:chOff x="4713840" y="3443040"/>
              <a:chExt cx="256320" cy="293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713840" y="3442680"/>
                <a:ext cx="256320" cy="29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770720" y="3540960"/>
                <a:ext cx="14436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411440" y="3859200"/>
              <a:ext cx="256680" cy="293760"/>
              <a:chOff x="4411440" y="3859200"/>
              <a:chExt cx="256680" cy="293760"/>
            </a:xfrm>
          </p:grpSpPr>
          <p:sp>
            <p:nvSpPr>
              <p:cNvPr id="705" name=""/>
              <p:cNvSpPr/>
              <p:nvPr/>
            </p:nvSpPr>
            <p:spPr>
              <a:xfrm flipV="1" rot="5400000">
                <a:off x="4392720" y="3877560"/>
                <a:ext cx="293760" cy="25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rot="5400000">
                <a:off x="4456800" y="396504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4048920" y="4413240"/>
              <a:ext cx="966600" cy="276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34200" y="4116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9" name=""/>
            <p:cNvCxnSpPr>
              <a:stCxn id="705" idx="6"/>
              <a:endCxn id="707" idx="0"/>
            </p:cNvCxnSpPr>
            <p:nvPr/>
          </p:nvCxnSpPr>
          <p:spPr>
            <a:xfrm flipH="1">
              <a:off x="4532400" y="4152600"/>
              <a:ext cx="756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710" name=""/>
            <p:cNvGrpSpPr/>
            <p:nvPr/>
          </p:nvGrpSpPr>
          <p:grpSpPr>
            <a:xfrm>
              <a:off x="5500080" y="4413240"/>
              <a:ext cx="240840" cy="276120"/>
              <a:chOff x="5500080" y="4413240"/>
              <a:chExt cx="240840" cy="276120"/>
            </a:xfrm>
          </p:grpSpPr>
          <p:sp>
            <p:nvSpPr>
              <p:cNvPr id="711" name=""/>
              <p:cNvSpPr/>
              <p:nvPr/>
            </p:nvSpPr>
            <p:spPr>
              <a:xfrm>
                <a:off x="5500080" y="4413240"/>
                <a:ext cx="240840" cy="276120"/>
              </a:xfrm>
              <a:custGeom>
                <a:avLst/>
                <a:gdLst>
                  <a:gd name="textAreaLeft" fmla="*/ 360 w 240840"/>
                  <a:gd name="textAreaRight" fmla="*/ 240480 w 240840"/>
                  <a:gd name="textAreaTop" fmla="*/ 360 h 276120"/>
                  <a:gd name="textAreaBottom" fmla="*/ 275760 h 276120"/>
                </a:gdLst>
                <a:ahLst/>
                <a:rect l="textAreaLeft" t="textAreaTop" r="textAreaRight" b="textAreaBottom"/>
                <a:pathLst>
                  <a:path w="21600" h="24759">
                    <a:moveTo>
                      <a:pt x="158" y="0"/>
                    </a:moveTo>
                    <a:arcTo wR="158" hR="158" stAng="16200000" swAng="-5400000"/>
                    <a:lnTo>
                      <a:pt x="0" y="24601"/>
                    </a:lnTo>
                    <a:arcTo wR="158" hR="158" stAng="10800000" swAng="-5400000"/>
                    <a:lnTo>
                      <a:pt x="21442" y="2475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00080" y="455148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13" name=""/>
            <p:cNvCxnSpPr>
              <a:stCxn id="707" idx="6"/>
              <a:endCxn id="711" idx="1"/>
            </p:cNvCxnSpPr>
            <p:nvPr/>
          </p:nvCxnSpPr>
          <p:spPr>
            <a:xfrm>
              <a:off x="5015160" y="4551120"/>
              <a:ext cx="48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714" name=""/>
            <p:cNvGrpSpPr/>
            <p:nvPr/>
          </p:nvGrpSpPr>
          <p:grpSpPr>
            <a:xfrm>
              <a:off x="5500080" y="3443040"/>
              <a:ext cx="256320" cy="293400"/>
              <a:chOff x="5500080" y="3443040"/>
              <a:chExt cx="256320" cy="293400"/>
            </a:xfrm>
          </p:grpSpPr>
          <p:sp>
            <p:nvSpPr>
              <p:cNvPr id="715" name=""/>
              <p:cNvSpPr/>
              <p:nvPr/>
            </p:nvSpPr>
            <p:spPr>
              <a:xfrm flipV="1">
                <a:off x="5500080" y="3442680"/>
                <a:ext cx="256320" cy="29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5556960" y="3540960"/>
                <a:ext cx="14436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17" name=""/>
            <p:cNvCxnSpPr>
              <a:stCxn id="702" idx="6"/>
              <a:endCxn id="715" idx="2"/>
            </p:cNvCxnSpPr>
            <p:nvPr/>
          </p:nvCxnSpPr>
          <p:spPr>
            <a:xfrm>
              <a:off x="4969800" y="3588840"/>
              <a:ext cx="530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718" name=""/>
            <p:cNvGrpSpPr/>
            <p:nvPr/>
          </p:nvGrpSpPr>
          <p:grpSpPr>
            <a:xfrm>
              <a:off x="3203640" y="4413240"/>
              <a:ext cx="256320" cy="293760"/>
              <a:chOff x="3203640" y="4413240"/>
              <a:chExt cx="256320" cy="293760"/>
            </a:xfrm>
          </p:grpSpPr>
          <p:sp>
            <p:nvSpPr>
              <p:cNvPr id="719" name=""/>
              <p:cNvSpPr/>
              <p:nvPr/>
            </p:nvSpPr>
            <p:spPr>
              <a:xfrm flipV="1">
                <a:off x="3203640" y="4413240"/>
                <a:ext cx="256320" cy="29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260520" y="4511160"/>
                <a:ext cx="144360" cy="979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21" name=""/>
            <p:cNvCxnSpPr>
              <a:stCxn id="719" idx="6"/>
              <a:endCxn id="707" idx="2"/>
            </p:cNvCxnSpPr>
            <p:nvPr/>
          </p:nvCxnSpPr>
          <p:spPr>
            <a:xfrm flipV="1">
              <a:off x="3459600" y="4551120"/>
              <a:ext cx="5893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722" name=""/>
            <p:cNvCxnSpPr>
              <a:stCxn id="647" idx="6"/>
              <a:endCxn id="616" idx="0"/>
            </p:cNvCxnSpPr>
            <p:nvPr/>
          </p:nvCxnSpPr>
          <p:spPr>
            <a:xfrm flipH="1">
              <a:off x="1510560" y="2836800"/>
              <a:ext cx="7560" cy="81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3" name=""/>
            <p:cNvCxnSpPr>
              <a:stCxn id="616" idx="6"/>
              <a:endCxn id="617" idx="3"/>
            </p:cNvCxnSpPr>
            <p:nvPr/>
          </p:nvCxnSpPr>
          <p:spPr>
            <a:xfrm>
              <a:off x="2054520" y="3824280"/>
              <a:ext cx="967320" cy="241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4" name=""/>
            <p:cNvSpPr/>
            <p:nvPr/>
          </p:nvSpPr>
          <p:spPr>
            <a:xfrm>
              <a:off x="2235240" y="36338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671" idx="2"/>
              <a:endCxn id="676" idx="0"/>
            </p:cNvCxnSpPr>
            <p:nvPr/>
          </p:nvCxnSpPr>
          <p:spPr>
            <a:xfrm flipV="1">
              <a:off x="3459960" y="1778760"/>
              <a:ext cx="46944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6" name=""/>
            <p:cNvCxnSpPr>
              <a:stCxn id="684" idx="3"/>
              <a:endCxn id="698" idx="6"/>
            </p:cNvCxnSpPr>
            <p:nvPr/>
          </p:nvCxnSpPr>
          <p:spPr>
            <a:xfrm>
              <a:off x="4532760" y="2819160"/>
              <a:ext cx="7560" cy="20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7" name=""/>
            <p:cNvSpPr/>
            <p:nvPr/>
          </p:nvSpPr>
          <p:spPr>
            <a:xfrm>
              <a:off x="5620680" y="1346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84760" y="32180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45600" y="4257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65440" y="43275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11920" y="134604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2 mi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5200" y="34290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3 c3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24640" y="40384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2 c2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67280" y="1905120"/>
              <a:ext cx="96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1  c1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700000">
              <a:off x="2012400" y="3776040"/>
              <a:ext cx="7632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700000">
              <a:off x="1472760" y="4372920"/>
              <a:ext cx="7632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3278160" y="2057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nnect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19920" y="1143000"/>
            <a:ext cx="3028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ay synchronize with other processes at the same level using even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e pr1 &amp; p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ay communicate upwards in the hierarchy via ports using interfaces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ee pr2 &amp; p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ay communicate with sub-modules via channels connected to sub-module ports (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see pr3 &amp; mi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080" y="1371600"/>
            <a:ext cx="6123240" cy="3809880"/>
            <a:chOff x="1080" y="1371600"/>
            <a:chExt cx="6123240" cy="3809880"/>
          </a:xfrm>
        </p:grpSpPr>
        <p:sp>
          <p:nvSpPr>
            <p:cNvPr id="741" name=""/>
            <p:cNvSpPr/>
            <p:nvPr/>
          </p:nvSpPr>
          <p:spPr>
            <a:xfrm>
              <a:off x="362520" y="1371600"/>
              <a:ext cx="5258520" cy="3809880"/>
            </a:xfrm>
            <a:prstGeom prst="rect">
              <a:avLst/>
            </a:prstGeom>
            <a:solidFill>
              <a:srgbClr val="e3e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7440" y="1649160"/>
              <a:ext cx="966240" cy="110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48920" y="1649160"/>
              <a:ext cx="966600" cy="110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66600" y="4489200"/>
              <a:ext cx="1087920" cy="27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66600" y="3727080"/>
              <a:ext cx="1087920" cy="345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6200000">
              <a:off x="2570760" y="4290120"/>
              <a:ext cx="901440" cy="604080"/>
            </a:xfrm>
            <a:prstGeom prst="hexagon">
              <a:avLst>
                <a:gd name="adj" fmla="val 37306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241200" y="2271600"/>
              <a:ext cx="257760" cy="294840"/>
              <a:chOff x="241200" y="2271600"/>
              <a:chExt cx="257760" cy="294840"/>
            </a:xfrm>
          </p:grpSpPr>
          <p:sp>
            <p:nvSpPr>
              <p:cNvPr id="748" name=""/>
              <p:cNvSpPr/>
              <p:nvPr/>
            </p:nvSpPr>
            <p:spPr>
              <a:xfrm>
                <a:off x="241200" y="2271600"/>
                <a:ext cx="257760" cy="29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9160" y="2369880"/>
                <a:ext cx="14508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41200" y="1717560"/>
              <a:ext cx="242640" cy="277200"/>
              <a:chOff x="241200" y="1717560"/>
              <a:chExt cx="242640" cy="277200"/>
            </a:xfrm>
          </p:grpSpPr>
          <p:sp>
            <p:nvSpPr>
              <p:cNvPr id="751" name=""/>
              <p:cNvSpPr/>
              <p:nvPr/>
            </p:nvSpPr>
            <p:spPr>
              <a:xfrm>
                <a:off x="241200" y="1717560"/>
                <a:ext cx="242640" cy="27720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672">
                    <a:moveTo>
                      <a:pt x="158" y="0"/>
                    </a:moveTo>
                    <a:arcTo wR="158" hR="158" stAng="16200000" swAng="-5400000"/>
                    <a:lnTo>
                      <a:pt x="0" y="24514"/>
                    </a:lnTo>
                    <a:arcTo wR="158" hR="158" stAng="10800000" swAng="-5400000"/>
                    <a:lnTo>
                      <a:pt x="21442" y="24672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41200" y="18561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080" y="14220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3600" y="16318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4200" y="185544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905760" y="1717560"/>
              <a:ext cx="242640" cy="277200"/>
              <a:chOff x="905760" y="1717560"/>
              <a:chExt cx="242640" cy="277200"/>
            </a:xfrm>
          </p:grpSpPr>
          <p:sp>
            <p:nvSpPr>
              <p:cNvPr id="757" name=""/>
              <p:cNvSpPr/>
              <p:nvPr/>
            </p:nvSpPr>
            <p:spPr>
              <a:xfrm>
                <a:off x="905760" y="1717560"/>
                <a:ext cx="242640" cy="27720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672">
                    <a:moveTo>
                      <a:pt x="158" y="0"/>
                    </a:moveTo>
                    <a:arcTo wR="158" hR="158" stAng="16200000" swAng="-5400000"/>
                    <a:lnTo>
                      <a:pt x="0" y="24514"/>
                    </a:lnTo>
                    <a:arcTo wR="158" hR="158" stAng="10800000" swAng="-5400000"/>
                    <a:lnTo>
                      <a:pt x="21442" y="24672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05760" y="18561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080" y="204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3600" y="21841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905760" y="2271600"/>
              <a:ext cx="258120" cy="294840"/>
              <a:chOff x="905760" y="2271600"/>
              <a:chExt cx="258120" cy="294840"/>
            </a:xfrm>
          </p:grpSpPr>
          <p:sp>
            <p:nvSpPr>
              <p:cNvPr id="762" name=""/>
              <p:cNvSpPr/>
              <p:nvPr/>
            </p:nvSpPr>
            <p:spPr>
              <a:xfrm>
                <a:off x="905760" y="2271600"/>
                <a:ext cx="258120" cy="29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63720" y="2369880"/>
                <a:ext cx="14544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484200" y="241128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88640" y="142200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1 mi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50200" y="16999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50200" y="225396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1874160" y="1717560"/>
              <a:ext cx="241200" cy="277200"/>
              <a:chOff x="1874160" y="1717560"/>
              <a:chExt cx="241200" cy="277200"/>
            </a:xfrm>
          </p:grpSpPr>
          <p:sp>
            <p:nvSpPr>
              <p:cNvPr id="769" name=""/>
              <p:cNvSpPr/>
              <p:nvPr/>
            </p:nvSpPr>
            <p:spPr>
              <a:xfrm>
                <a:off x="1874160" y="1717560"/>
                <a:ext cx="241200" cy="27720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819">
                    <a:moveTo>
                      <a:pt x="158" y="0"/>
                    </a:moveTo>
                    <a:arcTo wR="158" hR="158" stAng="16200000" swAng="-5400000"/>
                    <a:lnTo>
                      <a:pt x="0" y="24661"/>
                    </a:lnTo>
                    <a:arcTo wR="158" hR="158" stAng="10800000" swAng="-5400000"/>
                    <a:lnTo>
                      <a:pt x="21442" y="2481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874160" y="18561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510920" y="16999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1874160" y="2271240"/>
              <a:ext cx="256320" cy="294840"/>
              <a:chOff x="1874160" y="2271240"/>
              <a:chExt cx="256320" cy="294840"/>
            </a:xfrm>
          </p:grpSpPr>
          <p:sp>
            <p:nvSpPr>
              <p:cNvPr id="773" name=""/>
              <p:cNvSpPr/>
              <p:nvPr/>
            </p:nvSpPr>
            <p:spPr>
              <a:xfrm flipV="1">
                <a:off x="1874160" y="2270880"/>
                <a:ext cx="256320" cy="29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1931040" y="236988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1390320" y="2617560"/>
              <a:ext cx="256320" cy="294840"/>
              <a:chOff x="1390320" y="2617560"/>
              <a:chExt cx="256320" cy="294840"/>
            </a:xfrm>
          </p:grpSpPr>
          <p:sp>
            <p:nvSpPr>
              <p:cNvPr id="776" name=""/>
              <p:cNvSpPr/>
              <p:nvPr/>
            </p:nvSpPr>
            <p:spPr>
              <a:xfrm flipV="1" rot="5400000">
                <a:off x="1370880" y="2636280"/>
                <a:ext cx="294840" cy="25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 rot="5400000">
                <a:off x="1435320" y="2723760"/>
                <a:ext cx="16596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1511640" y="22539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89720" y="30160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0" name=""/>
            <p:cNvCxnSpPr>
              <a:stCxn id="744" idx="0"/>
              <a:endCxn id="745" idx="4"/>
            </p:cNvCxnSpPr>
            <p:nvPr/>
          </p:nvCxnSpPr>
          <p:spPr>
            <a:xfrm flipV="1">
              <a:off x="1510920" y="4073040"/>
              <a:ext cx="1080" cy="416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81" name=""/>
            <p:cNvSpPr/>
            <p:nvPr/>
          </p:nvSpPr>
          <p:spPr>
            <a:xfrm>
              <a:off x="1089000" y="410508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241200" y="4489200"/>
              <a:ext cx="242640" cy="275760"/>
              <a:chOff x="241200" y="4489200"/>
              <a:chExt cx="242640" cy="275760"/>
            </a:xfrm>
          </p:grpSpPr>
          <p:sp>
            <p:nvSpPr>
              <p:cNvPr id="783" name=""/>
              <p:cNvSpPr/>
              <p:nvPr/>
            </p:nvSpPr>
            <p:spPr>
              <a:xfrm>
                <a:off x="241200" y="4489200"/>
                <a:ext cx="242640" cy="275760"/>
              </a:xfrm>
              <a:custGeom>
                <a:avLst/>
                <a:gdLst>
                  <a:gd name="textAreaLeft" fmla="*/ 360 w 242640"/>
                  <a:gd name="textAreaRight" fmla="*/ 242280 w 242640"/>
                  <a:gd name="textAreaTop" fmla="*/ 360 h 275760"/>
                  <a:gd name="textAreaBottom" fmla="*/ 275400 h 2757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158" y="0"/>
                    </a:moveTo>
                    <a:arcTo wR="158" hR="158" stAng="16200000" swAng="-5400000"/>
                    <a:lnTo>
                      <a:pt x="0" y="24386"/>
                    </a:lnTo>
                    <a:arcTo wR="158" hR="158" stAng="10800000" swAng="-5400000"/>
                    <a:lnTo>
                      <a:pt x="21442" y="24544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1200" y="462708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484200" y="4627440"/>
              <a:ext cx="4824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3600" y="4403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80" y="4260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2598120" y="4489200"/>
              <a:ext cx="258120" cy="293400"/>
              <a:chOff x="2598120" y="4489200"/>
              <a:chExt cx="258120" cy="293400"/>
            </a:xfrm>
          </p:grpSpPr>
          <p:sp>
            <p:nvSpPr>
              <p:cNvPr id="789" name=""/>
              <p:cNvSpPr/>
              <p:nvPr/>
            </p:nvSpPr>
            <p:spPr>
              <a:xfrm>
                <a:off x="2598120" y="4489200"/>
                <a:ext cx="258120" cy="29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56080" y="4586760"/>
                <a:ext cx="14544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2054880" y="462744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17160" y="44035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6200000">
              <a:off x="2571480" y="1589040"/>
              <a:ext cx="900000" cy="604080"/>
            </a:xfrm>
            <a:prstGeom prst="hexagon">
              <a:avLst>
                <a:gd name="adj" fmla="val 37247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2598120" y="1717560"/>
              <a:ext cx="258120" cy="294840"/>
              <a:chOff x="2598120" y="1717560"/>
              <a:chExt cx="258120" cy="294840"/>
            </a:xfrm>
          </p:grpSpPr>
          <p:sp>
            <p:nvSpPr>
              <p:cNvPr id="795" name=""/>
              <p:cNvSpPr/>
              <p:nvPr/>
            </p:nvSpPr>
            <p:spPr>
              <a:xfrm>
                <a:off x="2598120" y="1717560"/>
                <a:ext cx="258120" cy="29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56080" y="1815840"/>
                <a:ext cx="14544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2115720" y="1855440"/>
              <a:ext cx="4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77280" y="16318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3203640" y="1717560"/>
              <a:ext cx="256320" cy="294840"/>
              <a:chOff x="3203640" y="1717560"/>
              <a:chExt cx="256320" cy="294840"/>
            </a:xfrm>
          </p:grpSpPr>
          <p:sp>
            <p:nvSpPr>
              <p:cNvPr id="800" name=""/>
              <p:cNvSpPr/>
              <p:nvPr/>
            </p:nvSpPr>
            <p:spPr>
              <a:xfrm flipH="1">
                <a:off x="3203640" y="1717560"/>
                <a:ext cx="256320" cy="29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260520" y="181584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3507120" y="15620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3929040" y="1717560"/>
              <a:ext cx="241200" cy="277200"/>
              <a:chOff x="3929040" y="1717560"/>
              <a:chExt cx="241200" cy="277200"/>
            </a:xfrm>
          </p:grpSpPr>
          <p:sp>
            <p:nvSpPr>
              <p:cNvPr id="804" name=""/>
              <p:cNvSpPr/>
              <p:nvPr/>
            </p:nvSpPr>
            <p:spPr>
              <a:xfrm>
                <a:off x="3929040" y="1717560"/>
                <a:ext cx="241200" cy="27720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819">
                    <a:moveTo>
                      <a:pt x="158" y="0"/>
                    </a:moveTo>
                    <a:arcTo wR="158" hR="158" stAng="16200000" swAng="-5400000"/>
                    <a:lnTo>
                      <a:pt x="0" y="24661"/>
                    </a:lnTo>
                    <a:arcTo wR="158" hR="158" stAng="10800000" swAng="-5400000"/>
                    <a:lnTo>
                      <a:pt x="21442" y="2481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29040" y="18561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896000" y="1717560"/>
              <a:ext cx="241200" cy="277200"/>
              <a:chOff x="4896000" y="1717560"/>
              <a:chExt cx="241200" cy="277200"/>
            </a:xfrm>
          </p:grpSpPr>
          <p:sp>
            <p:nvSpPr>
              <p:cNvPr id="807" name=""/>
              <p:cNvSpPr/>
              <p:nvPr/>
            </p:nvSpPr>
            <p:spPr>
              <a:xfrm>
                <a:off x="4896000" y="1717560"/>
                <a:ext cx="241200" cy="27720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819">
                    <a:moveTo>
                      <a:pt x="158" y="0"/>
                    </a:moveTo>
                    <a:arcTo wR="158" hR="158" stAng="16200000" swAng="-5400000"/>
                    <a:lnTo>
                      <a:pt x="0" y="24661"/>
                    </a:lnTo>
                    <a:arcTo wR="158" hR="158" stAng="10800000" swAng="-5400000"/>
                    <a:lnTo>
                      <a:pt x="21442" y="2481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96000" y="185616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3929040" y="2271600"/>
              <a:ext cx="241200" cy="277200"/>
              <a:chOff x="3929040" y="2271600"/>
              <a:chExt cx="241200" cy="277200"/>
            </a:xfrm>
          </p:grpSpPr>
          <p:sp>
            <p:nvSpPr>
              <p:cNvPr id="810" name=""/>
              <p:cNvSpPr/>
              <p:nvPr/>
            </p:nvSpPr>
            <p:spPr>
              <a:xfrm>
                <a:off x="3929040" y="2271600"/>
                <a:ext cx="241200" cy="277200"/>
              </a:xfrm>
              <a:custGeom>
                <a:avLst/>
                <a:gdLst>
                  <a:gd name="textAreaLeft" fmla="*/ 360 w 241200"/>
                  <a:gd name="textAreaRight" fmla="*/ 240840 w 24120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819">
                    <a:moveTo>
                      <a:pt x="158" y="0"/>
                    </a:moveTo>
                    <a:arcTo wR="158" hR="158" stAng="16200000" swAng="-5400000"/>
                    <a:lnTo>
                      <a:pt x="0" y="24661"/>
                    </a:lnTo>
                    <a:arcTo wR="158" hR="158" stAng="10800000" swAng="-5400000"/>
                    <a:lnTo>
                      <a:pt x="21442" y="2481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929040" y="2410200"/>
                <a:ext cx="2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4411440" y="2617560"/>
              <a:ext cx="241200" cy="277560"/>
              <a:chOff x="4411440" y="2617560"/>
              <a:chExt cx="241200" cy="277560"/>
            </a:xfrm>
          </p:grpSpPr>
          <p:sp>
            <p:nvSpPr>
              <p:cNvPr id="813" name=""/>
              <p:cNvSpPr/>
              <p:nvPr/>
            </p:nvSpPr>
            <p:spPr>
              <a:xfrm rot="5400000">
                <a:off x="4393080" y="2635560"/>
                <a:ext cx="277560" cy="241200"/>
              </a:xfrm>
              <a:prstGeom prst="roundRect">
                <a:avLst>
                  <a:gd name="adj" fmla="val 731"/>
                </a:avLst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32040" y="261756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15" name=""/>
            <p:cNvCxnSpPr>
              <a:stCxn id="773" idx="6"/>
              <a:endCxn id="811" idx="0"/>
            </p:cNvCxnSpPr>
            <p:nvPr/>
          </p:nvCxnSpPr>
          <p:spPr>
            <a:xfrm flipV="1">
              <a:off x="2130480" y="2410920"/>
              <a:ext cx="179928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5196600" y="16318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500080" y="1717560"/>
              <a:ext cx="240840" cy="277200"/>
              <a:chOff x="5500080" y="1717560"/>
              <a:chExt cx="240840" cy="277200"/>
            </a:xfrm>
          </p:grpSpPr>
          <p:sp>
            <p:nvSpPr>
              <p:cNvPr id="818" name=""/>
              <p:cNvSpPr/>
              <p:nvPr/>
            </p:nvSpPr>
            <p:spPr>
              <a:xfrm>
                <a:off x="5500080" y="1717560"/>
                <a:ext cx="240840" cy="277200"/>
              </a:xfrm>
              <a:custGeom>
                <a:avLst/>
                <a:gdLst>
                  <a:gd name="textAreaLeft" fmla="*/ 360 w 240840"/>
                  <a:gd name="textAreaRight" fmla="*/ 240480 w 240840"/>
                  <a:gd name="textAreaTop" fmla="*/ 360 h 277200"/>
                  <a:gd name="textAreaBottom" fmla="*/ 276840 h 277200"/>
                </a:gdLst>
                <a:ahLst/>
                <a:rect l="textAreaLeft" t="textAreaTop" r="textAreaRight" b="textAreaBottom"/>
                <a:pathLst>
                  <a:path w="21600" h="24856">
                    <a:moveTo>
                      <a:pt x="158" y="0"/>
                    </a:moveTo>
                    <a:arcTo wR="158" hR="158" stAng="16200000" swAng="-5400000"/>
                    <a:lnTo>
                      <a:pt x="0" y="24698"/>
                    </a:lnTo>
                    <a:arcTo wR="158" hR="158" stAng="10800000" swAng="-5400000"/>
                    <a:lnTo>
                      <a:pt x="21442" y="24856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500080" y="185616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5137200" y="1855440"/>
              <a:ext cx="48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595040" y="17697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09760" y="1631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D[0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09760" y="22539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D[1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53720" y="246348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6200000">
              <a:off x="4083480" y="3389040"/>
              <a:ext cx="899640" cy="603720"/>
            </a:xfrm>
            <a:prstGeom prst="hexagon">
              <a:avLst>
                <a:gd name="adj" fmla="val 37254"/>
                <a:gd name="vf" fmla="val 115470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4411080" y="3102840"/>
              <a:ext cx="256680" cy="293400"/>
              <a:chOff x="4411080" y="3102840"/>
              <a:chExt cx="256680" cy="293400"/>
            </a:xfrm>
          </p:grpSpPr>
          <p:sp>
            <p:nvSpPr>
              <p:cNvPr id="827" name=""/>
              <p:cNvSpPr/>
              <p:nvPr/>
            </p:nvSpPr>
            <p:spPr>
              <a:xfrm flipV="1" rot="16200000">
                <a:off x="4392720" y="3120840"/>
                <a:ext cx="293400" cy="25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 rot="16200000">
                <a:off x="4456080" y="320508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4470120" y="2877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4713840" y="3519360"/>
              <a:ext cx="256320" cy="293040"/>
              <a:chOff x="4713840" y="3519360"/>
              <a:chExt cx="256320" cy="293040"/>
            </a:xfrm>
          </p:grpSpPr>
          <p:sp>
            <p:nvSpPr>
              <p:cNvPr id="831" name=""/>
              <p:cNvSpPr/>
              <p:nvPr/>
            </p:nvSpPr>
            <p:spPr>
              <a:xfrm flipV="1">
                <a:off x="4713840" y="3519360"/>
                <a:ext cx="256320" cy="29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4770720" y="3616920"/>
                <a:ext cx="14436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411440" y="3935160"/>
              <a:ext cx="256680" cy="293400"/>
              <a:chOff x="4411440" y="3935160"/>
              <a:chExt cx="256680" cy="293400"/>
            </a:xfrm>
          </p:grpSpPr>
          <p:sp>
            <p:nvSpPr>
              <p:cNvPr id="834" name=""/>
              <p:cNvSpPr/>
              <p:nvPr/>
            </p:nvSpPr>
            <p:spPr>
              <a:xfrm flipV="1" rot="5400000">
                <a:off x="4393080" y="3953160"/>
                <a:ext cx="293400" cy="25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rot="5400000">
                <a:off x="4456800" y="4040640"/>
                <a:ext cx="165240" cy="8532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4048920" y="4489200"/>
              <a:ext cx="966600" cy="27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34200" y="4192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4" idx="6"/>
              <a:endCxn id="836" idx="0"/>
            </p:cNvCxnSpPr>
            <p:nvPr/>
          </p:nvCxnSpPr>
          <p:spPr>
            <a:xfrm flipH="1">
              <a:off x="4532400" y="4228920"/>
              <a:ext cx="7560" cy="260640"/>
            </a:xfrm>
            <a:prstGeom prst="straightConnector1">
              <a:avLst/>
            </a:prstGeom>
            <a:ln w="12600">
              <a:solidFill>
                <a:srgbClr val="339966"/>
              </a:solidFill>
              <a:miter/>
            </a:ln>
          </p:spPr>
        </p:cxnSp>
        <p:grpSp>
          <p:nvGrpSpPr>
            <p:cNvPr id="839" name=""/>
            <p:cNvGrpSpPr/>
            <p:nvPr/>
          </p:nvGrpSpPr>
          <p:grpSpPr>
            <a:xfrm>
              <a:off x="5500080" y="4489200"/>
              <a:ext cx="240840" cy="275760"/>
              <a:chOff x="5500080" y="4489200"/>
              <a:chExt cx="240840" cy="275760"/>
            </a:xfrm>
          </p:grpSpPr>
          <p:sp>
            <p:nvSpPr>
              <p:cNvPr id="840" name=""/>
              <p:cNvSpPr/>
              <p:nvPr/>
            </p:nvSpPr>
            <p:spPr>
              <a:xfrm>
                <a:off x="5500080" y="4489200"/>
                <a:ext cx="240840" cy="275760"/>
              </a:xfrm>
              <a:custGeom>
                <a:avLst/>
                <a:gdLst>
                  <a:gd name="textAreaLeft" fmla="*/ 360 w 240840"/>
                  <a:gd name="textAreaRight" fmla="*/ 240480 w 240840"/>
                  <a:gd name="textAreaTop" fmla="*/ 360 h 275760"/>
                  <a:gd name="textAreaBottom" fmla="*/ 275400 h 275760"/>
                </a:gdLst>
                <a:ahLst/>
                <a:rect l="textAreaLeft" t="textAreaTop" r="textAreaRight" b="textAreaBottom"/>
                <a:pathLst>
                  <a:path w="21600" h="24727">
                    <a:moveTo>
                      <a:pt x="158" y="0"/>
                    </a:moveTo>
                    <a:arcTo wR="158" hR="158" stAng="16200000" swAng="-5400000"/>
                    <a:lnTo>
                      <a:pt x="0" y="24569"/>
                    </a:lnTo>
                    <a:arcTo wR="158" hR="158" stAng="10800000" swAng="-5400000"/>
                    <a:lnTo>
                      <a:pt x="21442" y="24727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500080" y="462708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42" name=""/>
            <p:cNvCxnSpPr>
              <a:stCxn id="836" idx="6"/>
              <a:endCxn id="840" idx="1"/>
            </p:cNvCxnSpPr>
            <p:nvPr/>
          </p:nvCxnSpPr>
          <p:spPr>
            <a:xfrm>
              <a:off x="5015160" y="4627080"/>
              <a:ext cx="48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843" name=""/>
            <p:cNvGrpSpPr/>
            <p:nvPr/>
          </p:nvGrpSpPr>
          <p:grpSpPr>
            <a:xfrm>
              <a:off x="5500080" y="3519360"/>
              <a:ext cx="256320" cy="293040"/>
              <a:chOff x="5500080" y="3519360"/>
              <a:chExt cx="256320" cy="293040"/>
            </a:xfrm>
          </p:grpSpPr>
          <p:sp>
            <p:nvSpPr>
              <p:cNvPr id="844" name=""/>
              <p:cNvSpPr/>
              <p:nvPr/>
            </p:nvSpPr>
            <p:spPr>
              <a:xfrm flipV="1">
                <a:off x="5500080" y="3519360"/>
                <a:ext cx="256320" cy="29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5556960" y="3616920"/>
                <a:ext cx="14436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46" name=""/>
            <p:cNvCxnSpPr>
              <a:stCxn id="831" idx="6"/>
              <a:endCxn id="844" idx="2"/>
            </p:cNvCxnSpPr>
            <p:nvPr/>
          </p:nvCxnSpPr>
          <p:spPr>
            <a:xfrm>
              <a:off x="4969800" y="3664800"/>
              <a:ext cx="530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847" name=""/>
            <p:cNvGrpSpPr/>
            <p:nvPr/>
          </p:nvGrpSpPr>
          <p:grpSpPr>
            <a:xfrm>
              <a:off x="3203640" y="4488840"/>
              <a:ext cx="256320" cy="293400"/>
              <a:chOff x="3203640" y="4488840"/>
              <a:chExt cx="256320" cy="293400"/>
            </a:xfrm>
          </p:grpSpPr>
          <p:sp>
            <p:nvSpPr>
              <p:cNvPr id="848" name=""/>
              <p:cNvSpPr/>
              <p:nvPr/>
            </p:nvSpPr>
            <p:spPr>
              <a:xfrm flipV="1">
                <a:off x="3203640" y="4488480"/>
                <a:ext cx="256320" cy="29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260520" y="4586760"/>
                <a:ext cx="144360" cy="97560"/>
              </a:xfrm>
              <a:custGeom>
                <a:avLst/>
                <a:gdLst/>
                <a:ahLst/>
                <a:rect l="l" t="t" r="r" b="b"/>
                <a:pathLst>
                  <a:path w="505" h="301">
                    <a:moveTo>
                      <a:pt x="0" y="300"/>
                    </a:moveTo>
                    <a:lnTo>
                      <a:pt x="504" y="300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0" name=""/>
            <p:cNvCxnSpPr>
              <a:stCxn id="848" idx="6"/>
              <a:endCxn id="836" idx="2"/>
            </p:cNvCxnSpPr>
            <p:nvPr/>
          </p:nvCxnSpPr>
          <p:spPr>
            <a:xfrm flipV="1">
              <a:off x="3459600" y="4627080"/>
              <a:ext cx="58932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776" idx="6"/>
              <a:endCxn id="745" idx="0"/>
            </p:cNvCxnSpPr>
            <p:nvPr/>
          </p:nvCxnSpPr>
          <p:spPr>
            <a:xfrm flipH="1">
              <a:off x="1510560" y="2912400"/>
              <a:ext cx="7560" cy="81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745" idx="6"/>
              <a:endCxn id="746" idx="3"/>
            </p:cNvCxnSpPr>
            <p:nvPr/>
          </p:nvCxnSpPr>
          <p:spPr>
            <a:xfrm>
              <a:off x="2054520" y="3899880"/>
              <a:ext cx="967320" cy="241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3" name=""/>
            <p:cNvSpPr/>
            <p:nvPr/>
          </p:nvSpPr>
          <p:spPr>
            <a:xfrm>
              <a:off x="2235240" y="370980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4" name=""/>
            <p:cNvCxnSpPr>
              <a:stCxn id="800" idx="2"/>
              <a:endCxn id="805" idx="0"/>
            </p:cNvCxnSpPr>
            <p:nvPr/>
          </p:nvCxnSpPr>
          <p:spPr>
            <a:xfrm flipV="1">
              <a:off x="3459960" y="1855080"/>
              <a:ext cx="46944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13" idx="3"/>
              <a:endCxn id="827" idx="6"/>
            </p:cNvCxnSpPr>
            <p:nvPr/>
          </p:nvCxnSpPr>
          <p:spPr>
            <a:xfrm>
              <a:off x="4532760" y="2895480"/>
              <a:ext cx="7560" cy="208080"/>
            </a:xfrm>
            <a:prstGeom prst="straightConnector1">
              <a:avLst/>
            </a:prstGeom>
            <a:ln w="12600">
              <a:solidFill>
                <a:srgbClr val="339966"/>
              </a:solidFill>
              <a:miter/>
            </a:ln>
          </p:spPr>
        </p:cxnSp>
        <p:sp>
          <p:nvSpPr>
            <p:cNvPr id="856" name=""/>
            <p:cNvSpPr/>
            <p:nvPr/>
          </p:nvSpPr>
          <p:spPr>
            <a:xfrm>
              <a:off x="5620680" y="14220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684760" y="32940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45600" y="4333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65440" y="44035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11920" y="142200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2 mi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05200" y="35049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3 c3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24640" y="411444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2 c2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67280" y="1981080"/>
              <a:ext cx="96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h1  c1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700000">
              <a:off x="2012760" y="3851640"/>
              <a:ext cx="7596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700000">
              <a:off x="1473120" y="4448520"/>
              <a:ext cx="7596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430440" y="2133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nnect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1371600"/>
            <a:ext cx="3352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 may communicate with sub-modules by letting the process access the port interface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ee pr1 &amp; m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_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ay connect directly to ports of sub-modules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e p1 &amp; m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 arrays can share the same interface (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see 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sc_export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 may connect to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sc_export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Arial"/>
              </a:rPr>
              <a:t> of submodules and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3600" y="1523880"/>
            <a:ext cx="5257800" cy="381024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027080" y="1801800"/>
            <a:ext cx="96696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49640" y="1801800"/>
            <a:ext cx="966960" cy="110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66960" y="4641840"/>
            <a:ext cx="1087200" cy="276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66960" y="3879720"/>
            <a:ext cx="1087200" cy="34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2570760" y="4442040"/>
            <a:ext cx="901800" cy="604800"/>
          </a:xfrm>
          <a:prstGeom prst="hexagon">
            <a:avLst>
              <a:gd name="adj" fmla="val 37277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41200" y="2424240"/>
            <a:ext cx="258840" cy="295200"/>
            <a:chOff x="241200" y="2424240"/>
            <a:chExt cx="258840" cy="295200"/>
          </a:xfrm>
        </p:grpSpPr>
        <p:sp>
          <p:nvSpPr>
            <p:cNvPr id="876" name=""/>
            <p:cNvSpPr/>
            <p:nvPr/>
          </p:nvSpPr>
          <p:spPr>
            <a:xfrm>
              <a:off x="241200" y="2424240"/>
              <a:ext cx="25884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9520" y="2522520"/>
              <a:ext cx="145800" cy="98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41200" y="1870200"/>
            <a:ext cx="243000" cy="277560"/>
            <a:chOff x="241200" y="1870200"/>
            <a:chExt cx="243000" cy="277560"/>
          </a:xfrm>
        </p:grpSpPr>
        <p:sp>
          <p:nvSpPr>
            <p:cNvPr id="879" name=""/>
            <p:cNvSpPr/>
            <p:nvPr/>
          </p:nvSpPr>
          <p:spPr>
            <a:xfrm>
              <a:off x="241200" y="1870200"/>
              <a:ext cx="243000" cy="277560"/>
            </a:xfrm>
            <a:custGeom>
              <a:avLst/>
              <a:gdLst>
                <a:gd name="textAreaLeft" fmla="*/ 360 w 243000"/>
                <a:gd name="textAreaRight" fmla="*/ 242640 w 2430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667">
                  <a:moveTo>
                    <a:pt x="158" y="0"/>
                  </a:moveTo>
                  <a:arcTo wR="158" hR="158" stAng="16200000" swAng="-5400000"/>
                  <a:lnTo>
                    <a:pt x="0" y="24509"/>
                  </a:lnTo>
                  <a:arcTo wR="158" hR="158" stAng="10800000" swAng="-5400000"/>
                  <a:lnTo>
                    <a:pt x="21442" y="24667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1200" y="20091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1080" y="1574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43600" y="17845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4200" y="2008080"/>
            <a:ext cx="42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906480" y="1870200"/>
            <a:ext cx="243000" cy="277560"/>
            <a:chOff x="906480" y="1870200"/>
            <a:chExt cx="243000" cy="277560"/>
          </a:xfrm>
        </p:grpSpPr>
        <p:sp>
          <p:nvSpPr>
            <p:cNvPr id="885" name=""/>
            <p:cNvSpPr/>
            <p:nvPr/>
          </p:nvSpPr>
          <p:spPr>
            <a:xfrm>
              <a:off x="906480" y="1870200"/>
              <a:ext cx="243000" cy="277560"/>
            </a:xfrm>
            <a:custGeom>
              <a:avLst/>
              <a:gdLst>
                <a:gd name="textAreaLeft" fmla="*/ 360 w 243000"/>
                <a:gd name="textAreaRight" fmla="*/ 242640 w 2430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667">
                  <a:moveTo>
                    <a:pt x="158" y="0"/>
                  </a:moveTo>
                  <a:arcTo wR="158" hR="158" stAng="16200000" swAng="-5400000"/>
                  <a:lnTo>
                    <a:pt x="0" y="24509"/>
                  </a:lnTo>
                  <a:arcTo wR="158" hR="158" stAng="10800000" swAng="-5400000"/>
                  <a:lnTo>
                    <a:pt x="21442" y="24667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6480" y="20091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080" y="2198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43600" y="233676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906480" y="2424240"/>
            <a:ext cx="257040" cy="295200"/>
            <a:chOff x="906480" y="2424240"/>
            <a:chExt cx="257040" cy="295200"/>
          </a:xfrm>
        </p:grpSpPr>
        <p:sp>
          <p:nvSpPr>
            <p:cNvPr id="890" name=""/>
            <p:cNvSpPr/>
            <p:nvPr/>
          </p:nvSpPr>
          <p:spPr>
            <a:xfrm>
              <a:off x="906480" y="2424240"/>
              <a:ext cx="25704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4440" y="2522520"/>
              <a:ext cx="144720" cy="98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84200" y="2563920"/>
            <a:ext cx="42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089360" y="15746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1 mi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50920" y="18525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50560" y="24066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874880" y="1870200"/>
            <a:ext cx="241200" cy="277560"/>
            <a:chOff x="1874880" y="1870200"/>
            <a:chExt cx="241200" cy="277560"/>
          </a:xfrm>
        </p:grpSpPr>
        <p:sp>
          <p:nvSpPr>
            <p:cNvPr id="897" name=""/>
            <p:cNvSpPr/>
            <p:nvPr/>
          </p:nvSpPr>
          <p:spPr>
            <a:xfrm>
              <a:off x="1874880" y="1870200"/>
              <a:ext cx="241200" cy="27756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851">
                  <a:moveTo>
                    <a:pt x="158" y="0"/>
                  </a:moveTo>
                  <a:arcTo wR="158" hR="158" stAng="16200000" swAng="-5400000"/>
                  <a:lnTo>
                    <a:pt x="0" y="24693"/>
                  </a:lnTo>
                  <a:arcTo wR="158" hR="158" stAng="10800000" swAng="-5400000"/>
                  <a:lnTo>
                    <a:pt x="21442" y="2485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74880" y="200916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511280" y="18525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874880" y="2424240"/>
            <a:ext cx="255600" cy="295200"/>
            <a:chOff x="1874880" y="2424240"/>
            <a:chExt cx="255600" cy="295200"/>
          </a:xfrm>
        </p:grpSpPr>
        <p:sp>
          <p:nvSpPr>
            <p:cNvPr id="901" name=""/>
            <p:cNvSpPr/>
            <p:nvPr/>
          </p:nvSpPr>
          <p:spPr>
            <a:xfrm flipV="1">
              <a:off x="1874880" y="2424240"/>
              <a:ext cx="25560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932480" y="2522520"/>
              <a:ext cx="144000" cy="98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390680" y="2770200"/>
            <a:ext cx="255600" cy="295200"/>
            <a:chOff x="1390680" y="2770200"/>
            <a:chExt cx="255600" cy="295200"/>
          </a:xfrm>
        </p:grpSpPr>
        <p:sp>
          <p:nvSpPr>
            <p:cNvPr id="904" name=""/>
            <p:cNvSpPr/>
            <p:nvPr/>
          </p:nvSpPr>
          <p:spPr>
            <a:xfrm flipV="1" rot="5400000">
              <a:off x="1370880" y="2790000"/>
              <a:ext cx="295200" cy="25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rot="5400000">
              <a:off x="1435680" y="2876400"/>
              <a:ext cx="165960" cy="8496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1512000" y="24066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090440" y="3168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72" idx="0"/>
            <a:endCxn id="873" idx="4"/>
          </p:cNvCxnSpPr>
          <p:nvPr/>
        </p:nvCxnSpPr>
        <p:spPr>
          <a:xfrm flipV="1">
            <a:off x="1510920" y="42253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089360" y="42577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41200" y="4641840"/>
            <a:ext cx="243000" cy="276120"/>
            <a:chOff x="241200" y="4641840"/>
            <a:chExt cx="243000" cy="276120"/>
          </a:xfrm>
        </p:grpSpPr>
        <p:sp>
          <p:nvSpPr>
            <p:cNvPr id="911" name=""/>
            <p:cNvSpPr/>
            <p:nvPr/>
          </p:nvSpPr>
          <p:spPr>
            <a:xfrm>
              <a:off x="241200" y="4641840"/>
              <a:ext cx="243000" cy="276120"/>
            </a:xfrm>
            <a:custGeom>
              <a:avLst/>
              <a:gdLst>
                <a:gd name="textAreaLeft" fmla="*/ 360 w 243000"/>
                <a:gd name="textAreaRight" fmla="*/ 242640 w 243000"/>
                <a:gd name="textAreaTop" fmla="*/ 360 h 276120"/>
                <a:gd name="textAreaBottom" fmla="*/ 275760 h 276120"/>
              </a:gdLst>
              <a:ahLst/>
              <a:rect l="textAreaLeft" t="textAreaTop" r="textAreaRight" b="textAreaBottom"/>
              <a:pathLst>
                <a:path w="21600" h="24540">
                  <a:moveTo>
                    <a:pt x="158" y="0"/>
                  </a:moveTo>
                  <a:arcTo wR="158" hR="158" stAng="16200000" swAng="-5400000"/>
                  <a:lnTo>
                    <a:pt x="0" y="24382"/>
                  </a:lnTo>
                  <a:arcTo wR="158" hR="158" stAng="10800000" swAng="-5400000"/>
                  <a:lnTo>
                    <a:pt x="21442" y="24540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1200" y="47800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484200" y="47800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3600" y="455616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80" y="4413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598840" y="4641840"/>
            <a:ext cx="257040" cy="293760"/>
            <a:chOff x="2598840" y="4641840"/>
            <a:chExt cx="257040" cy="293760"/>
          </a:xfrm>
        </p:grpSpPr>
        <p:sp>
          <p:nvSpPr>
            <p:cNvPr id="917" name=""/>
            <p:cNvSpPr/>
            <p:nvPr/>
          </p:nvSpPr>
          <p:spPr>
            <a:xfrm>
              <a:off x="2598840" y="4641840"/>
              <a:ext cx="25704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56800" y="4739760"/>
              <a:ext cx="144720" cy="9792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2054160" y="4780080"/>
            <a:ext cx="5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17160" y="45561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6200000">
            <a:off x="2571480" y="1740960"/>
            <a:ext cx="900360" cy="604800"/>
          </a:xfrm>
          <a:prstGeom prst="hexagon">
            <a:avLst>
              <a:gd name="adj" fmla="val 37217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598840" y="1870200"/>
            <a:ext cx="257040" cy="295200"/>
            <a:chOff x="2598840" y="1870200"/>
            <a:chExt cx="257040" cy="295200"/>
          </a:xfrm>
        </p:grpSpPr>
        <p:sp>
          <p:nvSpPr>
            <p:cNvPr id="923" name=""/>
            <p:cNvSpPr/>
            <p:nvPr/>
          </p:nvSpPr>
          <p:spPr>
            <a:xfrm>
              <a:off x="2598840" y="1870200"/>
              <a:ext cx="25704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656800" y="1968480"/>
              <a:ext cx="144720" cy="98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116080" y="20080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77640" y="1784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203640" y="1870200"/>
            <a:ext cx="257040" cy="295200"/>
            <a:chOff x="3203640" y="1870200"/>
            <a:chExt cx="257040" cy="295200"/>
          </a:xfrm>
        </p:grpSpPr>
        <p:sp>
          <p:nvSpPr>
            <p:cNvPr id="928" name=""/>
            <p:cNvSpPr/>
            <p:nvPr/>
          </p:nvSpPr>
          <p:spPr>
            <a:xfrm flipH="1">
              <a:off x="3203640" y="1870200"/>
              <a:ext cx="25704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3261600" y="1968480"/>
              <a:ext cx="144720" cy="982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506760" y="17146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929040" y="1870200"/>
            <a:ext cx="241200" cy="277560"/>
            <a:chOff x="3929040" y="1870200"/>
            <a:chExt cx="241200" cy="277560"/>
          </a:xfrm>
        </p:grpSpPr>
        <p:sp>
          <p:nvSpPr>
            <p:cNvPr id="932" name=""/>
            <p:cNvSpPr/>
            <p:nvPr/>
          </p:nvSpPr>
          <p:spPr>
            <a:xfrm>
              <a:off x="3929040" y="1870200"/>
              <a:ext cx="241200" cy="27756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851">
                  <a:moveTo>
                    <a:pt x="158" y="0"/>
                  </a:moveTo>
                  <a:arcTo wR="158" hR="158" stAng="16200000" swAng="-5400000"/>
                  <a:lnTo>
                    <a:pt x="0" y="24693"/>
                  </a:lnTo>
                  <a:arcTo wR="158" hR="158" stAng="10800000" swAng="-5400000"/>
                  <a:lnTo>
                    <a:pt x="21442" y="2485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29040" y="2009160"/>
              <a:ext cx="24120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4896000" y="1870200"/>
            <a:ext cx="241200" cy="277560"/>
            <a:chOff x="4896000" y="1870200"/>
            <a:chExt cx="241200" cy="277560"/>
          </a:xfrm>
        </p:grpSpPr>
        <p:sp>
          <p:nvSpPr>
            <p:cNvPr id="935" name=""/>
            <p:cNvSpPr/>
            <p:nvPr/>
          </p:nvSpPr>
          <p:spPr>
            <a:xfrm>
              <a:off x="4896000" y="1870200"/>
              <a:ext cx="241200" cy="27756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851">
                  <a:moveTo>
                    <a:pt x="158" y="0"/>
                  </a:moveTo>
                  <a:arcTo wR="158" hR="158" stAng="16200000" swAng="-5400000"/>
                  <a:lnTo>
                    <a:pt x="0" y="24693"/>
                  </a:lnTo>
                  <a:arcTo wR="158" hR="158" stAng="10800000" swAng="-5400000"/>
                  <a:lnTo>
                    <a:pt x="21442" y="2485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896000" y="200916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929040" y="2424240"/>
            <a:ext cx="241200" cy="277560"/>
            <a:chOff x="3929040" y="2424240"/>
            <a:chExt cx="241200" cy="277560"/>
          </a:xfrm>
        </p:grpSpPr>
        <p:sp>
          <p:nvSpPr>
            <p:cNvPr id="938" name=""/>
            <p:cNvSpPr/>
            <p:nvPr/>
          </p:nvSpPr>
          <p:spPr>
            <a:xfrm>
              <a:off x="3929040" y="2424240"/>
              <a:ext cx="241200" cy="27756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851">
                  <a:moveTo>
                    <a:pt x="158" y="0"/>
                  </a:moveTo>
                  <a:arcTo wR="158" hR="158" stAng="16200000" swAng="-5400000"/>
                  <a:lnTo>
                    <a:pt x="0" y="24693"/>
                  </a:lnTo>
                  <a:arcTo wR="158" hR="158" stAng="10800000" swAng="-5400000"/>
                  <a:lnTo>
                    <a:pt x="21442" y="2485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29040" y="2563200"/>
              <a:ext cx="24120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411800" y="2770200"/>
            <a:ext cx="241200" cy="277920"/>
            <a:chOff x="4411800" y="2770200"/>
            <a:chExt cx="241200" cy="277920"/>
          </a:xfrm>
        </p:grpSpPr>
        <p:sp>
          <p:nvSpPr>
            <p:cNvPr id="941" name=""/>
            <p:cNvSpPr/>
            <p:nvPr/>
          </p:nvSpPr>
          <p:spPr>
            <a:xfrm rot="5400000">
              <a:off x="4393440" y="2788560"/>
              <a:ext cx="277920" cy="241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32400" y="27702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43" name=""/>
          <p:cNvCxnSpPr>
            <a:stCxn id="901" idx="6"/>
            <a:endCxn id="939" idx="0"/>
          </p:cNvCxnSpPr>
          <p:nvPr/>
        </p:nvCxnSpPr>
        <p:spPr>
          <a:xfrm flipV="1">
            <a:off x="2130480" y="2563560"/>
            <a:ext cx="1799280" cy="8640"/>
          </a:xfrm>
          <a:prstGeom prst="straightConnector1">
            <a:avLst/>
          </a:prstGeom>
          <a:ln w="12600">
            <a:solidFill>
              <a:srgbClr val="339966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5196600" y="17845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500800" y="1870200"/>
            <a:ext cx="241200" cy="277560"/>
            <a:chOff x="5500800" y="1870200"/>
            <a:chExt cx="241200" cy="277560"/>
          </a:xfrm>
        </p:grpSpPr>
        <p:sp>
          <p:nvSpPr>
            <p:cNvPr id="946" name=""/>
            <p:cNvSpPr/>
            <p:nvPr/>
          </p:nvSpPr>
          <p:spPr>
            <a:xfrm>
              <a:off x="5500800" y="1870200"/>
              <a:ext cx="241200" cy="27756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7560"/>
                <a:gd name="textAreaBottom" fmla="*/ 277200 h 277560"/>
              </a:gdLst>
              <a:ahLst/>
              <a:rect l="textAreaLeft" t="textAreaTop" r="textAreaRight" b="textAreaBottom"/>
              <a:pathLst>
                <a:path w="21600" h="24851">
                  <a:moveTo>
                    <a:pt x="158" y="0"/>
                  </a:moveTo>
                  <a:arcTo wR="158" hR="158" stAng="16200000" swAng="-5400000"/>
                  <a:lnTo>
                    <a:pt x="0" y="24693"/>
                  </a:lnTo>
                  <a:arcTo wR="158" hR="158" stAng="10800000" swAng="-5400000"/>
                  <a:lnTo>
                    <a:pt x="21442" y="2485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00800" y="200916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5137200" y="2008080"/>
            <a:ext cx="484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595760" y="1922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110480" y="1784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D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110480" y="2406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D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54080" y="261612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4083120" y="3541680"/>
            <a:ext cx="900000" cy="604800"/>
          </a:xfrm>
          <a:prstGeom prst="hexagon">
            <a:avLst>
              <a:gd name="adj" fmla="val 37202"/>
              <a:gd name="vf" fmla="val 11547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4411800" y="3255840"/>
            <a:ext cx="257040" cy="293760"/>
            <a:chOff x="4411800" y="3255840"/>
            <a:chExt cx="257040" cy="293760"/>
          </a:xfrm>
        </p:grpSpPr>
        <p:sp>
          <p:nvSpPr>
            <p:cNvPr id="955" name=""/>
            <p:cNvSpPr/>
            <p:nvPr/>
          </p:nvSpPr>
          <p:spPr>
            <a:xfrm flipV="1" rot="16200000">
              <a:off x="4393440" y="3274200"/>
              <a:ext cx="29376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 rot="16200000">
              <a:off x="4457520" y="3357720"/>
              <a:ext cx="165240" cy="856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470480" y="3030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713120" y="3671640"/>
            <a:ext cx="257400" cy="293400"/>
            <a:chOff x="4713120" y="3671640"/>
            <a:chExt cx="257400" cy="293400"/>
          </a:xfrm>
        </p:grpSpPr>
        <p:sp>
          <p:nvSpPr>
            <p:cNvPr id="959" name=""/>
            <p:cNvSpPr/>
            <p:nvPr/>
          </p:nvSpPr>
          <p:spPr>
            <a:xfrm flipV="1">
              <a:off x="4713120" y="3671280"/>
              <a:ext cx="25740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771080" y="3769560"/>
              <a:ext cx="144720" cy="9756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4411800" y="4087800"/>
            <a:ext cx="257040" cy="293760"/>
            <a:chOff x="4411800" y="4087800"/>
            <a:chExt cx="257040" cy="293760"/>
          </a:xfrm>
        </p:grpSpPr>
        <p:sp>
          <p:nvSpPr>
            <p:cNvPr id="962" name=""/>
            <p:cNvSpPr/>
            <p:nvPr/>
          </p:nvSpPr>
          <p:spPr>
            <a:xfrm flipV="1" rot="5400000">
              <a:off x="4393440" y="4106160"/>
              <a:ext cx="29376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rot="5400000">
              <a:off x="4457520" y="4193280"/>
              <a:ext cx="165240" cy="8568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4049640" y="4641840"/>
            <a:ext cx="966960" cy="276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34920" y="4344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6" name=""/>
          <p:cNvCxnSpPr>
            <a:stCxn id="962" idx="6"/>
            <a:endCxn id="964" idx="0"/>
          </p:cNvCxnSpPr>
          <p:nvPr/>
        </p:nvCxnSpPr>
        <p:spPr>
          <a:xfrm flipH="1">
            <a:off x="4533480" y="4381200"/>
            <a:ext cx="8640" cy="261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967" name=""/>
          <p:cNvGrpSpPr/>
          <p:nvPr/>
        </p:nvGrpSpPr>
        <p:grpSpPr>
          <a:xfrm>
            <a:off x="5500800" y="4641840"/>
            <a:ext cx="241200" cy="276120"/>
            <a:chOff x="5500800" y="4641840"/>
            <a:chExt cx="241200" cy="276120"/>
          </a:xfrm>
        </p:grpSpPr>
        <p:sp>
          <p:nvSpPr>
            <p:cNvPr id="968" name=""/>
            <p:cNvSpPr/>
            <p:nvPr/>
          </p:nvSpPr>
          <p:spPr>
            <a:xfrm>
              <a:off x="5500800" y="4641840"/>
              <a:ext cx="241200" cy="276120"/>
            </a:xfrm>
            <a:custGeom>
              <a:avLst/>
              <a:gdLst>
                <a:gd name="textAreaLeft" fmla="*/ 360 w 241200"/>
                <a:gd name="textAreaRight" fmla="*/ 240840 w 241200"/>
                <a:gd name="textAreaTop" fmla="*/ 360 h 276120"/>
                <a:gd name="textAreaBottom" fmla="*/ 275760 h 276120"/>
              </a:gdLst>
              <a:ahLst/>
              <a:rect l="textAreaLeft" t="textAreaTop" r="textAreaRight" b="textAreaBottom"/>
              <a:pathLst>
                <a:path w="21600" h="24723">
                  <a:moveTo>
                    <a:pt x="158" y="0"/>
                  </a:moveTo>
                  <a:arcTo wR="158" hR="158" stAng="16200000" swAng="-5400000"/>
                  <a:lnTo>
                    <a:pt x="0" y="24565"/>
                  </a:lnTo>
                  <a:arcTo wR="158" hR="158" stAng="10800000" swAng="-5400000"/>
                  <a:lnTo>
                    <a:pt x="21442" y="24723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00800" y="47800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0" name=""/>
          <p:cNvCxnSpPr>
            <a:stCxn id="964" idx="6"/>
            <a:endCxn id="968" idx="1"/>
          </p:cNvCxnSpPr>
          <p:nvPr/>
        </p:nvCxnSpPr>
        <p:spPr>
          <a:xfrm>
            <a:off x="5016240" y="4779720"/>
            <a:ext cx="484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71" name=""/>
          <p:cNvGrpSpPr/>
          <p:nvPr/>
        </p:nvGrpSpPr>
        <p:grpSpPr>
          <a:xfrm>
            <a:off x="5500800" y="3671640"/>
            <a:ext cx="255600" cy="293400"/>
            <a:chOff x="5500800" y="3671640"/>
            <a:chExt cx="255600" cy="293400"/>
          </a:xfrm>
        </p:grpSpPr>
        <p:sp>
          <p:nvSpPr>
            <p:cNvPr id="972" name=""/>
            <p:cNvSpPr/>
            <p:nvPr/>
          </p:nvSpPr>
          <p:spPr>
            <a:xfrm flipV="1">
              <a:off x="5500800" y="3671280"/>
              <a:ext cx="25560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558400" y="3769560"/>
              <a:ext cx="144000" cy="9756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4" name=""/>
          <p:cNvCxnSpPr>
            <a:stCxn id="959" idx="6"/>
            <a:endCxn id="972" idx="2"/>
          </p:cNvCxnSpPr>
          <p:nvPr/>
        </p:nvCxnSpPr>
        <p:spPr>
          <a:xfrm>
            <a:off x="4970160" y="3819240"/>
            <a:ext cx="531000" cy="10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975" name=""/>
          <p:cNvGrpSpPr/>
          <p:nvPr/>
        </p:nvGrpSpPr>
        <p:grpSpPr>
          <a:xfrm>
            <a:off x="3203640" y="4641840"/>
            <a:ext cx="257040" cy="293760"/>
            <a:chOff x="3203640" y="4641840"/>
            <a:chExt cx="257040" cy="293760"/>
          </a:xfrm>
        </p:grpSpPr>
        <p:sp>
          <p:nvSpPr>
            <p:cNvPr id="976" name=""/>
            <p:cNvSpPr/>
            <p:nvPr/>
          </p:nvSpPr>
          <p:spPr>
            <a:xfrm flipV="1">
              <a:off x="3203640" y="4641840"/>
              <a:ext cx="25704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261600" y="4739760"/>
              <a:ext cx="144720" cy="97920"/>
            </a:xfrm>
            <a:custGeom>
              <a:avLst/>
              <a:gdLst/>
              <a:ahLst/>
              <a:rect l="l" t="t" r="r" b="b"/>
              <a:pathLst>
                <a:path w="505" h="301">
                  <a:moveTo>
                    <a:pt x="0" y="300"/>
                  </a:moveTo>
                  <a:lnTo>
                    <a:pt x="504" y="300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8" name=""/>
          <p:cNvCxnSpPr>
            <a:stCxn id="976" idx="6"/>
            <a:endCxn id="964" idx="2"/>
          </p:cNvCxnSpPr>
          <p:nvPr/>
        </p:nvCxnSpPr>
        <p:spPr>
          <a:xfrm flipV="1">
            <a:off x="3460680" y="4779720"/>
            <a:ext cx="5896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04" idx="6"/>
            <a:endCxn id="873" idx="0"/>
          </p:cNvCxnSpPr>
          <p:nvPr/>
        </p:nvCxnSpPr>
        <p:spPr>
          <a:xfrm flipH="1">
            <a:off x="1510920" y="3066840"/>
            <a:ext cx="7200" cy="81324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980" name=""/>
          <p:cNvCxnSpPr>
            <a:stCxn id="873" idx="6"/>
            <a:endCxn id="874" idx="3"/>
          </p:cNvCxnSpPr>
          <p:nvPr/>
        </p:nvCxnSpPr>
        <p:spPr>
          <a:xfrm>
            <a:off x="2054160" y="4052880"/>
            <a:ext cx="967680" cy="241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2235600" y="38624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"/>
          <p:cNvCxnSpPr>
            <a:stCxn id="928" idx="2"/>
            <a:endCxn id="933" idx="0"/>
          </p:cNvCxnSpPr>
          <p:nvPr/>
        </p:nvCxnSpPr>
        <p:spPr>
          <a:xfrm flipV="1">
            <a:off x="3460320" y="2009520"/>
            <a:ext cx="469080" cy="8640"/>
          </a:xfrm>
          <a:prstGeom prst="straightConnector1">
            <a:avLst/>
          </a:prstGeom>
          <a:ln w="12600">
            <a:solidFill>
              <a:srgbClr val="339966"/>
            </a:solidFill>
            <a:miter/>
          </a:ln>
        </p:spPr>
      </p:cxnSp>
      <p:cxnSp>
        <p:nvCxnSpPr>
          <p:cNvPr id="983" name=""/>
          <p:cNvCxnSpPr>
            <a:stCxn id="941" idx="3"/>
            <a:endCxn id="955" idx="6"/>
          </p:cNvCxnSpPr>
          <p:nvPr/>
        </p:nvCxnSpPr>
        <p:spPr>
          <a:xfrm>
            <a:off x="4533840" y="3048120"/>
            <a:ext cx="8640" cy="21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5620680" y="1574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685840" y="3446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746320" y="4486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565800" y="45561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112640" y="15746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2 mi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06280" y="36576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h3 c3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24640" y="42670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h2 c2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266920" y="2133720"/>
            <a:ext cx="9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h1  c1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2700000">
            <a:off x="2013120" y="4004640"/>
            <a:ext cx="76320" cy="8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2700000">
            <a:off x="1473480" y="4601520"/>
            <a:ext cx="76320" cy="8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354120" y="2286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connect 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28600" y="1397160"/>
          <a:ext cx="8686800" cy="460836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50292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connect vi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_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ccess by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channel conn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channel connect or vi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_expor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interface implemented by sub-module (hierarchical chann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 or local 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connect vi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_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able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66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to use control structures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n 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during generation of structure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3520" y="2743200"/>
            <a:ext cx="342900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6040" y="2362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ports_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885840" y="2971800"/>
            <a:ext cx="152640" cy="152280"/>
            <a:chOff x="3885840" y="2971800"/>
            <a:chExt cx="152640" cy="152280"/>
          </a:xfrm>
        </p:grpSpPr>
        <p:sp>
          <p:nvSpPr>
            <p:cNvPr id="1002" name=""/>
            <p:cNvSpPr/>
            <p:nvPr/>
          </p:nvSpPr>
          <p:spPr>
            <a:xfrm>
              <a:off x="3886200" y="29718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885840" y="3047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885840" y="3352680"/>
            <a:ext cx="152640" cy="152640"/>
            <a:chOff x="3885840" y="3352680"/>
            <a:chExt cx="152640" cy="152640"/>
          </a:xfrm>
        </p:grpSpPr>
        <p:sp>
          <p:nvSpPr>
            <p:cNvPr id="1005" name=""/>
            <p:cNvSpPr/>
            <p:nvPr/>
          </p:nvSpPr>
          <p:spPr>
            <a:xfrm flipH="1">
              <a:off x="388548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8620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344120" y="2692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D) d2v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391520" y="2895480"/>
            <a:ext cx="144756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7314840" y="2971800"/>
            <a:ext cx="152640" cy="152280"/>
            <a:chOff x="7314840" y="2971800"/>
            <a:chExt cx="152640" cy="152280"/>
          </a:xfrm>
        </p:grpSpPr>
        <p:sp>
          <p:nvSpPr>
            <p:cNvPr id="1010" name=""/>
            <p:cNvSpPr/>
            <p:nvPr/>
          </p:nvSpPr>
          <p:spPr>
            <a:xfrm>
              <a:off x="7315200" y="29718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7314840" y="3047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314840" y="3352680"/>
            <a:ext cx="152640" cy="152640"/>
            <a:chOff x="7314840" y="3352680"/>
            <a:chExt cx="152640" cy="152640"/>
          </a:xfrm>
        </p:grpSpPr>
        <p:sp>
          <p:nvSpPr>
            <p:cNvPr id="1013" name=""/>
            <p:cNvSpPr/>
            <p:nvPr/>
          </p:nvSpPr>
          <p:spPr>
            <a:xfrm flipH="1">
              <a:off x="731448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1520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344120" y="304812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D) v2d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3848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038480" y="3429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318080" y="25146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_i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469280" y="28195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t_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469640" y="3200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_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6240" y="28195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_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049920" y="32004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t_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3049920" y="3657600"/>
            <a:ext cx="5788800" cy="1182600"/>
            <a:chOff x="3049920" y="3657600"/>
            <a:chExt cx="5788800" cy="1182600"/>
          </a:xfrm>
        </p:grpSpPr>
        <p:grpSp>
          <p:nvGrpSpPr>
            <p:cNvPr id="1024" name=""/>
            <p:cNvGrpSpPr/>
            <p:nvPr/>
          </p:nvGrpSpPr>
          <p:grpSpPr>
            <a:xfrm>
              <a:off x="3885480" y="4078080"/>
              <a:ext cx="152640" cy="152640"/>
              <a:chOff x="3885480" y="4078080"/>
              <a:chExt cx="152640" cy="152640"/>
            </a:xfrm>
          </p:grpSpPr>
          <p:sp>
            <p:nvSpPr>
              <p:cNvPr id="1025" name=""/>
              <p:cNvSpPr/>
              <p:nvPr/>
            </p:nvSpPr>
            <p:spPr>
              <a:xfrm>
                <a:off x="3885840" y="4078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3885480" y="415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885480" y="4459320"/>
              <a:ext cx="152640" cy="152280"/>
              <a:chOff x="3885480" y="4459320"/>
              <a:chExt cx="152640" cy="152280"/>
            </a:xfrm>
          </p:grpSpPr>
          <p:sp>
            <p:nvSpPr>
              <p:cNvPr id="1028" name=""/>
              <p:cNvSpPr/>
              <p:nvPr/>
            </p:nvSpPr>
            <p:spPr>
              <a:xfrm flipH="1">
                <a:off x="3885120" y="4459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85840" y="453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4343760" y="379872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_fif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(D) d2v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391160" y="4002120"/>
              <a:ext cx="144756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7314480" y="4078080"/>
              <a:ext cx="152640" cy="152640"/>
              <a:chOff x="7314480" y="4078080"/>
              <a:chExt cx="152640" cy="152640"/>
            </a:xfrm>
          </p:grpSpPr>
          <p:sp>
            <p:nvSpPr>
              <p:cNvPr id="1033" name=""/>
              <p:cNvSpPr/>
              <p:nvPr/>
            </p:nvSpPr>
            <p:spPr>
              <a:xfrm>
                <a:off x="7314840" y="4078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314480" y="415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7314480" y="4459320"/>
              <a:ext cx="152640" cy="152280"/>
              <a:chOff x="7314480" y="4459320"/>
              <a:chExt cx="152640" cy="152280"/>
            </a:xfrm>
          </p:grpSpPr>
          <p:sp>
            <p:nvSpPr>
              <p:cNvPr id="1036" name=""/>
              <p:cNvSpPr/>
              <p:nvPr/>
            </p:nvSpPr>
            <p:spPr>
              <a:xfrm flipH="1">
                <a:off x="7314120" y="4459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314840" y="453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343760" y="4154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_fif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(D) v2d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38480" y="4154400"/>
              <a:ext cx="32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38480" y="4535280"/>
              <a:ext cx="32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01880" y="365760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ice_i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69280" y="39258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t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69280" y="4306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cv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25880" y="39258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cv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49920" y="43066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t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049920" y="5105520"/>
            <a:ext cx="5788800" cy="1182600"/>
            <a:chOff x="3049920" y="5105520"/>
            <a:chExt cx="5788800" cy="1182600"/>
          </a:xfrm>
        </p:grpSpPr>
        <p:grpSp>
          <p:nvGrpSpPr>
            <p:cNvPr id="1047" name=""/>
            <p:cNvGrpSpPr/>
            <p:nvPr/>
          </p:nvGrpSpPr>
          <p:grpSpPr>
            <a:xfrm>
              <a:off x="3885480" y="5526000"/>
              <a:ext cx="152640" cy="152640"/>
              <a:chOff x="3885480" y="5526000"/>
              <a:chExt cx="152640" cy="152640"/>
            </a:xfrm>
          </p:grpSpPr>
          <p:sp>
            <p:nvSpPr>
              <p:cNvPr id="1048" name=""/>
              <p:cNvSpPr/>
              <p:nvPr/>
            </p:nvSpPr>
            <p:spPr>
              <a:xfrm>
                <a:off x="3885840" y="552600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3885480" y="5602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3885480" y="5907240"/>
              <a:ext cx="152640" cy="152280"/>
              <a:chOff x="3885480" y="5907240"/>
              <a:chExt cx="152640" cy="152280"/>
            </a:xfrm>
          </p:grpSpPr>
          <p:sp>
            <p:nvSpPr>
              <p:cNvPr id="1051" name=""/>
              <p:cNvSpPr/>
              <p:nvPr/>
            </p:nvSpPr>
            <p:spPr>
              <a:xfrm flipH="1">
                <a:off x="3885120" y="590724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885840" y="5983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4343760" y="5246640"/>
              <a:ext cx="25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_fif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(D) d2v[N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91160" y="5450040"/>
              <a:ext cx="144756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314480" y="5526000"/>
              <a:ext cx="152640" cy="152640"/>
              <a:chOff x="7314480" y="5526000"/>
              <a:chExt cx="152640" cy="15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7314840" y="552600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314480" y="5602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7314480" y="5907240"/>
              <a:ext cx="152640" cy="152280"/>
              <a:chOff x="7314480" y="5907240"/>
              <a:chExt cx="152640" cy="15228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7314120" y="590724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314840" y="5983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4343760" y="5602320"/>
              <a:ext cx="25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_fif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(D) v2d[N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5602320"/>
              <a:ext cx="32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5983200"/>
              <a:ext cx="32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01520" y="51055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ice_i[N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469280" y="53737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t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69280" y="5754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cv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25880" y="53737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cv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49920" y="57546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t_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74674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257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182880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1752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-bl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752480" y="114480"/>
            <a:ext cx="7391520" cy="650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systemc.h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varports.h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device.h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c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rgv[]) { // get N from cmd line 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arports* varports_i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vice* device_i[N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* v2d[N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* d2v[N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varports_i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ports(…init parameters…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=0; i&lt;N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n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device_name_i[%d]",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evice_i[i]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ice(n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_s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n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v2d[%d]",i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v2d[i]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n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_s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,fifo_depth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n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_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"d2v[%d]"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v[i]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n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_s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,fifo_depth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evice_i[i]-&gt;rcv_p(*v2d[i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evice_i[i]-&gt;xmt_p(*d2v[i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varports_i-&gt;rcv_p(*d2v[i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varports_i-&gt;xmt_p(*v2d[i]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66400" cy="47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nd static sens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FS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mixer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to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wer of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2920" y="1989000"/>
            <a:ext cx="1217520" cy="912960"/>
            <a:chOff x="142920" y="1989000"/>
            <a:chExt cx="1217520" cy="912960"/>
          </a:xfrm>
        </p:grpSpPr>
        <p:sp>
          <p:nvSpPr>
            <p:cNvPr id="107" name=""/>
            <p:cNvSpPr/>
            <p:nvPr/>
          </p:nvSpPr>
          <p:spPr>
            <a:xfrm>
              <a:off x="142920" y="1989000"/>
              <a:ext cx="1217520" cy="912960"/>
            </a:xfrm>
            <a:prstGeom prst="roundRect">
              <a:avLst>
                <a:gd name="adj" fmla="val 17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920" y="1989000"/>
              <a:ext cx="1217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23640" y="2276640"/>
            <a:ext cx="214200" cy="214200"/>
            <a:chOff x="1223640" y="2276640"/>
            <a:chExt cx="214200" cy="214200"/>
          </a:xfrm>
        </p:grpSpPr>
        <p:sp>
          <p:nvSpPr>
            <p:cNvPr id="110" name=""/>
            <p:cNvSpPr/>
            <p:nvPr/>
          </p:nvSpPr>
          <p:spPr>
            <a:xfrm>
              <a:off x="1225440" y="2276640"/>
              <a:ext cx="210960" cy="21420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200"/>
                <a:gd name="textAreaBottom" fmla="*/ 213840 h 214200"/>
              </a:gdLst>
              <a:ahLst/>
              <a:rect l="textAreaLeft" t="textAreaTop" r="textAreaRight" b="textAreaBottom"/>
              <a:pathLst>
                <a:path w="21600" h="21931">
                  <a:moveTo>
                    <a:pt x="158" y="0"/>
                  </a:moveTo>
                  <a:arcTo wR="158" hR="158" stAng="16200000" swAng="-5400000"/>
                  <a:lnTo>
                    <a:pt x="0" y="21773"/>
                  </a:lnTo>
                  <a:arcTo wR="158" hR="158" stAng="10800000" swAng="-5400000"/>
                  <a:lnTo>
                    <a:pt x="21442" y="2193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23640" y="2347200"/>
              <a:ext cx="21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5440" y="2419920"/>
              <a:ext cx="210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024000" y="1989000"/>
            <a:ext cx="1360800" cy="912960"/>
            <a:chOff x="3024000" y="1989000"/>
            <a:chExt cx="1360800" cy="912960"/>
          </a:xfrm>
        </p:grpSpPr>
        <p:grpSp>
          <p:nvGrpSpPr>
            <p:cNvPr id="114" name=""/>
            <p:cNvGrpSpPr/>
            <p:nvPr/>
          </p:nvGrpSpPr>
          <p:grpSpPr>
            <a:xfrm>
              <a:off x="3166920" y="1989000"/>
              <a:ext cx="1217880" cy="912960"/>
              <a:chOff x="3166920" y="1989000"/>
              <a:chExt cx="1217880" cy="912960"/>
            </a:xfrm>
          </p:grpSpPr>
          <p:sp>
            <p:nvSpPr>
              <p:cNvPr id="115" name=""/>
              <p:cNvSpPr/>
              <p:nvPr/>
            </p:nvSpPr>
            <p:spPr>
              <a:xfrm>
                <a:off x="3166920" y="1989000"/>
                <a:ext cx="1217880" cy="912960"/>
              </a:xfrm>
              <a:prstGeom prst="roundRect">
                <a:avLst>
                  <a:gd name="adj" fmla="val 171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66920" y="1989000"/>
                <a:ext cx="12178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od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024000" y="2276640"/>
              <a:ext cx="214200" cy="214200"/>
              <a:chOff x="3024000" y="2276640"/>
              <a:chExt cx="214200" cy="214200"/>
            </a:xfrm>
          </p:grpSpPr>
          <p:sp>
            <p:nvSpPr>
              <p:cNvPr id="118" name=""/>
              <p:cNvSpPr/>
              <p:nvPr/>
            </p:nvSpPr>
            <p:spPr>
              <a:xfrm>
                <a:off x="3025800" y="2276640"/>
                <a:ext cx="210600" cy="214200"/>
              </a:xfrm>
              <a:custGeom>
                <a:avLst/>
                <a:gdLst>
                  <a:gd name="textAreaLeft" fmla="*/ 360 w 210600"/>
                  <a:gd name="textAreaRight" fmla="*/ 210240 w 210600"/>
                  <a:gd name="textAreaTop" fmla="*/ 360 h 214200"/>
                  <a:gd name="textAreaBottom" fmla="*/ 213840 h 214200"/>
                </a:gdLst>
                <a:ahLst/>
                <a:rect l="textAreaLeft" t="textAreaTop" r="textAreaRight" b="textAreaBottom"/>
                <a:pathLst>
                  <a:path w="21600" h="21969">
                    <a:moveTo>
                      <a:pt x="158" y="0"/>
                    </a:moveTo>
                    <a:arcTo wR="158" hR="158" stAng="16200000" swAng="-5400000"/>
                    <a:lnTo>
                      <a:pt x="0" y="21811"/>
                    </a:lnTo>
                    <a:arcTo wR="158" hR="158" stAng="10800000" swAng="-5400000"/>
                    <a:lnTo>
                      <a:pt x="21442" y="2196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24000" y="2347200"/>
                <a:ext cx="214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25800" y="2419920"/>
                <a:ext cx="210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1933560" y="1700280"/>
            <a:ext cx="744480" cy="1438200"/>
          </a:xfrm>
          <a:custGeom>
            <a:avLst/>
            <a:gdLst/>
            <a:ahLst/>
            <a:rect l="l" t="t" r="r" b="b"/>
            <a:pathLst>
              <a:path w="2066" h="3997">
                <a:moveTo>
                  <a:pt x="0" y="979"/>
                </a:moveTo>
                <a:lnTo>
                  <a:pt x="1032" y="0"/>
                </a:lnTo>
                <a:lnTo>
                  <a:pt x="2065" y="952"/>
                </a:lnTo>
                <a:lnTo>
                  <a:pt x="2038" y="3096"/>
                </a:lnTo>
                <a:lnTo>
                  <a:pt x="1085" y="3996"/>
                </a:lnTo>
                <a:lnTo>
                  <a:pt x="26" y="3016"/>
                </a:lnTo>
                <a:lnTo>
                  <a:pt x="0" y="979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00360" y="2287440"/>
            <a:ext cx="214200" cy="214560"/>
            <a:chOff x="1800360" y="2287440"/>
            <a:chExt cx="214200" cy="214560"/>
          </a:xfrm>
        </p:grpSpPr>
        <p:sp>
          <p:nvSpPr>
            <p:cNvPr id="123" name=""/>
            <p:cNvSpPr/>
            <p:nvPr/>
          </p:nvSpPr>
          <p:spPr>
            <a:xfrm>
              <a:off x="1800360" y="2287440"/>
              <a:ext cx="214200" cy="21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00360" y="2345760"/>
              <a:ext cx="141840" cy="86400"/>
            </a:xfrm>
            <a:custGeom>
              <a:avLst/>
              <a:gdLst/>
              <a:ahLst/>
              <a:rect l="l" t="t" r="r" b="b"/>
              <a:pathLst>
                <a:path w="398" h="242">
                  <a:moveTo>
                    <a:pt x="0" y="210"/>
                  </a:moveTo>
                  <a:cubicBezTo>
                    <a:pt x="140" y="225"/>
                    <a:pt x="282" y="241"/>
                    <a:pt x="339" y="210"/>
                  </a:cubicBezTo>
                  <a:cubicBezTo>
                    <a:pt x="396" y="179"/>
                    <a:pt x="397" y="62"/>
                    <a:pt x="339" y="31"/>
                  </a:cubicBezTo>
                  <a:cubicBezTo>
                    <a:pt x="281" y="0"/>
                    <a:pt x="140" y="16"/>
                    <a:pt x="0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40000" y="2384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4000" y="2384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2920" y="4221000"/>
            <a:ext cx="1217520" cy="912960"/>
            <a:chOff x="142920" y="4221000"/>
            <a:chExt cx="1217520" cy="912960"/>
          </a:xfrm>
        </p:grpSpPr>
        <p:sp>
          <p:nvSpPr>
            <p:cNvPr id="128" name=""/>
            <p:cNvSpPr/>
            <p:nvPr/>
          </p:nvSpPr>
          <p:spPr>
            <a:xfrm>
              <a:off x="142920" y="4221000"/>
              <a:ext cx="1217520" cy="912960"/>
            </a:xfrm>
            <a:prstGeom prst="roundRect">
              <a:avLst>
                <a:gd name="adj" fmla="val 17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2920" y="4221000"/>
              <a:ext cx="1217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23640" y="4508640"/>
            <a:ext cx="214200" cy="214200"/>
            <a:chOff x="1223640" y="4508640"/>
            <a:chExt cx="214200" cy="214200"/>
          </a:xfrm>
        </p:grpSpPr>
        <p:sp>
          <p:nvSpPr>
            <p:cNvPr id="131" name=""/>
            <p:cNvSpPr/>
            <p:nvPr/>
          </p:nvSpPr>
          <p:spPr>
            <a:xfrm>
              <a:off x="1225440" y="4508640"/>
              <a:ext cx="210960" cy="214200"/>
            </a:xfrm>
            <a:custGeom>
              <a:avLst/>
              <a:gdLst>
                <a:gd name="textAreaLeft" fmla="*/ 360 w 210960"/>
                <a:gd name="textAreaRight" fmla="*/ 210600 w 210960"/>
                <a:gd name="textAreaTop" fmla="*/ 360 h 214200"/>
                <a:gd name="textAreaBottom" fmla="*/ 213840 h 214200"/>
              </a:gdLst>
              <a:ahLst/>
              <a:rect l="textAreaLeft" t="textAreaTop" r="textAreaRight" b="textAreaBottom"/>
              <a:pathLst>
                <a:path w="21600" h="21931">
                  <a:moveTo>
                    <a:pt x="158" y="0"/>
                  </a:moveTo>
                  <a:arcTo wR="158" hR="158" stAng="16200000" swAng="-5400000"/>
                  <a:lnTo>
                    <a:pt x="0" y="21773"/>
                  </a:lnTo>
                  <a:arcTo wR="158" hR="158" stAng="10800000" swAng="-5400000"/>
                  <a:lnTo>
                    <a:pt x="21442" y="21931"/>
                  </a:lnTo>
                  <a:arcTo wR="158" hR="158" stAng="5400000" swAng="-5400000"/>
                  <a:lnTo>
                    <a:pt x="21600" y="158"/>
                  </a:lnTo>
                  <a:arcTo wR="158" hR="158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23640" y="4579200"/>
              <a:ext cx="21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5440" y="4651920"/>
              <a:ext cx="210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24000" y="4221000"/>
            <a:ext cx="1360800" cy="912960"/>
            <a:chOff x="3024000" y="4221000"/>
            <a:chExt cx="1360800" cy="912960"/>
          </a:xfrm>
        </p:grpSpPr>
        <p:grpSp>
          <p:nvGrpSpPr>
            <p:cNvPr id="135" name=""/>
            <p:cNvGrpSpPr/>
            <p:nvPr/>
          </p:nvGrpSpPr>
          <p:grpSpPr>
            <a:xfrm>
              <a:off x="3166920" y="4221000"/>
              <a:ext cx="1217880" cy="912960"/>
              <a:chOff x="3166920" y="4221000"/>
              <a:chExt cx="1217880" cy="912960"/>
            </a:xfrm>
          </p:grpSpPr>
          <p:sp>
            <p:nvSpPr>
              <p:cNvPr id="136" name=""/>
              <p:cNvSpPr/>
              <p:nvPr/>
            </p:nvSpPr>
            <p:spPr>
              <a:xfrm>
                <a:off x="3166920" y="4221000"/>
                <a:ext cx="1217880" cy="912960"/>
              </a:xfrm>
              <a:prstGeom prst="roundRect">
                <a:avLst>
                  <a:gd name="adj" fmla="val 171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66920" y="4221000"/>
                <a:ext cx="12178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mod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024000" y="4508640"/>
              <a:ext cx="214200" cy="214200"/>
              <a:chOff x="3024000" y="4508640"/>
              <a:chExt cx="214200" cy="214200"/>
            </a:xfrm>
          </p:grpSpPr>
          <p:sp>
            <p:nvSpPr>
              <p:cNvPr id="139" name=""/>
              <p:cNvSpPr/>
              <p:nvPr/>
            </p:nvSpPr>
            <p:spPr>
              <a:xfrm>
                <a:off x="3025800" y="4508640"/>
                <a:ext cx="210600" cy="214200"/>
              </a:xfrm>
              <a:custGeom>
                <a:avLst/>
                <a:gdLst>
                  <a:gd name="textAreaLeft" fmla="*/ 360 w 210600"/>
                  <a:gd name="textAreaRight" fmla="*/ 210240 w 210600"/>
                  <a:gd name="textAreaTop" fmla="*/ 360 h 214200"/>
                  <a:gd name="textAreaBottom" fmla="*/ 213840 h 214200"/>
                </a:gdLst>
                <a:ahLst/>
                <a:rect l="textAreaLeft" t="textAreaTop" r="textAreaRight" b="textAreaBottom"/>
                <a:pathLst>
                  <a:path w="21600" h="21969">
                    <a:moveTo>
                      <a:pt x="158" y="0"/>
                    </a:moveTo>
                    <a:arcTo wR="158" hR="158" stAng="16200000" swAng="-5400000"/>
                    <a:lnTo>
                      <a:pt x="0" y="21811"/>
                    </a:lnTo>
                    <a:arcTo wR="158" hR="158" stAng="10800000" swAng="-5400000"/>
                    <a:lnTo>
                      <a:pt x="21442" y="21969"/>
                    </a:lnTo>
                    <a:arcTo wR="158" hR="158" stAng="5400000" swAng="-5400000"/>
                    <a:lnTo>
                      <a:pt x="21600" y="158"/>
                    </a:lnTo>
                    <a:arcTo wR="158" hR="15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024000" y="4579200"/>
                <a:ext cx="214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25800" y="4651920"/>
                <a:ext cx="210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800360" y="3932280"/>
            <a:ext cx="874080" cy="1436760"/>
            <a:chOff x="1800360" y="3932280"/>
            <a:chExt cx="874080" cy="1436760"/>
          </a:xfrm>
        </p:grpSpPr>
        <p:sp>
          <p:nvSpPr>
            <p:cNvPr id="143" name=""/>
            <p:cNvSpPr/>
            <p:nvPr/>
          </p:nvSpPr>
          <p:spPr>
            <a:xfrm>
              <a:off x="1933200" y="3932280"/>
              <a:ext cx="741240" cy="1436760"/>
            </a:xfrm>
            <a:custGeom>
              <a:avLst/>
              <a:gdLst/>
              <a:ahLst/>
              <a:rect l="l" t="t" r="r" b="b"/>
              <a:pathLst>
                <a:path w="2064" h="3996">
                  <a:moveTo>
                    <a:pt x="0" y="979"/>
                  </a:moveTo>
                  <a:lnTo>
                    <a:pt x="1031" y="0"/>
                  </a:lnTo>
                  <a:lnTo>
                    <a:pt x="2063" y="952"/>
                  </a:lnTo>
                  <a:lnTo>
                    <a:pt x="2036" y="3095"/>
                  </a:lnTo>
                  <a:lnTo>
                    <a:pt x="1083" y="3995"/>
                  </a:lnTo>
                  <a:lnTo>
                    <a:pt x="26" y="3015"/>
                  </a:lnTo>
                  <a:lnTo>
                    <a:pt x="0" y="979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00360" y="4518720"/>
              <a:ext cx="213480" cy="214200"/>
              <a:chOff x="1800360" y="4518720"/>
              <a:chExt cx="213480" cy="214200"/>
            </a:xfrm>
          </p:grpSpPr>
          <p:sp>
            <p:nvSpPr>
              <p:cNvPr id="145" name=""/>
              <p:cNvSpPr/>
              <p:nvPr/>
            </p:nvSpPr>
            <p:spPr>
              <a:xfrm>
                <a:off x="1800360" y="4518720"/>
                <a:ext cx="213480" cy="214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00360" y="4577040"/>
                <a:ext cx="141480" cy="86040"/>
              </a:xfrm>
              <a:custGeom>
                <a:avLst/>
                <a:gdLst/>
                <a:ahLst/>
                <a:rect l="l" t="t" r="r" b="b"/>
                <a:pathLst>
                  <a:path w="399" h="241">
                    <a:moveTo>
                      <a:pt x="0" y="209"/>
                    </a:moveTo>
                    <a:cubicBezTo>
                      <a:pt x="140" y="224"/>
                      <a:pt x="282" y="240"/>
                      <a:pt x="340" y="209"/>
                    </a:cubicBezTo>
                    <a:cubicBezTo>
                      <a:pt x="398" y="178"/>
                      <a:pt x="398" y="62"/>
                      <a:pt x="340" y="31"/>
                    </a:cubicBezTo>
                    <a:cubicBezTo>
                      <a:pt x="282" y="0"/>
                      <a:pt x="140" y="16"/>
                      <a:pt x="0" y="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440000" y="4616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4000" y="4616280"/>
            <a:ext cx="3603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24360" y="1484280"/>
            <a:ext cx="39085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ne design, modules are connected via a FIFO, in a second design with a complex bus. If the interfaces, in this ca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&gt;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&gt; remain the same, no change to modA and modB is required if we replace th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Key for re-use of intellectual property (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3480" y="1268280"/>
            <a:ext cx="145728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91960" y="3355920"/>
            <a:ext cx="252108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c_fifo_out_if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52520" y="3355920"/>
            <a:ext cx="231840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c_fifo_in_if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&l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55640" y="2490480"/>
            <a:ext cx="179640" cy="79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5640" y="3716280"/>
            <a:ext cx="17964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70200" y="3716280"/>
            <a:ext cx="396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698920" y="2490480"/>
            <a:ext cx="110880" cy="79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24760" y="5372280"/>
            <a:ext cx="1586520" cy="378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x_bus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917640" cy="61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95640" y="5445000"/>
            <a:ext cx="790560" cy="10162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2556000" y="2276640"/>
            <a:ext cx="214200" cy="214200"/>
            <a:chOff x="2556000" y="2276640"/>
            <a:chExt cx="214200" cy="214200"/>
          </a:xfrm>
        </p:grpSpPr>
        <p:sp>
          <p:nvSpPr>
            <p:cNvPr id="161" name=""/>
            <p:cNvSpPr/>
            <p:nvPr/>
          </p:nvSpPr>
          <p:spPr>
            <a:xfrm>
              <a:off x="2556000" y="2276640"/>
              <a:ext cx="21420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8360" y="2334600"/>
              <a:ext cx="141480" cy="86400"/>
            </a:xfrm>
            <a:custGeom>
              <a:avLst/>
              <a:gdLst/>
              <a:ahLst/>
              <a:rect l="l" t="t" r="r" b="b"/>
              <a:pathLst>
                <a:path w="398" h="241">
                  <a:moveTo>
                    <a:pt x="397" y="209"/>
                  </a:moveTo>
                  <a:cubicBezTo>
                    <a:pt x="257" y="224"/>
                    <a:pt x="115" y="240"/>
                    <a:pt x="58" y="209"/>
                  </a:cubicBezTo>
                  <a:cubicBezTo>
                    <a:pt x="1" y="178"/>
                    <a:pt x="0" y="62"/>
                    <a:pt x="58" y="31"/>
                  </a:cubicBezTo>
                  <a:cubicBezTo>
                    <a:pt x="116" y="0"/>
                    <a:pt x="257" y="16"/>
                    <a:pt x="397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556000" y="4508640"/>
            <a:ext cx="214200" cy="214200"/>
            <a:chOff x="2556000" y="4508640"/>
            <a:chExt cx="214200" cy="214200"/>
          </a:xfrm>
        </p:grpSpPr>
        <p:sp>
          <p:nvSpPr>
            <p:cNvPr id="164" name=""/>
            <p:cNvSpPr/>
            <p:nvPr/>
          </p:nvSpPr>
          <p:spPr>
            <a:xfrm>
              <a:off x="2556000" y="4508640"/>
              <a:ext cx="21420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8360" y="4566600"/>
              <a:ext cx="141480" cy="86400"/>
            </a:xfrm>
            <a:custGeom>
              <a:avLst/>
              <a:gdLst/>
              <a:ahLst/>
              <a:rect l="l" t="t" r="r" b="b"/>
              <a:pathLst>
                <a:path w="398" h="241">
                  <a:moveTo>
                    <a:pt x="397" y="209"/>
                  </a:moveTo>
                  <a:cubicBezTo>
                    <a:pt x="257" y="224"/>
                    <a:pt x="115" y="240"/>
                    <a:pt x="58" y="209"/>
                  </a:cubicBezTo>
                  <a:cubicBezTo>
                    <a:pt x="1" y="178"/>
                    <a:pt x="0" y="62"/>
                    <a:pt x="58" y="31"/>
                  </a:cubicBezTo>
                  <a:cubicBezTo>
                    <a:pt x="116" y="0"/>
                    <a:pt x="257" y="16"/>
                    <a:pt x="397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mple SystemC Port Decla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C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class templated with and inheriting from a SystemC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s allow access of channels across module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0920" y="2781360"/>
            <a:ext cx="8713800" cy="831960"/>
            <a:chOff x="250920" y="2781360"/>
            <a:chExt cx="8713800" cy="831960"/>
          </a:xfrm>
        </p:grpSpPr>
        <p:sp>
          <p:nvSpPr>
            <p:cNvPr id="169" name=""/>
            <p:cNvSpPr/>
            <p:nvPr/>
          </p:nvSpPr>
          <p:spPr>
            <a:xfrm>
              <a:off x="250920" y="2781360"/>
              <a:ext cx="8713800" cy="831960"/>
            </a:xfrm>
            <a:prstGeom prst="roundRect">
              <a:avLst>
                <a:gd name="adj" fmla="val 190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920" y="2781360"/>
              <a:ext cx="871380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Synta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erfac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ortnam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; //used @module class defin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0920" y="3933720"/>
            <a:ext cx="7064280" cy="1927440"/>
            <a:chOff x="250920" y="3933720"/>
            <a:chExt cx="7064280" cy="1927440"/>
          </a:xfrm>
        </p:grpSpPr>
        <p:sp>
          <p:nvSpPr>
            <p:cNvPr id="172" name=""/>
            <p:cNvSpPr/>
            <p:nvPr/>
          </p:nvSpPr>
          <p:spPr>
            <a:xfrm>
              <a:off x="250920" y="3933720"/>
              <a:ext cx="7064280" cy="1927440"/>
            </a:xfrm>
            <a:prstGeom prst="roundRect">
              <a:avLst>
                <a:gd name="adj" fmla="val 79"/>
              </a:avLst>
            </a:prstGeom>
            <a:solidFill>
              <a:srgbClr val="e2e2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0920" y="3933720"/>
              <a:ext cx="7064280" cy="18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Arial"/>
                  <a:ea typeface="Arial Unicode MS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MODU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stereo_amp)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fifo_in_if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oundin_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por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c_fifo_out_if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l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&gt; 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oundout_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…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}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427640" y="566244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635280" y="5877000"/>
            <a:ext cx="1871640" cy="344520"/>
            <a:chOff x="3635280" y="5877000"/>
            <a:chExt cx="1871640" cy="344520"/>
          </a:xfrm>
        </p:grpSpPr>
        <p:sp>
          <p:nvSpPr>
            <p:cNvPr id="176" name=""/>
            <p:cNvSpPr/>
            <p:nvPr/>
          </p:nvSpPr>
          <p:spPr>
            <a:xfrm>
              <a:off x="3635280" y="5877000"/>
              <a:ext cx="1871640" cy="344520"/>
            </a:xfrm>
            <a:prstGeom prst="roundRect">
              <a:avLst>
                <a:gd name="adj" fmla="val 45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5280" y="5877000"/>
              <a:ext cx="1871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o no omit blank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740720" y="4365720"/>
            <a:ext cx="10206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78880" cy="47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s hav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direction) and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, out, i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C++ type, SystemC type, user-define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731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_i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_port_nam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//input port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731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_ou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ut_port_nam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      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output port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731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_inou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out_port_nam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bidirectional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1731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_ou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 result [32];                  //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tor port/port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9321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re to put the por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00040"/>
            <a:ext cx="8366040" cy="44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MODUL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adde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in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t&gt;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in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t&gt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out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t&gt;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process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CTOR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adde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body of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/ process declaration, sensitiviti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.initialize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5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723680"/>
            <a:ext cx="8686800" cy="33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can derive specialized ports from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la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al ports are provided by System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emplat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in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ublic sc_port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signal_in_if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T&gt; &gt; 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emplat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class 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inout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ublic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port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c_signal_inout_if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T&gt; &gt;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ports from within a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6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loads the -&gt; operator to allow access to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828800"/>
            <a:ext cx="5545080" cy="411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_Mixer::Mixer_threa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: K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0f)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:  K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0f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:   K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5f)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ror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445000"/>
            <a:ext cx="7556760" cy="825480"/>
          </a:xfrm>
          <a:prstGeom prst="rect">
            <a:avLst/>
          </a:prstGeom>
          <a:solidFill>
            <a:srgbClr val="e2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terface method can be invoked through the 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are interface method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8:40:43Z</dcterms:created>
  <dc:creator>stankovi</dc:creator>
  <dc:description/>
  <dc:language>en-US</dc:language>
  <cp:lastModifiedBy>Peter Marwedel</cp:lastModifiedBy>
  <dcterms:modified xsi:type="dcterms:W3CDTF">2008-04-23T19:04:16Z</dcterms:modified>
  <cp:revision>429</cp:revision>
  <dc:subject/>
  <dc:title>Slide 1</dc:title>
</cp:coreProperties>
</file>