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7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0.png" ContentType="image/png"/>
  <Override PartName="/ppt/media/image18.wmf" ContentType="image/x-wmf"/>
  <Override PartName="/ppt/media/image21.wmf" ContentType="image/x-wmf"/>
  <Override PartName="/ppt/media/image19.wmf" ContentType="image/x-wmf"/>
  <Override PartName="/ppt/media/image29.wmf" ContentType="image/x-wmf"/>
  <Override PartName="/ppt/media/image31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12.wmf" ContentType="image/x-wmf"/>
  <Override PartName="/ppt/media/image9.wmf" ContentType="image/x-wmf"/>
  <Override PartName="/ppt/media/image34.wmf" ContentType="image/x-wmf"/>
  <Override PartName="/ppt/media/image30.wmf" ContentType="image/x-wmf"/>
  <Override PartName="/ppt/media/image33.jpeg" ContentType="image/jpeg"/>
  <Override PartName="/ppt/media/image28.wmf" ContentType="image/x-wmf"/>
  <Override PartName="/ppt/media/image7.wmf" ContentType="image/x-wmf"/>
  <Override PartName="/ppt/media/image37.wmf" ContentType="image/x-wmf"/>
  <Override PartName="/ppt/media/image13.wmf" ContentType="image/x-wmf"/>
  <Override PartName="/ppt/media/image10.wmf" ContentType="image/x-wmf"/>
  <Override PartName="/ppt/media/image22.gif" ContentType="image/gif"/>
  <Override PartName="/ppt/media/image4.jpeg" ContentType="image/jpeg"/>
  <Override PartName="/ppt/media/image8.wmf" ContentType="image/x-wmf"/>
  <Override PartName="/ppt/media/image2.png" ContentType="image/png"/>
  <Override PartName="/ppt/media/image32.png" ContentType="image/png"/>
  <Override PartName="/ppt/media/image1.jpeg" ContentType="image/jpeg"/>
  <Override PartName="/ppt/media/image15.wmf" ContentType="image/x-wmf"/>
  <Override PartName="/ppt/media/image5.wmf" ContentType="image/x-wmf"/>
  <Override PartName="/ppt/media/image35.wmf" ContentType="image/x-wmf"/>
  <Override PartName="/ppt/media/image3.wmf" ContentType="image/x-wmf"/>
  <Override PartName="/ppt/media/image26.wmf" ContentType="image/x-wmf"/>
  <Override PartName="/ppt/media/image14.wmf" ContentType="image/x-wmf"/>
  <Override PartName="/ppt/media/image16.wmf" ContentType="image/x-wmf"/>
  <Override PartName="/ppt/media/image1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70920"/>
            <a:ext cx="9144000" cy="10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366040" cy="12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6840" y="2681640"/>
            <a:ext cx="8366040" cy="12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0" y="70920"/>
            <a:ext cx="9144000" cy="10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4082400" cy="12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743720" y="1295280"/>
            <a:ext cx="4082400" cy="12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6840" y="2681640"/>
            <a:ext cx="4082400" cy="12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743720" y="2681640"/>
            <a:ext cx="4082400" cy="12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70920"/>
            <a:ext cx="9144000" cy="10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2693520" cy="12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85360" y="1295280"/>
            <a:ext cx="2693520" cy="12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113880" y="1295280"/>
            <a:ext cx="2693520" cy="12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6840" y="2681640"/>
            <a:ext cx="2693520" cy="12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85360" y="2681640"/>
            <a:ext cx="2693520" cy="12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113880" y="2681640"/>
            <a:ext cx="2693520" cy="12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70920"/>
            <a:ext cx="9144000" cy="10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6840" y="1295280"/>
            <a:ext cx="8366040" cy="26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70920"/>
            <a:ext cx="9144000" cy="10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366040" cy="26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70920"/>
            <a:ext cx="9144000" cy="10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4082400" cy="26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3720" y="1295280"/>
            <a:ext cx="4082400" cy="26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70920"/>
            <a:ext cx="9144000" cy="10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0" y="70920"/>
            <a:ext cx="9144000" cy="47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70920"/>
            <a:ext cx="9144000" cy="10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4082400" cy="12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3720" y="1295280"/>
            <a:ext cx="4082400" cy="26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6840" y="2681640"/>
            <a:ext cx="4082400" cy="12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70920"/>
            <a:ext cx="9144000" cy="10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6840" y="1295280"/>
            <a:ext cx="8366040" cy="26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70920"/>
            <a:ext cx="9144000" cy="10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4082400" cy="26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3720" y="1295280"/>
            <a:ext cx="4082400" cy="12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3720" y="2681640"/>
            <a:ext cx="4082400" cy="12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70920"/>
            <a:ext cx="9144000" cy="10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4082400" cy="12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3720" y="1295280"/>
            <a:ext cx="4082400" cy="12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2681640"/>
            <a:ext cx="8366040" cy="12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70920"/>
            <a:ext cx="9144000" cy="10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366040" cy="12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6840" y="2681640"/>
            <a:ext cx="8366040" cy="12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70920"/>
            <a:ext cx="9144000" cy="10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4082400" cy="12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3720" y="1295280"/>
            <a:ext cx="4082400" cy="12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6840" y="2681640"/>
            <a:ext cx="4082400" cy="12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3720" y="2681640"/>
            <a:ext cx="4082400" cy="12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70920"/>
            <a:ext cx="9144000" cy="10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2693520" cy="12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5360" y="1295280"/>
            <a:ext cx="2693520" cy="12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113880" y="1295280"/>
            <a:ext cx="2693520" cy="12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6840" y="2681640"/>
            <a:ext cx="2693520" cy="12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5360" y="2681640"/>
            <a:ext cx="2693520" cy="12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113880" y="2681640"/>
            <a:ext cx="2693520" cy="12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70920"/>
            <a:ext cx="9144000" cy="10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366040" cy="26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70920"/>
            <a:ext cx="9144000" cy="10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4082400" cy="26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43720" y="1295280"/>
            <a:ext cx="4082400" cy="26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0" y="70920"/>
            <a:ext cx="9144000" cy="10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0" y="70920"/>
            <a:ext cx="9144000" cy="47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70920"/>
            <a:ext cx="9144000" cy="10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4082400" cy="12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43720" y="1295280"/>
            <a:ext cx="4082400" cy="26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2681640"/>
            <a:ext cx="4082400" cy="12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70920"/>
            <a:ext cx="9144000" cy="10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4082400" cy="26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43720" y="1295280"/>
            <a:ext cx="4082400" cy="12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743720" y="2681640"/>
            <a:ext cx="4082400" cy="12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0" y="70920"/>
            <a:ext cx="9144000" cy="10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4082400" cy="12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43720" y="1295280"/>
            <a:ext cx="4082400" cy="12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2681640"/>
            <a:ext cx="8366040" cy="12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70920"/>
            <a:ext cx="9144000" cy="10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295280"/>
            <a:ext cx="8366040" cy="26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265320">
              <a:buClr>
                <a:srgbClr val="ff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92080" indent="-268200">
              <a:buClr>
                <a:srgbClr val="ff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43160" indent="-270000">
              <a:buClr>
                <a:srgbClr val="ff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795320" indent="-26820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795320" indent="-26820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795320" indent="-26820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848720" y="6507000"/>
            <a:ext cx="1127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 </a:t>
            </a:r>
            <a:fld id="{2110A33F-FF09-4B7D-B52E-2BF97AA9CC6B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95280" y="6437160"/>
            <a:ext cx="2043360" cy="459000"/>
            <a:chOff x="395280" y="6437160"/>
            <a:chExt cx="2043360" cy="459000"/>
          </a:xfrm>
        </p:grpSpPr>
        <p:pic>
          <p:nvPicPr>
            <p:cNvPr id="4" name="" descr=""/>
            <p:cNvPicPr/>
            <p:nvPr/>
          </p:nvPicPr>
          <p:blipFill>
            <a:blip r:embed="rId2"/>
            <a:srcRect l="0" t="0" r="75556" b="0"/>
            <a:stretch/>
          </p:blipFill>
          <p:spPr>
            <a:xfrm>
              <a:off x="395280" y="6491160"/>
              <a:ext cx="485640" cy="31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787320" y="6437160"/>
              <a:ext cx="1651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sche universitä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rtmun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"/>
          <p:cNvSpPr/>
          <p:nvPr/>
        </p:nvSpPr>
        <p:spPr>
          <a:xfrm>
            <a:off x="250920" y="6453360"/>
            <a:ext cx="8642160" cy="0"/>
          </a:xfrm>
          <a:prstGeom prst="line">
            <a:avLst/>
          </a:prstGeom>
          <a:ln w="38160">
            <a:solidFill>
              <a:srgbClr val="84b8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250920" y="1125360"/>
            <a:ext cx="8642160" cy="0"/>
          </a:xfrm>
          <a:prstGeom prst="line">
            <a:avLst/>
          </a:prstGeom>
          <a:ln w="38160">
            <a:solidFill>
              <a:srgbClr val="84b8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-6480"/>
            <a:ext cx="9144000" cy="0"/>
          </a:xfrm>
          <a:prstGeom prst="line">
            <a:avLst/>
          </a:prstGeom>
          <a:ln w="38160">
            <a:solidFill>
              <a:srgbClr val="84b8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" name=""/>
          <p:cNvGrpSpPr/>
          <p:nvPr/>
        </p:nvGrpSpPr>
        <p:grpSpPr>
          <a:xfrm>
            <a:off x="2770200" y="6437160"/>
            <a:ext cx="1819440" cy="459000"/>
            <a:chOff x="2770200" y="6437160"/>
            <a:chExt cx="1819440" cy="459000"/>
          </a:xfrm>
        </p:grpSpPr>
        <p:pic>
          <p:nvPicPr>
            <p:cNvPr id="10" name="" descr=""/>
            <p:cNvPicPr/>
            <p:nvPr/>
          </p:nvPicPr>
          <p:blipFill>
            <a:blip r:embed="rId3"/>
            <a:srcRect l="0" t="461" r="71888" b="44721"/>
            <a:stretch/>
          </p:blipFill>
          <p:spPr>
            <a:xfrm>
              <a:off x="2770200" y="6524640"/>
              <a:ext cx="405000" cy="33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" name=""/>
            <p:cNvSpPr/>
            <p:nvPr/>
          </p:nvSpPr>
          <p:spPr>
            <a:xfrm>
              <a:off x="3129120" y="6437160"/>
              <a:ext cx="14605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akultät für informati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"/>
          <p:cNvSpPr/>
          <p:nvPr/>
        </p:nvSpPr>
        <p:spPr>
          <a:xfrm>
            <a:off x="4572000" y="6437160"/>
            <a:ext cx="2735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.Marwedel, 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Informatik 12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20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911840" y="378000"/>
            <a:ext cx="38862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kkurat Light Office"/>
                <a:ea typeface="ヒラギノ角ゴ Pro W3"/>
              </a:rPr>
              <a:t>Fakultät für Informatik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kkurat Light Office"/>
                <a:ea typeface="ヒラギノ角ゴ Pro W3"/>
              </a:rPr>
              <a:t>Informatik 12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503280" y="330120"/>
            <a:ext cx="3184560" cy="590400"/>
            <a:chOff x="503280" y="330120"/>
            <a:chExt cx="3184560" cy="590400"/>
          </a:xfrm>
        </p:grpSpPr>
        <p:pic>
          <p:nvPicPr>
            <p:cNvPr id="52" name="" descr=""/>
            <p:cNvPicPr/>
            <p:nvPr/>
          </p:nvPicPr>
          <p:blipFill>
            <a:blip r:embed="rId2"/>
            <a:srcRect l="0" t="0" r="75556" b="0"/>
            <a:stretch/>
          </p:blipFill>
          <p:spPr>
            <a:xfrm>
              <a:off x="503280" y="330120"/>
              <a:ext cx="790560" cy="51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1182600" y="395280"/>
              <a:ext cx="2505240" cy="52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6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600" spc="-1" strike="noStrike">
                  <a:solidFill>
                    <a:srgbClr val="000000"/>
                  </a:solidFill>
                  <a:latin typeface="Akkurat Light Office"/>
                  <a:ea typeface="ヒラギノ角ゴ Pro W3"/>
                </a:rPr>
                <a:t>technische universität dortmu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77920" algn="ctr"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90520" algn="ctr"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298440" algn="ctr"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301680" algn="ctr"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3016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3016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gif"/><Relationship Id="rId3" Type="http://schemas.openxmlformats.org/officeDocument/2006/relationships/image" Target="../media/image23.wmf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wmf"/><Relationship Id="rId5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wmf"/><Relationship Id="rId5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wmf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Dynamic processes, testbenches,</a:t>
            </a:r>
            <a:br>
              <a:rPr sz="2800"/>
            </a:b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&amp; modelling styles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. Marwedel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formatik 12, U. Dortm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80880" y="6019920"/>
            <a:ext cx="8169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Partially using slides prepared by Tatjana Stankovic from the University of Nis (Serbia and  Montenegro), visiting the University of Dortmund under the TEMPUS progra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se slides contain Microsoft cliparts. All usage restrictions appl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80880" y="6019920"/>
            <a:ext cx="822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70920"/>
            <a:ext cx="9144000" cy="10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pical 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st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ch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1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timulus module can be implemented by reading stimulus from a file, or as an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SC_THREA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ocess, or an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SC_CTHREA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ocess.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ame is true of the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ults checking mod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designers combine the stimulus and results checking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ules into one modu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the results checking module can be left out if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designer does manual analysis of the output resul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70920"/>
            <a:ext cx="9144000" cy="10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stBench Example: Finite State Machi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68520"/>
            <a:ext cx="82296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Mealy State Machin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has one sequential element -the state vector - and two combinational elements, the output logic and the next state log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452520" y="3579840"/>
          <a:ext cx="8242200" cy="213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2520" y="3579840"/>
                    <a:ext cx="8242200" cy="21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70920"/>
            <a:ext cx="9144000" cy="10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stBench Example: Finite State Machi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2514600" cy="26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tate diagram that represents an example state machine, where a and b represent the outpu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2895480" y="1752480"/>
          <a:ext cx="6096240" cy="424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5480" y="1752480"/>
                    <a:ext cx="6096240" cy="424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70920"/>
            <a:ext cx="9144000" cy="10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stBench Example: Finite State Machi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304920" y="2813040"/>
          <a:ext cx="8534160" cy="123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813040"/>
                    <a:ext cx="8534160" cy="123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70920"/>
            <a:ext cx="9144000" cy="10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stBench Example: Finite State Machi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1066680"/>
            <a:ext cx="3200400" cy="313200"/>
          </a:xfrm>
          <a:prstGeom prst="rect">
            <a:avLst/>
          </a:prstGeom>
          <a:solidFill>
            <a:srgbClr val="e2e2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// ** main.cp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425520" y="1449360"/>
          <a:ext cx="3841560" cy="4950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5520" y="1449360"/>
                    <a:ext cx="3841560" cy="495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0" name=""/>
          <p:cNvGraphicFramePr/>
          <p:nvPr/>
        </p:nvGraphicFramePr>
        <p:xfrm>
          <a:off x="4802040" y="1392120"/>
          <a:ext cx="3884760" cy="5008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02040" y="1392120"/>
                    <a:ext cx="3884760" cy="500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2" name=""/>
          <p:cNvSpPr/>
          <p:nvPr/>
        </p:nvSpPr>
        <p:spPr>
          <a:xfrm>
            <a:off x="838080" y="5181480"/>
            <a:ext cx="2362320" cy="609840"/>
          </a:xfrm>
          <a:prstGeom prst="ellipse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029200" y="2209680"/>
            <a:ext cx="2362320" cy="609840"/>
          </a:xfrm>
          <a:prstGeom prst="ellipse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012080" y="4952880"/>
            <a:ext cx="147600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/ run fore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40440" y="6248520"/>
            <a:ext cx="1456200" cy="337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stemC 1.1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2819520" y="5943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70920"/>
            <a:ext cx="9144000" cy="10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stBench Example: Finite State Machi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33520" y="1219320"/>
            <a:ext cx="1981080" cy="386280"/>
          </a:xfrm>
          <a:prstGeom prst="rect">
            <a:avLst/>
          </a:prstGeom>
          <a:solidFill>
            <a:srgbClr val="e2e2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Arial"/>
              </a:rPr>
              <a:t>// ** fsm.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3541680" y="992160"/>
          <a:ext cx="4078440" cy="540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41680" y="992160"/>
                    <a:ext cx="4078440" cy="540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" name=""/>
          <p:cNvSpPr/>
          <p:nvPr/>
        </p:nvSpPr>
        <p:spPr>
          <a:xfrm>
            <a:off x="1676520" y="4876920"/>
            <a:ext cx="220968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d style System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733920" y="51055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70920"/>
            <a:ext cx="9144000" cy="10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stBench Example: Finite State Machi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304920" y="1219320"/>
          <a:ext cx="4019400" cy="5168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219320"/>
                    <a:ext cx="4019400" cy="516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6" name=""/>
          <p:cNvSpPr/>
          <p:nvPr/>
        </p:nvSpPr>
        <p:spPr>
          <a:xfrm>
            <a:off x="4572000" y="1219320"/>
            <a:ext cx="3200400" cy="386280"/>
          </a:xfrm>
          <a:prstGeom prst="rect">
            <a:avLst/>
          </a:prstGeom>
          <a:solidFill>
            <a:srgbClr val="e2e2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Arial"/>
              </a:rPr>
              <a:t>// ** fsm.c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4800600" y="1600200"/>
          <a:ext cx="3630600" cy="4800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00600" y="1600200"/>
                    <a:ext cx="3630600" cy="48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0" y="70920"/>
            <a:ext cx="9144000" cy="10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stBench Example: Finite State Machi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09480" y="1371600"/>
            <a:ext cx="2057400" cy="459720"/>
          </a:xfrm>
          <a:prstGeom prst="rect">
            <a:avLst/>
          </a:prstGeom>
          <a:solidFill>
            <a:srgbClr val="e2e2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Arial"/>
              </a:rPr>
              <a:t>stimulus.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3581280" y="1295280"/>
          <a:ext cx="3540240" cy="508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81280" y="1295280"/>
                    <a:ext cx="3540240" cy="508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3" name=""/>
          <p:cNvSpPr/>
          <p:nvPr/>
        </p:nvSpPr>
        <p:spPr>
          <a:xfrm>
            <a:off x="6172200" y="4495680"/>
            <a:ext cx="220968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d style System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5638680" y="4724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0" y="70920"/>
            <a:ext cx="9144000" cy="10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stBench Example: Finite State Machi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343400" y="1295280"/>
            <a:ext cx="2666880" cy="459720"/>
          </a:xfrm>
          <a:prstGeom prst="rect">
            <a:avLst/>
          </a:prstGeom>
          <a:solidFill>
            <a:srgbClr val="e2e2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Arial"/>
              </a:rPr>
              <a:t>stimulus.c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457200" y="1219320"/>
          <a:ext cx="3624120" cy="521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219320"/>
                    <a:ext cx="3624120" cy="521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9" name=""/>
          <p:cNvGraphicFramePr/>
          <p:nvPr/>
        </p:nvGraphicFramePr>
        <p:xfrm>
          <a:off x="4572000" y="1981080"/>
          <a:ext cx="4111560" cy="4292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981080"/>
                    <a:ext cx="4111560" cy="429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70920"/>
            <a:ext cx="9144000" cy="10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stBench Example: Finite State Machi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990720" y="1300320"/>
            <a:ext cx="2057400" cy="459720"/>
          </a:xfrm>
          <a:prstGeom prst="rect">
            <a:avLst/>
          </a:prstGeom>
          <a:solidFill>
            <a:srgbClr val="e2e2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Arial"/>
              </a:rPr>
              <a:t>display.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3809880" y="1219320"/>
          <a:ext cx="3219480" cy="5333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9880" y="1219320"/>
                    <a:ext cx="3219480" cy="533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5" name=""/>
          <p:cNvSpPr/>
          <p:nvPr/>
        </p:nvSpPr>
        <p:spPr>
          <a:xfrm>
            <a:off x="6553080" y="4343400"/>
            <a:ext cx="221004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d style System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6095520" y="45720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71280"/>
            <a:ext cx="914400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ynamic processes (SystemC 2.1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36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nctions and methods can be used as dynamic 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57200" y="2286000"/>
            <a:ext cx="8366040" cy="825480"/>
          </a:xfrm>
          <a:prstGeom prst="rect">
            <a:avLst/>
          </a:prstGeom>
          <a:solidFill>
            <a:srgbClr val="e2e2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requisite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fine SC_INCLUDE_DYNAMIC_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3733920"/>
            <a:ext cx="8366040" cy="1922760"/>
          </a:xfrm>
          <a:prstGeom prst="rect">
            <a:avLst/>
          </a:prstGeom>
          <a:solidFill>
            <a:srgbClr val="e2e2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nctions that can be used as process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oi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ject(); //ordinary fct w/o args or return valu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unt_changes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_sign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&amp; sig)//ordinary fct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estChan::Track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_sign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packet&gt;&amp; pkt); //metho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estChan::Errors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axwarn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axerr); //meth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0" y="70920"/>
            <a:ext cx="9144000" cy="10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stBench Example: Finite State Machi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2209680" y="1295280"/>
          <a:ext cx="6811920" cy="510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1295280"/>
                    <a:ext cx="6811920" cy="510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0" name=""/>
          <p:cNvSpPr/>
          <p:nvPr/>
        </p:nvSpPr>
        <p:spPr>
          <a:xfrm>
            <a:off x="76320" y="1219320"/>
            <a:ext cx="2057400" cy="459720"/>
          </a:xfrm>
          <a:prstGeom prst="rect">
            <a:avLst/>
          </a:prstGeom>
          <a:solidFill>
            <a:srgbClr val="e2e2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Arial"/>
              </a:rPr>
              <a:t>display.c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ssible SystemC Design Flow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5891040" y="1066680"/>
            <a:ext cx="302436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ssible SystemC Design Flow (2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2590920" cy="33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gle specification should be partitioned into HW- &amp; SW-parts. HW &amp; SW-submodels should be genera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3316320" y="1219320"/>
            <a:ext cx="51418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0" y="70920"/>
            <a:ext cx="9144000" cy="10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ransaction level model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80520" y="1218960"/>
            <a:ext cx="7162920" cy="494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ls in other HW-description languages typically comprise clocking, and simulation is said to b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ycle-tru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referring to clock cycles of circuits described at th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register-transfer leve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RT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gas station example does not use any clocks, it is based on the communication of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v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ch models are called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ransaction-leve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els (TLM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LM models typically simulate significantly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fast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an RTL models, due to the abstraction us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equently, industry is moving towards TLM for complex circu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7724880" y="4800600"/>
            <a:ext cx="1280880" cy="146844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7924680" y="1676520"/>
            <a:ext cx="671760" cy="83808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3"/>
          <a:stretch/>
        </p:blipFill>
        <p:spPr>
          <a:xfrm>
            <a:off x="7848720" y="3276720"/>
            <a:ext cx="1055520" cy="111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unctional Modeling &amp;TL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6840" y="1498680"/>
            <a:ext cx="836604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Untimed functional model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used to describe &amp; analyze DSP functionality such as filters, decoders, or demodulato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ffective model of computation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ataflow model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200400"/>
            <a:ext cx="8366400" cy="29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Timed functional mode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265320">
              <a:spcBef>
                <a:spcPts val="75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d if either modeling temporal relationships needed  to analyze the system behavi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265320">
              <a:spcBef>
                <a:spcPts val="75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if the functional model used as placeholder for its to-be-designed implem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ing time into untimed functional models can be done by adding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wait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sc_time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tat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0" y="70920"/>
            <a:ext cx="9144000" cy="10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ntimed Functional Mod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711080"/>
            <a:ext cx="8366040" cy="251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gn is specified in terms of its functional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nctional components specify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ossib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tructural boundaries of fin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functional components might be merged while other might become discrete cor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0" y="70920"/>
            <a:ext cx="9144000" cy="10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ntimed Functional Mod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366040" cy="491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flow MoC is the most common form of spec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ly Kahn process networks, Multi-rate data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between components is through directed point-to-point FIF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O are boun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ocking read, blocking wr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e delays might exist in the model at the bound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es in which the model interacts with the 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e delays denote constraints for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0" y="70920"/>
            <a:ext cx="9144000" cy="10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Functional Modeling - Examp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2438280" y="3124080"/>
          <a:ext cx="4152960" cy="32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3124080"/>
                    <a:ext cx="4152960" cy="32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1" name=""/>
          <p:cNvGraphicFramePr/>
          <p:nvPr/>
        </p:nvGraphicFramePr>
        <p:xfrm>
          <a:off x="723960" y="1219320"/>
          <a:ext cx="7734240" cy="1833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23960" y="1219320"/>
                    <a:ext cx="7734240" cy="183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0" y="70920"/>
            <a:ext cx="9144000" cy="10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Functional Modeling - Examp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304920" y="1739880"/>
          <a:ext cx="4343400" cy="337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739880"/>
                    <a:ext cx="4343400" cy="337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6" name=""/>
          <p:cNvGraphicFramePr/>
          <p:nvPr/>
        </p:nvGraphicFramePr>
        <p:xfrm>
          <a:off x="4724280" y="1530360"/>
          <a:ext cx="4152960" cy="3797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30360"/>
                    <a:ext cx="4152960" cy="379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0" y="70920"/>
            <a:ext cx="9144000" cy="10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imed Functional Model - Examp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1728720" y="1068480"/>
          <a:ext cx="5662800" cy="266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28720" y="1068480"/>
                    <a:ext cx="5662800" cy="266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1" name=""/>
          <p:cNvGraphicFramePr/>
          <p:nvPr/>
        </p:nvGraphicFramePr>
        <p:xfrm>
          <a:off x="1752480" y="3809880"/>
          <a:ext cx="5639040" cy="2654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52480" y="3809880"/>
                    <a:ext cx="5639040" cy="265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3" name=""/>
          <p:cNvSpPr/>
          <p:nvPr/>
        </p:nvSpPr>
        <p:spPr>
          <a:xfrm>
            <a:off x="5943600" y="5181480"/>
            <a:ext cx="1143000" cy="381240"/>
          </a:xfrm>
          <a:prstGeom prst="ellipse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362320" y="2209680"/>
            <a:ext cx="1143000" cy="381240"/>
          </a:xfrm>
          <a:prstGeom prst="ellipse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371600" y="380880"/>
            <a:ext cx="1523880" cy="533520"/>
          </a:xfrm>
          <a:prstGeom prst="ellipse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71280"/>
            <a:ext cx="914400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yntax for creating dynamic process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366040" cy="4117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ration of Dynamic Processes without return v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_process_hand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hna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_spaw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* void*/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_bi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&amp;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uncNa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RG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rocessNa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pawnOption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_process_hand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hna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_spaw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*void*/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_bi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&amp;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ethNa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obj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RG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rocessNa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pawnOption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5257800" y="449532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886200" y="4952880"/>
            <a:ext cx="2438280" cy="70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ference to calling module, e.g.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5257800"/>
            <a:ext cx="2530440" cy="100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ck size, don’t_initialize, sensi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H="1" flipV="1">
            <a:off x="2590920" y="502920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562720" y="2743200"/>
            <a:ext cx="1768320" cy="70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ault: call by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 flipV="1">
            <a:off x="5486040" y="259092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gister-transfer level model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6840" y="2209680"/>
            <a:ext cx="8366040" cy="288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"Register-transfer level“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nchronous transfer between functional units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ch as multipliers and ALUs, and register files, synchronized by 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o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362160">
              <a:spcBef>
                <a:spcPts val="9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processors, functional units, register files, and the connection between them are calle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ta-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362160">
              <a:spcBef>
                <a:spcPts val="9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fers in data-path are coordinated by a controll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gister-transfer level modeling (2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8366040" cy="378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acterized by the kind of channels, ports, and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TL describes cycle-by-cycle behavi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nne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stricted to plain and resolved signals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no complex temporal behavi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or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ypes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sc_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sc_ou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sc_inout</a:t>
            </a:r>
            <a:br>
              <a:rPr sz="24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corresponding to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_sign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‘s interfaces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 resolved port typ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RTL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roce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captured by an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SC_METHO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0" y="71280"/>
            <a:ext cx="914400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eneral structure of an RTL modu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155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457200" indent="-277920">
              <a:lnSpc>
                <a:spcPct val="10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RTL processe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u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77920"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ypical RT compon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77920"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sequential components are clock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77920"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is via signals (intern.) or ports (extern.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1066680" y="2819520"/>
            <a:ext cx="7010640" cy="356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eling levels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assification according to Gajski (Codes/ISSS 2003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819520" y="5029200"/>
            <a:ext cx="58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2819520" y="1371600"/>
            <a:ext cx="0" cy="3657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336800" y="5638680"/>
            <a:ext cx="180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more accu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728600" y="5791320"/>
            <a:ext cx="22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Commun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rot="10800000">
            <a:off x="533160" y="2287080"/>
            <a:ext cx="546120" cy="180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Funct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050640" y="5105520"/>
            <a:ext cx="99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tim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393680" y="5029200"/>
            <a:ext cx="105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ycle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u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032800" y="5029200"/>
            <a:ext cx="159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roximate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831320" y="4267080"/>
            <a:ext cx="99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tim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146600" y="3048120"/>
            <a:ext cx="159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roximate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678680" y="1752480"/>
            <a:ext cx="105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ycle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u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912240" y="1219320"/>
            <a:ext cx="180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more accu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467480" y="1752480"/>
            <a:ext cx="1143000" cy="5335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971800" y="4191120"/>
            <a:ext cx="1143000" cy="5331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181480" y="4191120"/>
            <a:ext cx="1143000" cy="5331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L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181480" y="3048120"/>
            <a:ext cx="1143000" cy="5331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L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81480" y="1752480"/>
            <a:ext cx="1143000" cy="5335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L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7467480" y="3048120"/>
            <a:ext cx="1143000" cy="5331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L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994200" y="2006640"/>
            <a:ext cx="3451320" cy="2295360"/>
          </a:xfrm>
          <a:custGeom>
            <a:avLst/>
            <a:gdLst/>
            <a:ahLst/>
            <a:rect l="l" t="t" r="r" b="b"/>
            <a:pathLst>
              <a:path w="2174" h="1446">
                <a:moveTo>
                  <a:pt x="0" y="1446"/>
                </a:moveTo>
                <a:lnTo>
                  <a:pt x="787" y="740"/>
                </a:lnTo>
                <a:lnTo>
                  <a:pt x="1410" y="94"/>
                </a:lnTo>
                <a:lnTo>
                  <a:pt x="2174" y="0"/>
                </a:lnTo>
              </a:path>
            </a:pathLst>
          </a:custGeom>
          <a:noFill/>
          <a:ln w="9360">
            <a:solidFill>
              <a:srgbClr val="33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114800" y="2286000"/>
            <a:ext cx="3886200" cy="2209680"/>
          </a:xfrm>
          <a:custGeom>
            <a:avLst/>
            <a:gdLst/>
            <a:ahLst/>
            <a:rect l="l" t="t" r="r" b="b"/>
            <a:pathLst>
              <a:path w="2448" h="1392">
                <a:moveTo>
                  <a:pt x="0" y="1392"/>
                </a:moveTo>
                <a:lnTo>
                  <a:pt x="741" y="1275"/>
                </a:lnTo>
                <a:lnTo>
                  <a:pt x="1311" y="741"/>
                </a:lnTo>
                <a:lnTo>
                  <a:pt x="2204" y="547"/>
                </a:lnTo>
                <a:lnTo>
                  <a:pt x="2448" y="0"/>
                </a:lnTo>
              </a:path>
            </a:pathLst>
          </a:custGeom>
          <a:noFill/>
          <a:ln w="9360">
            <a:solidFill>
              <a:srgbClr val="33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rot="19075800">
            <a:off x="3428640" y="3047400"/>
            <a:ext cx="265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Possible design trajecto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52280" y="5334120"/>
            <a:ext cx="2971800" cy="1008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ually 4 different classes of transaction level modeling (TLM)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assification according to Gajski (Codes/ISSS 2003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7" name=""/>
          <p:cNvGraphicFramePr/>
          <p:nvPr/>
        </p:nvGraphicFramePr>
        <p:xfrm>
          <a:off x="380880" y="1676520"/>
          <a:ext cx="8457840" cy="4305240"/>
        </p:xfrm>
        <a:graphic>
          <a:graphicData uri="http://schemas.openxmlformats.org/drawingml/2006/table">
            <a:tbl>
              <a:tblPr/>
              <a:tblGrid>
                <a:gridCol w="2819520"/>
                <a:gridCol w="2818800"/>
                <a:gridCol w="2819520"/>
              </a:tblGrid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unic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nctional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M (system architectural model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onent assembl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s arbitr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s function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ycle accurate comput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T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8" name=""/>
          <p:cNvSpPr/>
          <p:nvPr/>
        </p:nvSpPr>
        <p:spPr>
          <a:xfrm>
            <a:off x="2971800" y="2666880"/>
            <a:ext cx="152280" cy="2971800"/>
          </a:xfrm>
          <a:prstGeom prst="downArrow">
            <a:avLst>
              <a:gd name="adj1" fmla="val 50000"/>
              <a:gd name="adj2" fmla="val 487884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0" y="70920"/>
            <a:ext cx="9144000" cy="10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dvantage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and limitations of System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305920" cy="50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26532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ables focus o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el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essential for CS) at a high lev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26532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ables development of wrappers around standard algorithms described in C (mpeg, gsm, …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26532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ables path from C to HW, replacing vendor-specific languages from Celoxica (Handel-C) or from CoW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26532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oids development of interfaces between HW &amp; SW simulators (such as VHDL/C li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26532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 simulation speed is possible with TLM mode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26532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ll power of OO programming available for HW desig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26532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libraries such as STL or Boost can be us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7772400" y="2228760"/>
            <a:ext cx="1219320" cy="9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0" y="71280"/>
            <a:ext cx="914400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"Seamless" interface to middleware and O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rcRect l="7086" t="12551" r="6790" b="7383"/>
          <a:stretch/>
        </p:blipFill>
        <p:spPr>
          <a:xfrm>
            <a:off x="1828800" y="1143000"/>
            <a:ext cx="7315200" cy="528804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152280" y="1219320"/>
            <a:ext cx="1600200" cy="3753000"/>
          </a:xfrm>
          <a:prstGeom prst="rect">
            <a:avLst/>
          </a:prstGeom>
          <a:solidFill>
            <a:srgbClr val="e2e2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: OS is included in MPARM SystemC-based multi-processor simulation framework from U. Bologna (Benini et al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666880" y="3048120"/>
            <a:ext cx="1295640" cy="1523880"/>
          </a:xfrm>
          <a:prstGeom prst="ellipse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971800" y="61308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U. Torin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0" y="70920"/>
            <a:ext cx="9144000" cy="10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dvantage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and limitations of System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366040" cy="10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st synthesis tools from SystemC start to exi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265320"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ynthesizer (http://www.forteds.com/products/cynthesizer.as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265320"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gility (http://www.celoxica.com/products/agility/default.as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990720" y="2590920"/>
            <a:ext cx="4495680" cy="38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0" y="70920"/>
            <a:ext cx="9144000" cy="10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vantages and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limitation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of System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153280" cy="43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265320">
              <a:spcBef>
                <a:spcPts val="9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ure synthesis technolog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265320">
              <a:spcBef>
                <a:spcPts val="9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mantics definition simulation-orien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265320">
              <a:spcBef>
                <a:spcPts val="9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ral restrictions due to being based on C++, e.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92080" indent="-268200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nt fin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92080" indent="-268200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ying syntax for structural descri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92080" indent="-268200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olution functions difficult to 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92080" indent="-268200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ror reporting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265320">
              <a:spcBef>
                <a:spcPts val="9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use for a hardware engine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6629400" y="4648320"/>
            <a:ext cx="849240" cy="93816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2"/>
          <a:stretch/>
        </p:blipFill>
        <p:spPr>
          <a:xfrm>
            <a:off x="7010280" y="1371600"/>
            <a:ext cx="735120" cy="87480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3"/>
          <a:stretch/>
        </p:blipFill>
        <p:spPr>
          <a:xfrm>
            <a:off x="7848720" y="1981080"/>
            <a:ext cx="1143000" cy="8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Timeline development of System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6" name=""/>
          <p:cNvGraphicFramePr/>
          <p:nvPr/>
        </p:nvGraphicFramePr>
        <p:xfrm>
          <a:off x="380880" y="1295280"/>
          <a:ext cx="8610840" cy="4952880"/>
        </p:xfrm>
        <a:graphic>
          <a:graphicData uri="http://schemas.openxmlformats.org/drawingml/2006/table">
            <a:tbl>
              <a:tblPr/>
              <a:tblGrid>
                <a:gridCol w="1940040"/>
                <a:gridCol w="1397160"/>
                <a:gridCol w="5273640"/>
              </a:tblGrid>
              <a:tr h="380880">
                <a:tc>
                  <a:txBody>
                    <a:bodyPr lIns="72000" rIns="72000" tIns="18000" bIns="18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fdfdf"/>
                    </a:solidFill>
                  </a:tcPr>
                </a:tc>
                <a:tc>
                  <a:txBody>
                    <a:bodyPr lIns="72000" rIns="72000" tIns="18000" bIns="18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fdfdf"/>
                    </a:solidFill>
                  </a:tcPr>
                </a:tc>
                <a:tc>
                  <a:txBody>
                    <a:bodyPr lIns="72000" rIns="72000" tIns="18000" bIns="18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fdfdf"/>
                    </a:solidFill>
                  </a:tcPr>
                </a:tc>
              </a:tr>
              <a:tr h="380880">
                <a:tc>
                  <a:txBody>
                    <a:bodyPr lIns="72000" rIns="72000" tIns="18000" bIns="18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pt 19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ff"/>
                    </a:solidFill>
                  </a:tcPr>
                </a:tc>
                <a:tc>
                  <a:txBody>
                    <a:bodyPr lIns="72000" rIns="72000" tIns="18000" bIns="18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ff"/>
                    </a:solidFill>
                  </a:tcPr>
                </a:tc>
                <a:tc>
                  <a:txBody>
                    <a:bodyPr lIns="72000" rIns="72000" tIns="18000" bIns="18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st version; cycle-bas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ff"/>
                    </a:solidFill>
                  </a:tcPr>
                </a:tc>
              </a:tr>
              <a:tr h="381240">
                <a:tc>
                  <a:txBody>
                    <a:bodyPr lIns="72000" rIns="72000" tIns="18000" bIns="18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b 2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ff"/>
                    </a:solidFill>
                  </a:tcPr>
                </a:tc>
                <a:tc>
                  <a:txBody>
                    <a:bodyPr lIns="72000" rIns="72000" tIns="18000" bIns="18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9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ff"/>
                    </a:solidFill>
                  </a:tcPr>
                </a:tc>
                <a:tc>
                  <a:txBody>
                    <a:bodyPr lIns="72000" rIns="72000" tIns="18000" bIns="18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g fix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ff"/>
                    </a:solidFill>
                  </a:tcPr>
                </a:tc>
              </a:tr>
              <a:tr h="380880">
                <a:tc>
                  <a:txBody>
                    <a:bodyPr lIns="72000" rIns="72000" tIns="18000" bIns="18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ch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2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ff"/>
                    </a:solidFill>
                  </a:tcPr>
                </a:tc>
                <a:tc>
                  <a:txBody>
                    <a:bodyPr lIns="72000" rIns="72000" tIns="18000" bIns="18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ff"/>
                    </a:solidFill>
                  </a:tcPr>
                </a:tc>
                <a:tc>
                  <a:txBody>
                    <a:bodyPr lIns="72000" rIns="72000" tIns="18000" bIns="18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dely accessed major relea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ff"/>
                    </a:solidFill>
                  </a:tcPr>
                </a:tc>
              </a:tr>
              <a:tr h="381240">
                <a:tc>
                  <a:txBody>
                    <a:bodyPr lIns="72000" rIns="72000" tIns="18000" bIns="18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t 2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ff"/>
                    </a:solidFill>
                  </a:tcPr>
                </a:tc>
                <a:tc>
                  <a:txBody>
                    <a:bodyPr lIns="72000" rIns="72000" tIns="18000" bIns="18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ff"/>
                    </a:solidFill>
                  </a:tcPr>
                </a:tc>
                <a:tc>
                  <a:txBody>
                    <a:bodyPr lIns="72000" rIns="72000" tIns="18000" bIns="18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g fix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ff"/>
                    </a:solidFill>
                  </a:tcPr>
                </a:tc>
              </a:tr>
              <a:tr h="380880">
                <a:tc>
                  <a:txBody>
                    <a:bodyPr lIns="72000" rIns="72000" tIns="18000" bIns="18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b 20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ff"/>
                    </a:solidFill>
                  </a:tcPr>
                </a:tc>
                <a:tc>
                  <a:txBody>
                    <a:bodyPr lIns="72000" rIns="72000" tIns="18000" bIns="18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ff"/>
                    </a:solidFill>
                  </a:tcPr>
                </a:tc>
                <a:tc>
                  <a:txBody>
                    <a:bodyPr lIns="72000" rIns="72000" tIns="18000" bIns="18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rious improvem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ff"/>
                    </a:solidFill>
                  </a:tcPr>
                </a:tc>
              </a:tr>
              <a:tr h="381240">
                <a:tc>
                  <a:txBody>
                    <a:bodyPr lIns="72000" rIns="72000" tIns="18000" bIns="18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g 20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ff"/>
                    </a:solidFill>
                  </a:tcPr>
                </a:tc>
                <a:tc>
                  <a:txBody>
                    <a:bodyPr lIns="72000" rIns="72000" tIns="18000" bIns="18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ff"/>
                    </a:solidFill>
                  </a:tcPr>
                </a:tc>
                <a:tc>
                  <a:txBody>
                    <a:bodyPr lIns="72000" rIns="72000" tIns="18000" bIns="18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d channels &amp; events; cleaner 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ff"/>
                    </a:solidFill>
                  </a:tcPr>
                </a:tc>
              </a:tr>
              <a:tr h="380880">
                <a:tc>
                  <a:txBody>
                    <a:bodyPr lIns="72000" rIns="72000" tIns="18000" bIns="18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r 2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ff"/>
                    </a:solidFill>
                  </a:tcPr>
                </a:tc>
                <a:tc>
                  <a:txBody>
                    <a:bodyPr lIns="72000" rIns="72000" tIns="18000" bIns="18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ff"/>
                    </a:solidFill>
                  </a:tcPr>
                </a:tc>
                <a:tc>
                  <a:txBody>
                    <a:bodyPr lIns="72000" rIns="72000" tIns="18000" bIns="18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g fixes; widely us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ff"/>
                    </a:solidFill>
                  </a:tcPr>
                </a:tc>
              </a:tr>
              <a:tr h="380520">
                <a:tc>
                  <a:txBody>
                    <a:bodyPr lIns="72000" rIns="72000" tIns="18000" bIns="18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ne 20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ff"/>
                    </a:solidFill>
                  </a:tcPr>
                </a:tc>
                <a:tc>
                  <a:txBody>
                    <a:bodyPr lIns="72000" rIns="72000" tIns="18000" bIns="18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ff"/>
                    </a:solidFill>
                  </a:tcPr>
                </a:tc>
                <a:tc>
                  <a:txBody>
                    <a:bodyPr lIns="72000" rIns="72000" tIns="18000" bIns="18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RM in revie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ff"/>
                    </a:solidFill>
                  </a:tcPr>
                </a:tc>
              </a:tr>
              <a:tr h="381240">
                <a:tc>
                  <a:txBody>
                    <a:bodyPr lIns="72000" rIns="72000" tIns="18000" bIns="18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ring 20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ff"/>
                    </a:solidFill>
                  </a:tcPr>
                </a:tc>
                <a:tc>
                  <a:txBody>
                    <a:bodyPr lIns="72000" rIns="72000" tIns="18000" bIns="18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ff"/>
                    </a:solidFill>
                  </a:tcPr>
                </a:tc>
                <a:tc>
                  <a:txBody>
                    <a:bodyPr lIns="72000" rIns="72000" tIns="18000" bIns="18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RM submitted for IEEE standar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ff"/>
                    </a:solidFill>
                  </a:tcPr>
                </a:tc>
              </a:tr>
              <a:tr h="380880">
                <a:tc>
                  <a:txBody>
                    <a:bodyPr lIns="72000" rIns="72000" tIns="18000" bIns="18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. 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</a:t>
                      </a: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ff"/>
                    </a:solidFill>
                  </a:tcPr>
                </a:tc>
                <a:tc>
                  <a:txBody>
                    <a:bodyPr lIns="72000" rIns="72000" tIns="18000" bIns="18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ff"/>
                    </a:solidFill>
                  </a:tcPr>
                </a:tc>
                <a:tc>
                  <a:txBody>
                    <a:bodyPr lIns="72000" rIns="72000" tIns="18000" bIns="18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ystemC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ed</a:t>
                      </a: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as IEEE Standard 1666-20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ff"/>
                    </a:solidFill>
                  </a:tcPr>
                </a:tc>
              </a:tr>
              <a:tr h="381240">
                <a:tc>
                  <a:txBody>
                    <a:bodyPr lIns="72000" rIns="72000" tIns="18000" bIns="18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ne 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</a:t>
                      </a: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ff"/>
                    </a:solidFill>
                  </a:tcPr>
                </a:tc>
                <a:tc>
                  <a:txBody>
                    <a:bodyPr lIns="72000" rIns="72000" tIns="18000" bIns="18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</a:t>
                      </a: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ff"/>
                    </a:solidFill>
                  </a:tcPr>
                </a:tc>
                <a:tc>
                  <a:txBody>
                    <a:bodyPr lIns="72000" rIns="72000" tIns="18000" bIns="18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aft &amp; proof of concep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ff"/>
                    </a:solidFill>
                  </a:tcPr>
                </a:tc>
              </a:tr>
              <a:tr h="380880">
                <a:tc>
                  <a:txBody>
                    <a:bodyPr lIns="72000" rIns="72000" tIns="18000" bIns="18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ne 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</a:t>
                      </a: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ff"/>
                    </a:solidFill>
                  </a:tcPr>
                </a:tc>
                <a:tc>
                  <a:txBody>
                    <a:bodyPr lIns="72000" rIns="72000" tIns="18000" bIns="18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ff"/>
                    </a:solidFill>
                  </a:tcPr>
                </a:tc>
                <a:tc>
                  <a:txBody>
                    <a:bodyPr lIns="72000" rIns="72000" tIns="18000" bIns="18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ynthesizable subs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70920"/>
            <a:ext cx="9144000" cy="10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bugging and signal trac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155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C has no built-in viewer for trace f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isadvantage if compared to VHD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mmended to generate VCD (value dump format) fi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veform interchange format (WIF) also suppor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2971800"/>
            <a:ext cx="8229600" cy="3385800"/>
          </a:xfrm>
          <a:prstGeom prst="rect">
            <a:avLst/>
          </a:prstGeom>
          <a:solidFill>
            <a:srgbClr val="e2e2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_tracefi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racefi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racefi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_create_vcd_trace_fi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racefile_na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!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racefi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u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lt;&lt; "There was an error" &lt;&lt;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d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_tra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racefi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ignal_na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"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ignal_na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_star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_close_vcd_trace_fi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racefi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7620120" y="457200"/>
            <a:ext cx="1295280" cy="126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0" y="70920"/>
            <a:ext cx="9144000" cy="10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SystemC contrasted</a:t>
            </a:r>
            <a:br>
              <a:rPr sz="2800"/>
            </a:b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with other design languag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8" name=""/>
          <p:cNvGraphicFramePr/>
          <p:nvPr/>
        </p:nvGraphicFramePr>
        <p:xfrm>
          <a:off x="457200" y="1676520"/>
          <a:ext cx="8204040" cy="424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76520"/>
                    <a:ext cx="8204040" cy="424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0" name=""/>
          <p:cNvSpPr/>
          <p:nvPr/>
        </p:nvSpPr>
        <p:spPr>
          <a:xfrm>
            <a:off x="2209680" y="4572000"/>
            <a:ext cx="838440" cy="3682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erilo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352680" y="4572000"/>
            <a:ext cx="838440" cy="3682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HD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495680" y="4038480"/>
            <a:ext cx="838440" cy="6426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ystemVerilo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7848720" y="2362320"/>
            <a:ext cx="761760" cy="3682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tla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562720" y="3429000"/>
            <a:ext cx="838080" cy="11192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era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ugar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e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0" y="70920"/>
            <a:ext cx="9144000" cy="10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8366040" cy="382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444600" indent="-265320">
              <a:spcBef>
                <a:spcPts val="9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ynamic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265320">
              <a:spcBef>
                <a:spcPts val="9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 ben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265320">
              <a:spcBef>
                <a:spcPts val="9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ling sty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92080" indent="-268200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action level mode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92080" indent="-268200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timed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92080" indent="-268200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ed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92080" indent="-268200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TL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265320">
              <a:spcBef>
                <a:spcPts val="9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luation and comparison of System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70920"/>
            <a:ext cx="9144000" cy="10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bugging and signal tracing (2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2666880"/>
            <a:ext cx="836604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444600" indent="-265320"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al name must be declared before calling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_tra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265320"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erarchical notation for signals in submodules is fea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265320"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ables, signals and ports can be trac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265320"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explicit filename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265320"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cing can be included in constructors of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70920"/>
            <a:ext cx="9144000" cy="10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bugging and signal tracing: Examp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3809880" cy="1923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/file wave.h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_MODU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wave) {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_sign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oo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 brake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_trace_fi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 tracefil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ub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emperature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048120" y="2819520"/>
            <a:ext cx="5943600" cy="3448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/file wave.cpp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ve::wave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_module_nam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nm);// constru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du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nm) {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cefile =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_create_vcd_fi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"wave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_tra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tracefile, brake,"brake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_tra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tracefile,temperature,"temperature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// endconstru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ve::~wave(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_close_vcd_fi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tracefil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&lt;&lt; "created wave.vcd" &lt;&lt;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70920"/>
            <a:ext cx="9144000" cy="10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ample outpu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52280" y="1219320"/>
            <a:ext cx="8686800" cy="50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71280"/>
            <a:ext cx="914400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ypical TestBench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880" y="4343400"/>
            <a:ext cx="8366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timulus module will provide stimulus to the Device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Test (DUT) and the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ults Checking module will look at the device output and verify the results are corre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066680" y="1531800"/>
            <a:ext cx="6977160" cy="250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70920"/>
            <a:ext cx="9144000" cy="10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TestBench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Benches are used to provide stimulus to a design under test and check design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estbench can be implemented in a number of way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he stimulus can b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ted by one process and results checked b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oth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bedded in the main program and results checked in another proc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he checking can b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bedded in the main program, et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no clear "right" way to do a testbench, it is dependent on the user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4T08:40:43Z</dcterms:created>
  <dc:creator>P. Marwedel</dc:creator>
  <dc:description/>
  <dc:language>en-US</dc:language>
  <cp:lastModifiedBy>Peter Marwedel</cp:lastModifiedBy>
  <dcterms:modified xsi:type="dcterms:W3CDTF">2008-04-29T20:30:26Z</dcterms:modified>
  <cp:revision>311</cp:revision>
  <dc:subject/>
  <dc:title>EDA 07</dc:title>
</cp:coreProperties>
</file>